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6.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11.xml.rels" ContentType="application/vnd.openxmlformats-package.relationships+xml"/>
  <Override PartName="/ppt/slideMasters/_rels/slideMaster26.xml.rels" ContentType="application/vnd.openxmlformats-package.relationships+xml"/>
  <Override PartName="/ppt/slideMasters/_rels/slideMaster5.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21.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2.xml.rels" ContentType="application/vnd.openxmlformats-package.relationships+xml"/>
  <Override PartName="/ppt/slideMasters/_rels/slideMaster23.xml.rels" ContentType="application/vnd.openxmlformats-package.relationships+xml"/>
  <Override PartName="/ppt/slideMasters/slideMaster29.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28.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theme/theme29.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notesSlides/_rels/notesSlide35.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27.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312.xml.rels" ContentType="application/vnd.openxmlformats-package.relationships+xml"/>
  <Override PartName="/ppt/slideLayouts/_rels/slideLayout307.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5.xml.rels" ContentType="application/vnd.openxmlformats-package.relationships+xml"/>
  <Override PartName="/ppt/slideLayouts/_rels/slideLayout14.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104.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356.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32.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357.xml.rels" ContentType="application/vnd.openxmlformats-package.relationships+xml"/>
  <Override PartName="/ppt/slideLayouts/_rels/slideLayout151.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358.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353.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98.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352.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30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02.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57.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xml.rels" ContentType="application/vnd.openxmlformats-package.relationships+xml"/>
  <Override PartName="/ppt/slideLayouts/_rels/slideLayout348.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89.xml.rels" ContentType="application/vnd.openxmlformats-package.relationships+xml"/>
  <Override PartName="/ppt/slideLayouts/_rels/slideLayout233.xml.rels" ContentType="application/vnd.openxmlformats-package.relationships+xml"/>
  <Override PartName="/ppt/slideLayouts/_rels/slideLayout335.xml.rels" ContentType="application/vnd.openxmlformats-package.relationships+xml"/>
  <Override PartName="/ppt/slideLayouts/_rels/slideLayout29.xml.rels" ContentType="application/vnd.openxmlformats-package.relationships+xml"/>
  <Override PartName="/ppt/slideLayouts/_rels/slideLayout339.xml.rels" ContentType="application/vnd.openxmlformats-package.relationships+xml"/>
  <Override PartName="/ppt/slideLayouts/_rels/slideLayout2.xml.rels" ContentType="application/vnd.openxmlformats-package.relationships+xml"/>
  <Override PartName="/ppt/slideLayouts/_rels/slideLayout347.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47.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343.xml" ContentType="application/vnd.openxmlformats-officedocument.presentationml.slideLayout+xml"/>
  <Override PartName="/ppt/slideLayouts/slideLayout354.xml" ContentType="application/vnd.openxmlformats-officedocument.presentationml.slideLayout+xml"/>
  <Override PartName="/ppt/slideLayouts/slideLayout342.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353.xml" ContentType="application/vnd.openxmlformats-officedocument.presentationml.slideLayout+xml"/>
  <Override PartName="/ppt/slideLayouts/slideLayout341.xml" ContentType="application/vnd.openxmlformats-officedocument.presentationml.slideLayout+xml"/>
  <Override PartName="/ppt/slideLayouts/slideLayout17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52.xml" ContentType="application/vnd.openxmlformats-officedocument.presentationml.slideLayout+xml"/>
  <Override PartName="/ppt/slideLayouts/slideLayout340.xml" ContentType="application/vnd.openxmlformats-officedocument.presentationml.slideLayout+xml"/>
  <Override PartName="/ppt/slideLayouts/slideLayout318.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51.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344.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132.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120.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76.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media/image29.png" ContentType="image/png"/>
  <Override PartName="/ppt/media/image23.png" ContentType="image/png"/>
  <Override PartName="/ppt/media/image22.png" ContentType="image/png"/>
  <Override PartName="/ppt/media/image27.png" ContentType="image/png"/>
  <Override PartName="/ppt/media/image4.png" ContentType="image/png"/>
  <Override PartName="/ppt/media/image28.png" ContentType="image/png"/>
  <Override PartName="/ppt/media/image8.jpeg" ContentType="image/jpeg"/>
  <Override PartName="/ppt/media/image5.png" ContentType="image/png"/>
  <Override PartName="/ppt/media/image30.png" ContentType="image/png"/>
  <Override PartName="/ppt/media/image10.png" ContentType="image/png"/>
  <Override PartName="/ppt/media/image6.jpeg" ContentType="image/jpeg"/>
  <Override PartName="/ppt/media/image13.png" ContentType="image/png"/>
  <Override PartName="/ppt/media/image7.png" ContentType="image/png"/>
  <Override PartName="/ppt/media/image12.png" ContentType="image/png"/>
  <Override PartName="/ppt/media/image9.png" ContentType="image/png"/>
  <Override PartName="/ppt/media/image11.png" ContentType="image/png"/>
  <Override PartName="/ppt/media/image3.png" ContentType="image/png"/>
  <Override PartName="/ppt/media/image26.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6.png" ContentType="image/png"/>
  <Override PartName="/ppt/media/image32.jpeg" ContentType="image/jpeg"/>
  <Override PartName="/ppt/media/image17.png" ContentType="image/png"/>
  <Override PartName="/ppt/media/image15.png" ContentType="image/png"/>
  <Override PartName="/ppt/media/image18.jpeg" ContentType="image/jpeg"/>
  <Override PartName="/ppt/media/image20.jpeg" ContentType="image/jpe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Lst>
  <p:notesMasterIdLst>
    <p:notesMasterId r:id="rId32"/>
  </p:notesMasterIdLst>
  <p:sldIdLst>
    <p:sldId id="256" r:id="rId33"/>
    <p:sldId id="257" r:id="rId34"/>
    <p:sldId id="258" r:id="rId35"/>
    <p:sldId id="259" r:id="rId36"/>
    <p:sldId id="260" r:id="rId37"/>
    <p:sldId id="261" r:id="rId38"/>
    <p:sldId id="262" r:id="rId39"/>
    <p:sldId id="263" r:id="rId40"/>
    <p:sldId id="264" r:id="rId41"/>
    <p:sldId id="265" r:id="rId42"/>
    <p:sldId id="266" r:id="rId43"/>
    <p:sldId id="267" r:id="rId44"/>
    <p:sldId id="268" r:id="rId45"/>
    <p:sldId id="269" r:id="rId46"/>
    <p:sldId id="270" r:id="rId47"/>
    <p:sldId id="271" r:id="rId48"/>
    <p:sldId id="272" r:id="rId49"/>
    <p:sldId id="273" r:id="rId50"/>
    <p:sldId id="274" r:id="rId51"/>
    <p:sldId id="275" r:id="rId52"/>
    <p:sldId id="276" r:id="rId53"/>
    <p:sldId id="277" r:id="rId54"/>
    <p:sldId id="278" r:id="rId55"/>
    <p:sldId id="279" r:id="rId56"/>
    <p:sldId id="280" r:id="rId57"/>
    <p:sldId id="281" r:id="rId58"/>
    <p:sldId id="282" r:id="rId59"/>
    <p:sldId id="283" r:id="rId60"/>
    <p:sldId id="284" r:id="rId61"/>
    <p:sldId id="285" r:id="rId62"/>
    <p:sldId id="286" r:id="rId63"/>
    <p:sldId id="287" r:id="rId64"/>
    <p:sldId id="288" r:id="rId65"/>
    <p:sldId id="289" r:id="rId66"/>
    <p:sldId id="290"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notesMaster" Target="notesMasters/notesMaster1.xml"/><Relationship Id="rId33" Type="http://schemas.openxmlformats.org/officeDocument/2006/relationships/slide" Target="slides/slide1.xml"/><Relationship Id="rId34" Type="http://schemas.openxmlformats.org/officeDocument/2006/relationships/slide" Target="slides/slide2.xml"/><Relationship Id="rId35" Type="http://schemas.openxmlformats.org/officeDocument/2006/relationships/slide" Target="slides/slide3.xml"/><Relationship Id="rId36" Type="http://schemas.openxmlformats.org/officeDocument/2006/relationships/slide" Target="slides/slide4.xml"/><Relationship Id="rId37" Type="http://schemas.openxmlformats.org/officeDocument/2006/relationships/slide" Target="slides/slide5.xml"/><Relationship Id="rId38" Type="http://schemas.openxmlformats.org/officeDocument/2006/relationships/slide" Target="slides/slide6.xml"/><Relationship Id="rId39" Type="http://schemas.openxmlformats.org/officeDocument/2006/relationships/slide" Target="slides/slide7.xml"/><Relationship Id="rId40" Type="http://schemas.openxmlformats.org/officeDocument/2006/relationships/slide" Target="slides/slide8.xml"/><Relationship Id="rId41" Type="http://schemas.openxmlformats.org/officeDocument/2006/relationships/slide" Target="slides/slide9.xml"/><Relationship Id="rId42" Type="http://schemas.openxmlformats.org/officeDocument/2006/relationships/slide" Target="slides/slide10.xml"/><Relationship Id="rId43" Type="http://schemas.openxmlformats.org/officeDocument/2006/relationships/slide" Target="slides/slide11.xml"/><Relationship Id="rId44" Type="http://schemas.openxmlformats.org/officeDocument/2006/relationships/slide" Target="slides/slide12.xml"/><Relationship Id="rId45" Type="http://schemas.openxmlformats.org/officeDocument/2006/relationships/slide" Target="slides/slide13.xml"/><Relationship Id="rId46" Type="http://schemas.openxmlformats.org/officeDocument/2006/relationships/slide" Target="slides/slide14.xml"/><Relationship Id="rId47" Type="http://schemas.openxmlformats.org/officeDocument/2006/relationships/slide" Target="slides/slide15.xml"/><Relationship Id="rId48" Type="http://schemas.openxmlformats.org/officeDocument/2006/relationships/slide" Target="slides/slide16.xml"/><Relationship Id="rId49" Type="http://schemas.openxmlformats.org/officeDocument/2006/relationships/slide" Target="slides/slide17.xml"/><Relationship Id="rId50" Type="http://schemas.openxmlformats.org/officeDocument/2006/relationships/slide" Target="slides/slide18.xml"/><Relationship Id="rId51" Type="http://schemas.openxmlformats.org/officeDocument/2006/relationships/slide" Target="slides/slide19.xml"/><Relationship Id="rId52" Type="http://schemas.openxmlformats.org/officeDocument/2006/relationships/slide" Target="slides/slide20.xml"/><Relationship Id="rId53" Type="http://schemas.openxmlformats.org/officeDocument/2006/relationships/slide" Target="slides/slide21.xml"/><Relationship Id="rId54" Type="http://schemas.openxmlformats.org/officeDocument/2006/relationships/slide" Target="slides/slide22.xml"/><Relationship Id="rId55" Type="http://schemas.openxmlformats.org/officeDocument/2006/relationships/slide" Target="slides/slide23.xml"/><Relationship Id="rId56" Type="http://schemas.openxmlformats.org/officeDocument/2006/relationships/slide" Target="slides/slide24.xml"/><Relationship Id="rId57" Type="http://schemas.openxmlformats.org/officeDocument/2006/relationships/slide" Target="slides/slide25.xml"/><Relationship Id="rId58" Type="http://schemas.openxmlformats.org/officeDocument/2006/relationships/slide" Target="slides/slide26.xml"/><Relationship Id="rId59" Type="http://schemas.openxmlformats.org/officeDocument/2006/relationships/slide" Target="slides/slide27.xml"/><Relationship Id="rId60" Type="http://schemas.openxmlformats.org/officeDocument/2006/relationships/slide" Target="slides/slide28.xml"/><Relationship Id="rId61" Type="http://schemas.openxmlformats.org/officeDocument/2006/relationships/slide" Target="slides/slide29.xml"/><Relationship Id="rId62" Type="http://schemas.openxmlformats.org/officeDocument/2006/relationships/slide" Target="slides/slide30.xml"/><Relationship Id="rId63" Type="http://schemas.openxmlformats.org/officeDocument/2006/relationships/slide" Target="slides/slide31.xml"/><Relationship Id="rId64" Type="http://schemas.openxmlformats.org/officeDocument/2006/relationships/slide" Target="slides/slide32.xml"/><Relationship Id="rId65" Type="http://schemas.openxmlformats.org/officeDocument/2006/relationships/slide" Target="slides/slide33.xml"/><Relationship Id="rId66" Type="http://schemas.openxmlformats.org/officeDocument/2006/relationships/slide" Target="slides/slide34.xml"/><Relationship Id="rId67" Type="http://schemas.openxmlformats.org/officeDocument/2006/relationships/slide" Target="slides/slide35.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672f70"/>
              </a:solidFill>
              <a:latin typeface="Arial"/>
            </a:endParaRPr>
          </a:p>
        </p:txBody>
      </p:sp>
      <p:sp>
        <p:nvSpPr>
          <p:cNvPr id="12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2f70"/>
              </a:solidFill>
              <a:latin typeface="Arial"/>
            </a:endParaRPr>
          </a:p>
        </p:txBody>
      </p:sp>
      <p:sp>
        <p:nvSpPr>
          <p:cNvPr id="1245"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124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2f70"/>
                </a:solidFill>
                <a:latin typeface="Calibri"/>
              </a:rPr>
              <a:t>Click to move the slide</a:t>
            </a:r>
            <a:endParaRPr b="0" lang="en-US" sz="4400" spc="-1" strike="noStrike">
              <a:solidFill>
                <a:srgbClr val="672f70"/>
              </a:solidFill>
              <a:latin typeface="Calibri"/>
            </a:endParaRPr>
          </a:p>
        </p:txBody>
      </p:sp>
      <p:sp>
        <p:nvSpPr>
          <p:cNvPr id="12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48"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2f70"/>
              </a:solidFill>
              <a:latin typeface="Arial"/>
            </a:endParaRPr>
          </a:p>
        </p:txBody>
      </p:sp>
      <p:sp>
        <p:nvSpPr>
          <p:cNvPr id="1249"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C7F5A-418B-424B-8D6E-531884A543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hyperlink" Target="http://www.bizcominthenews.com/" TargetMode="External"/><Relationship Id="rId2" Type="http://schemas.openxmlformats.org/officeDocument/2006/relationships/slide" Target="../slides/slide27.xml"/><Relationship Id="rId3"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PlaceHolder 1"/>
          <p:cNvSpPr>
            <a:spLocks noGrp="1"/>
          </p:cNvSpPr>
          <p:nvPr>
            <p:ph type="sldImg"/>
          </p:nvPr>
        </p:nvSpPr>
        <p:spPr>
          <a:xfrm>
            <a:off x="1143000" y="685800"/>
            <a:ext cx="4572000" cy="3429000"/>
          </a:xfrm>
          <a:prstGeom prst="rect">
            <a:avLst/>
          </a:prstGeom>
          <a:ln w="0">
            <a:noFill/>
          </a:ln>
        </p:spPr>
      </p:sp>
      <p:sp>
        <p:nvSpPr>
          <p:cNvPr id="1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go to the story on the blog </a:t>
            </a:r>
            <a:r>
              <a:rPr b="0" lang="en-US" sz="1200" spc="-1" strike="noStrike" u="sng">
                <a:solidFill>
                  <a:srgbClr val="0000ff"/>
                </a:solidFill>
                <a:uFillTx/>
                <a:latin typeface="Arial"/>
                <a:ea typeface="Arial"/>
                <a:hlinkClick r:id="rId1"/>
              </a:rPr>
              <a:t>www.bizcominthenews.com</a:t>
            </a:r>
            <a:r>
              <a:rPr b="0" lang="en-US" sz="1200" spc="-1" strike="noStrike">
                <a:solidFill>
                  <a:srgbClr val="672f70"/>
                </a:solidFill>
                <a:latin typeface="Arial"/>
                <a:ea typeface="Arial"/>
              </a:rPr>
              <a:t>. Or, go to the blog and search for “Epsilon.” The emails also are under Company Samples for Chapter 8 (also bad-news message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72f70"/>
                </a:solidFill>
                <a:latin typeface="Arial"/>
                <a:ea typeface="Arial"/>
              </a:rPr>
              <a:t>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PlaceHolder 1"/>
          <p:cNvSpPr>
            <a:spLocks noGrp="1"/>
          </p:cNvSpPr>
          <p:nvPr>
            <p:ph type="sldImg"/>
          </p:nvPr>
        </p:nvSpPr>
        <p:spPr>
          <a:xfrm>
            <a:off x="1143000" y="685800"/>
            <a:ext cx="4572000" cy="3429000"/>
          </a:xfrm>
          <a:prstGeom prst="rect">
            <a:avLst/>
          </a:prstGeom>
          <a:ln w="0">
            <a:noFill/>
          </a:ln>
        </p:spPr>
      </p:sp>
      <p:sp>
        <p:nvSpPr>
          <p:cNvPr id="1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l Bradley, former professional basketball player and senator, discusses the importance of writing throughout his care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more here: http://prendismo.com/collection/viewclip/14951</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5" name="PlaceHolder 1"/>
          <p:cNvSpPr>
            <a:spLocks noGrp="1"/>
          </p:cNvSpPr>
          <p:nvPr>
            <p:ph type="sldImg"/>
          </p:nvPr>
        </p:nvSpPr>
        <p:spPr>
          <a:xfrm>
            <a:off x="1143000" y="685800"/>
            <a:ext cx="4572000" cy="3429000"/>
          </a:xfrm>
          <a:prstGeom prst="rect">
            <a:avLst/>
          </a:prstGeom>
          <a:ln w="0">
            <a:noFill/>
          </a:ln>
        </p:spPr>
      </p:sp>
      <p:sp>
        <p:nvSpPr>
          <p:cNvPr id="1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funny video that illustrates the difference between </a:t>
            </a:r>
            <a:r>
              <a:rPr b="0" i="1" lang="en-US" sz="1200" spc="-1" strike="noStrike">
                <a:solidFill>
                  <a:srgbClr val="000000"/>
                </a:solidFill>
                <a:latin typeface="Calibri"/>
              </a:rPr>
              <a:t>compliment</a:t>
            </a:r>
            <a:r>
              <a:rPr b="0" lang="en-US" sz="1200" spc="-1" strike="noStrike">
                <a:solidFill>
                  <a:srgbClr val="000000"/>
                </a:solidFill>
                <a:latin typeface="Calibri"/>
              </a:rPr>
              <a:t> and </a:t>
            </a:r>
            <a:r>
              <a:rPr b="0" i="1" lang="en-US" sz="1200" spc="-1" strike="noStrike">
                <a:solidFill>
                  <a:srgbClr val="000000"/>
                </a:solidFill>
                <a:latin typeface="Calibri"/>
              </a:rPr>
              <a:t>complement</a:t>
            </a:r>
            <a:r>
              <a:rPr b="0" lang="en-US" sz="1200" spc="-1" strike="noStrike">
                <a:solidFill>
                  <a:srgbClr val="000000"/>
                </a:solidFill>
                <a:latin typeface="Calibri"/>
              </a:rPr>
              <a:t>. You’ll find the video on bizcominthenews.com, Videos for Chapter 4, and here: http://www.youtube.com/watch?v=yBwDiDOevnE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3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3352680" y="120600"/>
            <a:ext cx="5562720" cy="29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3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3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4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4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34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4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3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5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35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5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5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5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5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5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36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36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37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352680" y="120600"/>
            <a:ext cx="5562720" cy="29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3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7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3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8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3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8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38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8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3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9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39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9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9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9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0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0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7"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40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4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4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5" name="PlaceHolder 1"/>
          <p:cNvSpPr>
            <a:spLocks noGrp="1"/>
          </p:cNvSpPr>
          <p:nvPr>
            <p:ph type="subTitle"/>
          </p:nvPr>
        </p:nvSpPr>
        <p:spPr>
          <a:xfrm>
            <a:off x="3352680" y="120600"/>
            <a:ext cx="5562720" cy="29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4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4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4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4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4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4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9"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4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4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4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7" name="PlaceHolder 1"/>
          <p:cNvSpPr>
            <a:spLocks noGrp="1"/>
          </p:cNvSpPr>
          <p:nvPr>
            <p:ph type="subTitle"/>
          </p:nvPr>
        </p:nvSpPr>
        <p:spPr>
          <a:xfrm>
            <a:off x="3352680" y="120600"/>
            <a:ext cx="5562720" cy="29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4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4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4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4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4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4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49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49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4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3352680" y="120600"/>
            <a:ext cx="5562720" cy="29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50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0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5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1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51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1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5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1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52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2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2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2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2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2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3"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53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53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5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0"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1" name="PlaceHolder 1"/>
          <p:cNvSpPr>
            <a:spLocks noGrp="1"/>
          </p:cNvSpPr>
          <p:nvPr>
            <p:ph type="subTitle"/>
          </p:nvPr>
        </p:nvSpPr>
        <p:spPr>
          <a:xfrm>
            <a:off x="3352680" y="120600"/>
            <a:ext cx="5562720" cy="29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5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5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4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5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5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55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5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5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6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56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6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6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6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6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6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57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57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5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3352680" y="120600"/>
            <a:ext cx="5562720" cy="29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5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5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9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5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9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59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9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6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0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352680" y="120600"/>
            <a:ext cx="5562720" cy="29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60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0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0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0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0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1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5"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61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61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6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2"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3" name="PlaceHolder 1"/>
          <p:cNvSpPr>
            <a:spLocks noGrp="1"/>
          </p:cNvSpPr>
          <p:nvPr>
            <p:ph type="subTitle"/>
          </p:nvPr>
        </p:nvSpPr>
        <p:spPr>
          <a:xfrm>
            <a:off x="3352680" y="120600"/>
            <a:ext cx="5562720" cy="29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6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6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3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6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3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63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3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6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4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64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4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4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4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4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5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6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6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6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5"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6" name="PlaceHolder 1"/>
          <p:cNvSpPr>
            <a:spLocks noGrp="1"/>
          </p:cNvSpPr>
          <p:nvPr>
            <p:ph type="subTitle"/>
          </p:nvPr>
        </p:nvSpPr>
        <p:spPr>
          <a:xfrm>
            <a:off x="3352680" y="120600"/>
            <a:ext cx="5562720" cy="29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6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6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6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6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6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6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1"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7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7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7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9" name="PlaceHolder 1"/>
          <p:cNvSpPr>
            <a:spLocks noGrp="1"/>
          </p:cNvSpPr>
          <p:nvPr>
            <p:ph type="subTitle"/>
          </p:nvPr>
        </p:nvSpPr>
        <p:spPr>
          <a:xfrm>
            <a:off x="3352680" y="120600"/>
            <a:ext cx="5562720" cy="29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7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7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7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7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7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7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7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7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7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1"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2" name="PlaceHolder 1"/>
          <p:cNvSpPr>
            <a:spLocks noGrp="1"/>
          </p:cNvSpPr>
          <p:nvPr>
            <p:ph type="subTitle"/>
          </p:nvPr>
        </p:nvSpPr>
        <p:spPr>
          <a:xfrm>
            <a:off x="3352680" y="120600"/>
            <a:ext cx="5562720" cy="29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7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7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7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7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7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7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7"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78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79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7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5" name="PlaceHolder 1"/>
          <p:cNvSpPr>
            <a:spLocks noGrp="1"/>
          </p:cNvSpPr>
          <p:nvPr>
            <p:ph type="subTitle"/>
          </p:nvPr>
        </p:nvSpPr>
        <p:spPr>
          <a:xfrm>
            <a:off x="3352680" y="120600"/>
            <a:ext cx="5562720" cy="29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7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8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0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8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0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80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1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8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1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81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1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1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2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2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2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1"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83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83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8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9" name="PlaceHolder 1"/>
          <p:cNvSpPr>
            <a:spLocks noGrp="1"/>
          </p:cNvSpPr>
          <p:nvPr>
            <p:ph type="subTitle"/>
          </p:nvPr>
        </p:nvSpPr>
        <p:spPr>
          <a:xfrm>
            <a:off x="3352680" y="120600"/>
            <a:ext cx="5562720" cy="29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8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8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4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8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5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85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5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8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5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86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6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6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6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6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6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2"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87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87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8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9"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0" name="PlaceHolder 1"/>
          <p:cNvSpPr>
            <a:spLocks noGrp="1"/>
          </p:cNvSpPr>
          <p:nvPr>
            <p:ph type="subTitle"/>
          </p:nvPr>
        </p:nvSpPr>
        <p:spPr>
          <a:xfrm>
            <a:off x="3352680" y="120600"/>
            <a:ext cx="5562720" cy="29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8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8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8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8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8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9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89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9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8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0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90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0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0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0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0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0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3"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91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91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9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0"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8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1" name="PlaceHolder 1"/>
          <p:cNvSpPr>
            <a:spLocks noGrp="1"/>
          </p:cNvSpPr>
          <p:nvPr>
            <p:ph type="subTitle"/>
          </p:nvPr>
        </p:nvSpPr>
        <p:spPr>
          <a:xfrm>
            <a:off x="3352680" y="120600"/>
            <a:ext cx="5562720" cy="29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9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9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2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9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3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93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3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9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4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94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4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4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4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4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4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5"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95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95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9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2"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3" name="PlaceHolder 1"/>
          <p:cNvSpPr>
            <a:spLocks noGrp="1"/>
          </p:cNvSpPr>
          <p:nvPr>
            <p:ph type="subTitle"/>
          </p:nvPr>
        </p:nvSpPr>
        <p:spPr>
          <a:xfrm>
            <a:off x="3352680" y="120600"/>
            <a:ext cx="5562720" cy="29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9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9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7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9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7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97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7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9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8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98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8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8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8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8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9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7"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9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0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0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5" name="PlaceHolder 1"/>
          <p:cNvSpPr>
            <a:spLocks noGrp="1"/>
          </p:cNvSpPr>
          <p:nvPr>
            <p:ph type="subTitle"/>
          </p:nvPr>
        </p:nvSpPr>
        <p:spPr>
          <a:xfrm>
            <a:off x="3352680" y="120600"/>
            <a:ext cx="5562720" cy="29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0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0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0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0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0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3352680" y="120600"/>
            <a:ext cx="5562720" cy="29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0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9"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0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0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0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7" name="PlaceHolder 1"/>
          <p:cNvSpPr>
            <a:spLocks noGrp="1"/>
          </p:cNvSpPr>
          <p:nvPr>
            <p:ph type="subTitle"/>
          </p:nvPr>
        </p:nvSpPr>
        <p:spPr>
          <a:xfrm>
            <a:off x="3352680" y="120600"/>
            <a:ext cx="5562720" cy="29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0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0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0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0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0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0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1"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0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0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0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9" name="PlaceHolder 1"/>
          <p:cNvSpPr>
            <a:spLocks noGrp="1"/>
          </p:cNvSpPr>
          <p:nvPr>
            <p:ph type="subTitle"/>
          </p:nvPr>
        </p:nvSpPr>
        <p:spPr>
          <a:xfrm>
            <a:off x="3352680" y="120600"/>
            <a:ext cx="5562720" cy="29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0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0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0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1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1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1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3"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12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12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1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0"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1" name="PlaceHolder 1"/>
          <p:cNvSpPr>
            <a:spLocks noGrp="1"/>
          </p:cNvSpPr>
          <p:nvPr>
            <p:ph type="subTitle"/>
          </p:nvPr>
        </p:nvSpPr>
        <p:spPr>
          <a:xfrm>
            <a:off x="3352680" y="120600"/>
            <a:ext cx="5562720" cy="29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1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1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3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1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4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14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4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1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5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2"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15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5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5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5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5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5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5"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16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7"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16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0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1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2"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3" name="PlaceHolder 1"/>
          <p:cNvSpPr>
            <a:spLocks noGrp="1"/>
          </p:cNvSpPr>
          <p:nvPr>
            <p:ph type="subTitle"/>
          </p:nvPr>
        </p:nvSpPr>
        <p:spPr>
          <a:xfrm>
            <a:off x="3352680" y="120600"/>
            <a:ext cx="5562720" cy="29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1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17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8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1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8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18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8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1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9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19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9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9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9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9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20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7"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20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2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1"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2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5" name="PlaceHolder 1"/>
          <p:cNvSpPr>
            <a:spLocks noGrp="1"/>
          </p:cNvSpPr>
          <p:nvPr>
            <p:ph type="subTitle"/>
          </p:nvPr>
        </p:nvSpPr>
        <p:spPr>
          <a:xfrm>
            <a:off x="3352680" y="120600"/>
            <a:ext cx="5562720" cy="29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2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2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2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2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2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2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2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2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2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2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2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1"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2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2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2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2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1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2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2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2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2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2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2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15D2EC-A98E-4BD3-A36F-44341A376F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133C28-E962-46A4-A6F5-4E9B2DA414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BC50E4-29FB-4F09-B986-CC96345152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65D6F2-497C-47ED-BE39-606CAA3762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152E4B-8F2E-4CEF-B40C-CD91677A03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3352680" y="120600"/>
            <a:ext cx="5562720" cy="29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ADCBD8-441F-4CE0-8804-9A1A5BE9AA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036F13-72E1-48AA-A950-6C7E928051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76234C-51B5-4BC0-B755-73EDA244BA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6AA9D-8C83-48D2-ACB9-A90C99A786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EB5B7B-FF31-46C9-9688-0678219840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5FC63F-87F3-4B4B-B0A5-C99C8E4F4E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BB244D-80AC-44B6-A744-040E8D0145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6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7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3352680" y="120600"/>
            <a:ext cx="5562720" cy="29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8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8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8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9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9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352680" y="120600"/>
            <a:ext cx="5562720" cy="29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9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9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9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0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0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0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20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2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3352680" y="120600"/>
            <a:ext cx="5562720" cy="29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2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2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2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2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2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2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0EB410A-B9A5-44F5-916D-9F414AD6D15D}"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2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 name="PlaceHolder 3"/>
          <p:cNvSpPr>
            <a:spLocks noGrp="1"/>
          </p:cNvSpPr>
          <p:nvPr>
            <p:ph type="sldNum" idx="4"/>
          </p:nvPr>
        </p:nvSpPr>
        <p:spPr/>
        <p:txBody>
          <a:bodyPr/>
          <a:p>
            <a:fld id="{46B9C5E2-CCCD-4443-B2DF-AA479282DA41}"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2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 name="PlaceHolder 3"/>
          <p:cNvSpPr>
            <a:spLocks noGrp="1"/>
          </p:cNvSpPr>
          <p:nvPr>
            <p:ph type="sldNum" idx="4"/>
          </p:nvPr>
        </p:nvSpPr>
        <p:spPr/>
        <p:txBody>
          <a:bodyPr/>
          <a:p>
            <a:fld id="{3A97FEA2-710B-46B0-B344-FE467E214A82}"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2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 name="PlaceHolder 4"/>
          <p:cNvSpPr>
            <a:spLocks noGrp="1"/>
          </p:cNvSpPr>
          <p:nvPr>
            <p:ph type="sldNum" idx="4"/>
          </p:nvPr>
        </p:nvSpPr>
        <p:spPr/>
        <p:txBody>
          <a:bodyPr/>
          <a:p>
            <a:fld id="{0A0EDE25-D5A4-46A6-9AD0-8673FAF8949B}"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3" name="PlaceHolder 2"/>
          <p:cNvSpPr>
            <a:spLocks noGrp="1"/>
          </p:cNvSpPr>
          <p:nvPr>
            <p:ph type="sldNum" idx="4"/>
          </p:nvPr>
        </p:nvSpPr>
        <p:spPr/>
        <p:txBody>
          <a:bodyPr/>
          <a:p>
            <a:fld id="{B87836E5-68F3-460C-A21B-08D247C2ED84}"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3352680" y="120600"/>
            <a:ext cx="5562720" cy="29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 name="PlaceHolder 2"/>
          <p:cNvSpPr>
            <a:spLocks noGrp="1"/>
          </p:cNvSpPr>
          <p:nvPr>
            <p:ph type="sldNum" idx="4"/>
          </p:nvPr>
        </p:nvSpPr>
        <p:spPr/>
        <p:txBody>
          <a:bodyPr/>
          <a:p>
            <a:fld id="{E6931AFA-2780-4774-9AD6-4825074AE550}"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2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 name="PlaceHolder 5"/>
          <p:cNvSpPr>
            <a:spLocks noGrp="1"/>
          </p:cNvSpPr>
          <p:nvPr>
            <p:ph type="sldNum" idx="4"/>
          </p:nvPr>
        </p:nvSpPr>
        <p:spPr/>
        <p:txBody>
          <a:bodyPr/>
          <a:p>
            <a:fld id="{AA7D3A59-F3DB-4F92-9756-053571B92EA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2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 name="PlaceHolder 5"/>
          <p:cNvSpPr>
            <a:spLocks noGrp="1"/>
          </p:cNvSpPr>
          <p:nvPr>
            <p:ph type="sldNum" idx="4"/>
          </p:nvPr>
        </p:nvSpPr>
        <p:spPr/>
        <p:txBody>
          <a:bodyPr/>
          <a:p>
            <a:fld id="{FE8195A3-0C45-475E-ADC0-873BF1661BDE}"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2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 name="PlaceHolder 5"/>
          <p:cNvSpPr>
            <a:spLocks noGrp="1"/>
          </p:cNvSpPr>
          <p:nvPr>
            <p:ph type="sldNum" idx="4"/>
          </p:nvPr>
        </p:nvSpPr>
        <p:spPr/>
        <p:txBody>
          <a:bodyPr/>
          <a:p>
            <a:fld id="{9062F55F-4181-4FF9-8907-B97F8C616074}"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2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 name="PlaceHolder 4"/>
          <p:cNvSpPr>
            <a:spLocks noGrp="1"/>
          </p:cNvSpPr>
          <p:nvPr>
            <p:ph type="sldNum" idx="4"/>
          </p:nvPr>
        </p:nvSpPr>
        <p:spPr/>
        <p:txBody>
          <a:bodyPr/>
          <a:p>
            <a:fld id="{591B99E8-CEAA-46E6-BBEB-6558BDE132D8}"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2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 name="PlaceHolder 6"/>
          <p:cNvSpPr>
            <a:spLocks noGrp="1"/>
          </p:cNvSpPr>
          <p:nvPr>
            <p:ph type="sldNum" idx="4"/>
          </p:nvPr>
        </p:nvSpPr>
        <p:spPr/>
        <p:txBody>
          <a:bodyPr/>
          <a:p>
            <a:fld id="{0BDBCC34-A74E-46CF-86C8-FD07881588CB}"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2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 name="PlaceHolder 8"/>
          <p:cNvSpPr>
            <a:spLocks noGrp="1"/>
          </p:cNvSpPr>
          <p:nvPr>
            <p:ph type="sldNum" idx="4"/>
          </p:nvPr>
        </p:nvSpPr>
        <p:spPr/>
        <p:txBody>
          <a:bodyPr/>
          <a:p>
            <a:fld id="{D79B641F-A572-48DB-8724-1FF540582A11}"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28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28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2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3352680" y="120600"/>
            <a:ext cx="5562720" cy="29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2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2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0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0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30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0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3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1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31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1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1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1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1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2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32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32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3b27"/>
        </a:solidFill>
      </p:bgPr>
    </p:bg>
    <p:spTree>
      <p:nvGrpSpPr>
        <p:cNvPr id="1" name=""/>
        <p:cNvGrpSpPr/>
        <p:nvPr/>
      </p:nvGrpSpPr>
      <p:grpSpPr>
        <a:xfrm>
          <a:off x="0" y="0"/>
          <a:ext cx="0" cy="0"/>
          <a:chOff x="0" y="0"/>
          <a:chExt cx="0" cy="0"/>
        </a:xfrm>
      </p:grpSpPr>
      <p:sp>
        <p:nvSpPr>
          <p:cNvPr id="0" name="Text Box 12"/>
          <p:cNvSpPr/>
          <p:nvPr/>
        </p:nvSpPr>
        <p:spPr>
          <a:xfrm>
            <a:off x="6840" y="6643800"/>
            <a:ext cx="1838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96c18"/>
                </a:solidFill>
                <a:latin typeface="Arial"/>
              </a:rPr>
              <a:t>Copyright © 2012 Cengage Learning</a:t>
            </a:r>
            <a:endParaRPr b="0" lang="en-US" sz="800" spc="-1" strike="noStrike">
              <a:solidFill>
                <a:srgbClr val="672f70"/>
              </a:solidFill>
              <a:latin typeface="Arial"/>
            </a:endParaRPr>
          </a:p>
        </p:txBody>
      </p:sp>
      <p:sp>
        <p:nvSpPr>
          <p:cNvPr id="1" name="Rectangle 3"/>
          <p:cNvSpPr/>
          <p:nvPr/>
        </p:nvSpPr>
        <p:spPr>
          <a:xfrm>
            <a:off x="152280" y="228600"/>
            <a:ext cx="8839440" cy="6400800"/>
          </a:xfrm>
          <a:prstGeom prst="rect">
            <a:avLst/>
          </a:prstGeom>
          <a:noFill/>
          <a:ln w="25560">
            <a:solidFill>
              <a:srgbClr val="fdb91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2f70"/>
              </a:solidFill>
              <a:latin typeface="Arial"/>
            </a:endParaRPr>
          </a:p>
        </p:txBody>
      </p:sp>
      <p:sp>
        <p:nvSpPr>
          <p:cNvPr id="2" name="Oval 4"/>
          <p:cNvSpPr/>
          <p:nvPr/>
        </p:nvSpPr>
        <p:spPr>
          <a:xfrm>
            <a:off x="4114800" y="457200"/>
            <a:ext cx="762120" cy="685800"/>
          </a:xfrm>
          <a:prstGeom prst="ellipse">
            <a:avLst/>
          </a:prstGeom>
          <a:no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8e</a:t>
            </a:r>
            <a:endParaRPr b="0" lang="en-US" sz="1800" spc="-1" strike="noStrike">
              <a:solidFill>
                <a:srgbClr val="672f70"/>
              </a:solidFill>
              <a:latin typeface="Arial"/>
            </a:endParaRPr>
          </a:p>
        </p:txBody>
      </p:sp>
      <p:sp>
        <p:nvSpPr>
          <p:cNvPr id="3" name="TextBox 5"/>
          <p:cNvSpPr/>
          <p:nvPr/>
        </p:nvSpPr>
        <p:spPr>
          <a:xfrm>
            <a:off x="380880" y="1209600"/>
            <a:ext cx="82296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BUSINESS COMMUNICATION</a:t>
            </a:r>
            <a:endParaRPr b="0" lang="en-US" sz="5400" spc="-1" strike="noStrike">
              <a:solidFill>
                <a:srgbClr val="672f70"/>
              </a:solidFill>
              <a:latin typeface="Arial"/>
            </a:endParaRPr>
          </a:p>
        </p:txBody>
      </p:sp>
      <p:sp>
        <p:nvSpPr>
          <p:cNvPr id="4" name="TextBox 6"/>
          <p:cNvSpPr/>
          <p:nvPr/>
        </p:nvSpPr>
        <p:spPr>
          <a:xfrm>
            <a:off x="533520" y="1932120"/>
            <a:ext cx="82296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3a292"/>
                </a:solidFill>
                <a:latin typeface="Calibri"/>
              </a:rPr>
              <a:t>In Person, In Print, Online</a:t>
            </a:r>
            <a:endParaRPr b="0" lang="en-US" sz="5400" spc="-1" strike="noStrike">
              <a:solidFill>
                <a:srgbClr val="672f7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Freeform 10"/>
          <p:cNvSpPr/>
          <p:nvPr/>
        </p:nvSpPr>
        <p:spPr>
          <a:xfrm>
            <a:off x="152280" y="152280"/>
            <a:ext cx="8839440" cy="15876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543b27"/>
          </a:solidFill>
          <a:ln w="5076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361" name="Title 1"/>
          <p:cNvSpPr/>
          <p:nvPr/>
        </p:nvSpPr>
        <p:spPr>
          <a:xfrm>
            <a:off x="457200" y="3808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913"/>
                </a:solidFill>
                <a:latin typeface="Trebuchet MS"/>
              </a:rPr>
              <a:t>[Click to edit Master title style]</a:t>
            </a:r>
            <a:endParaRPr b="0" lang="en-US" sz="4400" spc="-1" strike="noStrike">
              <a:solidFill>
                <a:srgbClr val="672f70"/>
              </a:solidFill>
              <a:latin typeface="Arial"/>
            </a:endParaRPr>
          </a:p>
        </p:txBody>
      </p:sp>
      <p:sp>
        <p:nvSpPr>
          <p:cNvPr id="362" name="Text Box 12"/>
          <p:cNvSpPr/>
          <p:nvPr/>
        </p:nvSpPr>
        <p:spPr>
          <a:xfrm rot="16200000">
            <a:off x="-810000" y="5823720"/>
            <a:ext cx="1838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96c18"/>
                </a:solidFill>
                <a:latin typeface="Arial"/>
              </a:rPr>
              <a:t>Copyright © 2012 Cengage Learning</a:t>
            </a:r>
            <a:endParaRPr b="0" lang="en-US" sz="800" spc="-1" strike="noStrike">
              <a:solidFill>
                <a:srgbClr val="672f70"/>
              </a:solidFill>
              <a:latin typeface="Arial"/>
            </a:endParaRPr>
          </a:p>
        </p:txBody>
      </p:sp>
      <p:sp>
        <p:nvSpPr>
          <p:cNvPr id="363" name="Freeform 10"/>
          <p:cNvSpPr/>
          <p:nvPr/>
        </p:nvSpPr>
        <p:spPr>
          <a:xfrm>
            <a:off x="871560" y="6237360"/>
            <a:ext cx="1643040" cy="4572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fdb913"/>
          </a:solidFill>
          <a:ln w="1260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364" name="Freeform 10"/>
          <p:cNvSpPr/>
          <p:nvPr/>
        </p:nvSpPr>
        <p:spPr>
          <a:xfrm>
            <a:off x="152280" y="152280"/>
            <a:ext cx="8839440" cy="15876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543b27"/>
          </a:solidFill>
          <a:ln w="5076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365" name="TextBox 7"/>
          <p:cNvSpPr/>
          <p:nvPr/>
        </p:nvSpPr>
        <p:spPr>
          <a:xfrm>
            <a:off x="380880" y="6248520"/>
            <a:ext cx="853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3b27"/>
                </a:solidFill>
                <a:latin typeface="Calibri"/>
              </a:rPr>
              <a:t>          </a:t>
            </a:r>
            <a:r>
              <a:rPr b="1" lang="en-US" sz="1600" spc="-1" strike="noStrike">
                <a:solidFill>
                  <a:srgbClr val="543b27"/>
                </a:solidFill>
                <a:latin typeface="Calibri"/>
              </a:rPr>
              <a:t>Audience Analysis</a:t>
            </a:r>
            <a:r>
              <a:rPr b="0" lang="en-US" sz="1600" spc="-1" strike="noStrike">
                <a:solidFill>
                  <a:srgbClr val="543b27"/>
                </a:solidFill>
                <a:latin typeface="Calibri"/>
              </a:rPr>
              <a:t>       |       Planning      |        Drafting       |       Revising       |       Proofreading</a:t>
            </a:r>
            <a:endParaRPr b="0" lang="en-US" sz="1600" spc="-1" strike="noStrike">
              <a:solidFill>
                <a:srgbClr val="672f7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Freeform 10"/>
          <p:cNvSpPr/>
          <p:nvPr/>
        </p:nvSpPr>
        <p:spPr>
          <a:xfrm>
            <a:off x="152280" y="152280"/>
            <a:ext cx="8839440" cy="15876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543b27"/>
          </a:solidFill>
          <a:ln w="5076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403" name="Title 1"/>
          <p:cNvSpPr/>
          <p:nvPr/>
        </p:nvSpPr>
        <p:spPr>
          <a:xfrm>
            <a:off x="457200" y="3808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913"/>
                </a:solidFill>
                <a:latin typeface="Trebuchet MS"/>
              </a:rPr>
              <a:t>[Click to edit Master title style]</a:t>
            </a:r>
            <a:endParaRPr b="0" lang="en-US" sz="4400" spc="-1" strike="noStrike">
              <a:solidFill>
                <a:srgbClr val="672f70"/>
              </a:solidFill>
              <a:latin typeface="Arial"/>
            </a:endParaRPr>
          </a:p>
        </p:txBody>
      </p:sp>
      <p:sp>
        <p:nvSpPr>
          <p:cNvPr id="404" name="Text Box 12"/>
          <p:cNvSpPr/>
          <p:nvPr/>
        </p:nvSpPr>
        <p:spPr>
          <a:xfrm rot="16200000">
            <a:off x="-810000" y="5823720"/>
            <a:ext cx="1838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96c18"/>
                </a:solidFill>
                <a:latin typeface="Arial"/>
              </a:rPr>
              <a:t>Copyright © 2012 Cengage Learning</a:t>
            </a:r>
            <a:endParaRPr b="0" lang="en-US" sz="800" spc="-1" strike="noStrike">
              <a:solidFill>
                <a:srgbClr val="672f70"/>
              </a:solidFill>
              <a:latin typeface="Arial"/>
            </a:endParaRPr>
          </a:p>
        </p:txBody>
      </p:sp>
      <p:sp>
        <p:nvSpPr>
          <p:cNvPr id="405" name="Freeform 10"/>
          <p:cNvSpPr/>
          <p:nvPr/>
        </p:nvSpPr>
        <p:spPr>
          <a:xfrm>
            <a:off x="871560" y="6237360"/>
            <a:ext cx="1643040" cy="4572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fdb913"/>
          </a:solidFill>
          <a:ln w="1260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406" name="TextBox 5"/>
          <p:cNvSpPr/>
          <p:nvPr/>
        </p:nvSpPr>
        <p:spPr>
          <a:xfrm>
            <a:off x="380880" y="6248520"/>
            <a:ext cx="853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3b27"/>
                </a:solidFill>
                <a:latin typeface="Calibri"/>
              </a:rPr>
              <a:t>          </a:t>
            </a:r>
            <a:r>
              <a:rPr b="1" lang="en-US" sz="1600" spc="-1" strike="noStrike">
                <a:solidFill>
                  <a:srgbClr val="543b27"/>
                </a:solidFill>
                <a:latin typeface="Calibri"/>
              </a:rPr>
              <a:t>Audience Analysis</a:t>
            </a:r>
            <a:r>
              <a:rPr b="0" lang="en-US" sz="1600" spc="-1" strike="noStrike">
                <a:solidFill>
                  <a:srgbClr val="543b27"/>
                </a:solidFill>
                <a:latin typeface="Calibri"/>
              </a:rPr>
              <a:t>       |       Planning      |        Drafting       |       Revising       |       Proofreading</a:t>
            </a:r>
            <a:endParaRPr b="0" lang="en-US" sz="1600" spc="-1" strike="noStrike">
              <a:solidFill>
                <a:srgbClr val="672f7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Freeform 10"/>
          <p:cNvSpPr/>
          <p:nvPr/>
        </p:nvSpPr>
        <p:spPr>
          <a:xfrm>
            <a:off x="152280" y="152280"/>
            <a:ext cx="8839440" cy="15876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543b27"/>
          </a:solidFill>
          <a:ln w="5076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444" name="Title 1"/>
          <p:cNvSpPr/>
          <p:nvPr/>
        </p:nvSpPr>
        <p:spPr>
          <a:xfrm>
            <a:off x="457200" y="3808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913"/>
                </a:solidFill>
                <a:latin typeface="Trebuchet MS"/>
              </a:rPr>
              <a:t>[Click to edit Master title style]</a:t>
            </a:r>
            <a:endParaRPr b="0" lang="en-US" sz="4400" spc="-1" strike="noStrike">
              <a:solidFill>
                <a:srgbClr val="672f70"/>
              </a:solidFill>
              <a:latin typeface="Arial"/>
            </a:endParaRPr>
          </a:p>
        </p:txBody>
      </p:sp>
      <p:sp>
        <p:nvSpPr>
          <p:cNvPr id="445" name="Text Box 12"/>
          <p:cNvSpPr/>
          <p:nvPr/>
        </p:nvSpPr>
        <p:spPr>
          <a:xfrm rot="16200000">
            <a:off x="-810000" y="5823720"/>
            <a:ext cx="1838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96c18"/>
                </a:solidFill>
                <a:latin typeface="Arial"/>
              </a:rPr>
              <a:t>Copyright © 2012 Cengage Learning</a:t>
            </a:r>
            <a:endParaRPr b="0" lang="en-US" sz="800" spc="-1" strike="noStrike">
              <a:solidFill>
                <a:srgbClr val="672f70"/>
              </a:solidFill>
              <a:latin typeface="Arial"/>
            </a:endParaRPr>
          </a:p>
        </p:txBody>
      </p:sp>
      <p:sp>
        <p:nvSpPr>
          <p:cNvPr id="446" name="Freeform 10"/>
          <p:cNvSpPr/>
          <p:nvPr/>
        </p:nvSpPr>
        <p:spPr>
          <a:xfrm>
            <a:off x="2827440" y="6237360"/>
            <a:ext cx="1295280" cy="4572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fdb913"/>
          </a:solidFill>
          <a:ln w="1260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447" name="Freeform 10"/>
          <p:cNvSpPr/>
          <p:nvPr/>
        </p:nvSpPr>
        <p:spPr>
          <a:xfrm>
            <a:off x="152280" y="152280"/>
            <a:ext cx="8839440" cy="15876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543b27"/>
          </a:solidFill>
          <a:ln w="5076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448" name="TextBox 7"/>
          <p:cNvSpPr/>
          <p:nvPr/>
        </p:nvSpPr>
        <p:spPr>
          <a:xfrm>
            <a:off x="380880" y="6248520"/>
            <a:ext cx="853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3b27"/>
                </a:solidFill>
                <a:latin typeface="Calibri"/>
              </a:rPr>
              <a:t>          </a:t>
            </a:r>
            <a:r>
              <a:rPr b="0" lang="en-US" sz="1600" spc="-1" strike="noStrike">
                <a:solidFill>
                  <a:srgbClr val="543b27"/>
                </a:solidFill>
                <a:latin typeface="Calibri"/>
              </a:rPr>
              <a:t>Audience Analysis       |       </a:t>
            </a:r>
            <a:r>
              <a:rPr b="1" lang="en-US" sz="1600" spc="-1" strike="noStrike">
                <a:solidFill>
                  <a:srgbClr val="543b27"/>
                </a:solidFill>
                <a:latin typeface="Calibri"/>
              </a:rPr>
              <a:t>Planning</a:t>
            </a:r>
            <a:r>
              <a:rPr b="0" lang="en-US" sz="1600" spc="-1" strike="noStrike">
                <a:solidFill>
                  <a:srgbClr val="543b27"/>
                </a:solidFill>
                <a:latin typeface="Calibri"/>
              </a:rPr>
              <a:t>      |        Drafting       |       Revising       |       Proofreading</a:t>
            </a:r>
            <a:endParaRPr b="0" lang="en-US" sz="1600" spc="-1" strike="noStrike">
              <a:solidFill>
                <a:srgbClr val="672f7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Freeform 10"/>
          <p:cNvSpPr/>
          <p:nvPr/>
        </p:nvSpPr>
        <p:spPr>
          <a:xfrm>
            <a:off x="152280" y="152280"/>
            <a:ext cx="8839440" cy="15876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543b27"/>
          </a:solidFill>
          <a:ln w="5076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486" name="Title 1"/>
          <p:cNvSpPr/>
          <p:nvPr/>
        </p:nvSpPr>
        <p:spPr>
          <a:xfrm>
            <a:off x="457200" y="3808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913"/>
                </a:solidFill>
                <a:latin typeface="Trebuchet MS"/>
              </a:rPr>
              <a:t>[Click to edit Master title style]</a:t>
            </a:r>
            <a:endParaRPr b="0" lang="en-US" sz="4400" spc="-1" strike="noStrike">
              <a:solidFill>
                <a:srgbClr val="672f70"/>
              </a:solidFill>
              <a:latin typeface="Arial"/>
            </a:endParaRPr>
          </a:p>
        </p:txBody>
      </p:sp>
      <p:sp>
        <p:nvSpPr>
          <p:cNvPr id="487" name="Text Box 12"/>
          <p:cNvSpPr/>
          <p:nvPr/>
        </p:nvSpPr>
        <p:spPr>
          <a:xfrm rot="16200000">
            <a:off x="-810000" y="5823720"/>
            <a:ext cx="1838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96c18"/>
                </a:solidFill>
                <a:latin typeface="Arial"/>
              </a:rPr>
              <a:t>Copyright © 2012 Cengage Learning</a:t>
            </a:r>
            <a:endParaRPr b="0" lang="en-US" sz="800" spc="-1" strike="noStrike">
              <a:solidFill>
                <a:srgbClr val="672f70"/>
              </a:solidFill>
              <a:latin typeface="Arial"/>
            </a:endParaRPr>
          </a:p>
        </p:txBody>
      </p:sp>
      <p:sp>
        <p:nvSpPr>
          <p:cNvPr id="488" name="Freeform 10"/>
          <p:cNvSpPr/>
          <p:nvPr/>
        </p:nvSpPr>
        <p:spPr>
          <a:xfrm>
            <a:off x="4216320" y="6248520"/>
            <a:ext cx="1343160" cy="4572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fdb913"/>
          </a:solidFill>
          <a:ln w="1260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489" name="Freeform 10"/>
          <p:cNvSpPr/>
          <p:nvPr/>
        </p:nvSpPr>
        <p:spPr>
          <a:xfrm>
            <a:off x="152280" y="152280"/>
            <a:ext cx="8839440" cy="15876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543b27"/>
          </a:solidFill>
          <a:ln w="5076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490" name="TextBox 7"/>
          <p:cNvSpPr/>
          <p:nvPr/>
        </p:nvSpPr>
        <p:spPr>
          <a:xfrm>
            <a:off x="380880" y="6248520"/>
            <a:ext cx="853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3b27"/>
                </a:solidFill>
                <a:latin typeface="Calibri"/>
              </a:rPr>
              <a:t>          </a:t>
            </a:r>
            <a:r>
              <a:rPr b="0" lang="en-US" sz="1600" spc="-1" strike="noStrike">
                <a:solidFill>
                  <a:srgbClr val="543b27"/>
                </a:solidFill>
                <a:latin typeface="Calibri"/>
              </a:rPr>
              <a:t>Audience Analysis       |       Planning      |        </a:t>
            </a:r>
            <a:r>
              <a:rPr b="1" lang="en-US" sz="1600" spc="-1" strike="noStrike">
                <a:solidFill>
                  <a:srgbClr val="543b27"/>
                </a:solidFill>
                <a:latin typeface="Calibri"/>
              </a:rPr>
              <a:t>Drafting</a:t>
            </a:r>
            <a:r>
              <a:rPr b="0" lang="en-US" sz="1600" spc="-1" strike="noStrike">
                <a:solidFill>
                  <a:srgbClr val="543b27"/>
                </a:solidFill>
                <a:latin typeface="Calibri"/>
              </a:rPr>
              <a:t>       |       Revising       |       Proofreading</a:t>
            </a:r>
            <a:endParaRPr b="0" lang="en-US" sz="1600" spc="-1" strike="noStrike">
              <a:solidFill>
                <a:srgbClr val="672f7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Freeform 10"/>
          <p:cNvSpPr/>
          <p:nvPr/>
        </p:nvSpPr>
        <p:spPr>
          <a:xfrm>
            <a:off x="152280" y="152280"/>
            <a:ext cx="8839440" cy="15876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543b27"/>
          </a:solidFill>
          <a:ln w="5076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528" name="Title 1"/>
          <p:cNvSpPr/>
          <p:nvPr/>
        </p:nvSpPr>
        <p:spPr>
          <a:xfrm>
            <a:off x="457200" y="3808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913"/>
                </a:solidFill>
                <a:latin typeface="Trebuchet MS"/>
              </a:rPr>
              <a:t>[Click to edit Master title style]</a:t>
            </a:r>
            <a:endParaRPr b="0" lang="en-US" sz="4400" spc="-1" strike="noStrike">
              <a:solidFill>
                <a:srgbClr val="672f70"/>
              </a:solidFill>
              <a:latin typeface="Arial"/>
            </a:endParaRPr>
          </a:p>
        </p:txBody>
      </p:sp>
      <p:sp>
        <p:nvSpPr>
          <p:cNvPr id="529" name="Text Box 12"/>
          <p:cNvSpPr/>
          <p:nvPr/>
        </p:nvSpPr>
        <p:spPr>
          <a:xfrm rot="16200000">
            <a:off x="-810000" y="5823720"/>
            <a:ext cx="1838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96c18"/>
                </a:solidFill>
                <a:latin typeface="Arial"/>
              </a:rPr>
              <a:t>Copyright © 2012 Cengage Learning</a:t>
            </a:r>
            <a:endParaRPr b="0" lang="en-US" sz="800" spc="-1" strike="noStrike">
              <a:solidFill>
                <a:srgbClr val="672f70"/>
              </a:solidFill>
              <a:latin typeface="Arial"/>
            </a:endParaRPr>
          </a:p>
        </p:txBody>
      </p:sp>
      <p:sp>
        <p:nvSpPr>
          <p:cNvPr id="530" name="Freeform 10"/>
          <p:cNvSpPr/>
          <p:nvPr/>
        </p:nvSpPr>
        <p:spPr>
          <a:xfrm>
            <a:off x="5675400" y="6224760"/>
            <a:ext cx="1280880" cy="4572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fdb913"/>
          </a:solidFill>
          <a:ln w="1260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531" name="Freeform 10"/>
          <p:cNvSpPr/>
          <p:nvPr/>
        </p:nvSpPr>
        <p:spPr>
          <a:xfrm>
            <a:off x="152280" y="152280"/>
            <a:ext cx="8839440" cy="15876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543b27"/>
          </a:solidFill>
          <a:ln w="5076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532" name="TextBox 7"/>
          <p:cNvSpPr/>
          <p:nvPr/>
        </p:nvSpPr>
        <p:spPr>
          <a:xfrm>
            <a:off x="380880" y="6248520"/>
            <a:ext cx="853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3b27"/>
                </a:solidFill>
                <a:latin typeface="Calibri"/>
              </a:rPr>
              <a:t>          </a:t>
            </a:r>
            <a:r>
              <a:rPr b="0" lang="en-US" sz="1600" spc="-1" strike="noStrike">
                <a:solidFill>
                  <a:srgbClr val="543b27"/>
                </a:solidFill>
                <a:latin typeface="Calibri"/>
              </a:rPr>
              <a:t>Audience Analysis       |       Planning      |        Drafting       |       </a:t>
            </a:r>
            <a:r>
              <a:rPr b="1" lang="en-US" sz="1600" spc="-1" strike="noStrike">
                <a:solidFill>
                  <a:srgbClr val="543b27"/>
                </a:solidFill>
                <a:latin typeface="Calibri"/>
              </a:rPr>
              <a:t>Revising</a:t>
            </a:r>
            <a:r>
              <a:rPr b="0" lang="en-US" sz="1600" spc="-1" strike="noStrike">
                <a:solidFill>
                  <a:srgbClr val="543b27"/>
                </a:solidFill>
                <a:latin typeface="Calibri"/>
              </a:rPr>
              <a:t>       |       Proofreading</a:t>
            </a:r>
            <a:endParaRPr b="0" lang="en-US" sz="1600" spc="-1" strike="noStrike">
              <a:solidFill>
                <a:srgbClr val="672f7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Freeform 10"/>
          <p:cNvSpPr/>
          <p:nvPr/>
        </p:nvSpPr>
        <p:spPr>
          <a:xfrm>
            <a:off x="152280" y="152280"/>
            <a:ext cx="8839440" cy="15876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543b27"/>
          </a:solidFill>
          <a:ln w="5076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570" name="Title 1"/>
          <p:cNvSpPr/>
          <p:nvPr/>
        </p:nvSpPr>
        <p:spPr>
          <a:xfrm>
            <a:off x="457200" y="3808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913"/>
                </a:solidFill>
                <a:latin typeface="Trebuchet MS"/>
              </a:rPr>
              <a:t>[Click to edit Master title style]</a:t>
            </a:r>
            <a:endParaRPr b="0" lang="en-US" sz="4400" spc="-1" strike="noStrike">
              <a:solidFill>
                <a:srgbClr val="672f70"/>
              </a:solidFill>
              <a:latin typeface="Arial"/>
            </a:endParaRPr>
          </a:p>
        </p:txBody>
      </p:sp>
      <p:sp>
        <p:nvSpPr>
          <p:cNvPr id="571" name="Text Box 12"/>
          <p:cNvSpPr/>
          <p:nvPr/>
        </p:nvSpPr>
        <p:spPr>
          <a:xfrm rot="16200000">
            <a:off x="-810000" y="5823720"/>
            <a:ext cx="1838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96c18"/>
                </a:solidFill>
                <a:latin typeface="Arial"/>
              </a:rPr>
              <a:t>Copyright © 2012 Cengage Learning</a:t>
            </a:r>
            <a:endParaRPr b="0" lang="en-US" sz="800" spc="-1" strike="noStrike">
              <a:solidFill>
                <a:srgbClr val="672f70"/>
              </a:solidFill>
              <a:latin typeface="Arial"/>
            </a:endParaRPr>
          </a:p>
        </p:txBody>
      </p:sp>
      <p:sp>
        <p:nvSpPr>
          <p:cNvPr id="572" name="Freeform 10"/>
          <p:cNvSpPr/>
          <p:nvPr/>
        </p:nvSpPr>
        <p:spPr>
          <a:xfrm>
            <a:off x="152280" y="152280"/>
            <a:ext cx="8839440" cy="15876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543b27"/>
          </a:solidFill>
          <a:ln w="5076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573" name="Freeform 10"/>
          <p:cNvSpPr/>
          <p:nvPr/>
        </p:nvSpPr>
        <p:spPr>
          <a:xfrm>
            <a:off x="7203960" y="6224760"/>
            <a:ext cx="1524240" cy="4572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fdb913"/>
          </a:solidFill>
          <a:ln w="1260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574" name="TextBox 7"/>
          <p:cNvSpPr/>
          <p:nvPr/>
        </p:nvSpPr>
        <p:spPr>
          <a:xfrm>
            <a:off x="380880" y="6248520"/>
            <a:ext cx="853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3b27"/>
                </a:solidFill>
                <a:latin typeface="Calibri"/>
              </a:rPr>
              <a:t>          </a:t>
            </a:r>
            <a:r>
              <a:rPr b="0" lang="en-US" sz="1600" spc="-1" strike="noStrike">
                <a:solidFill>
                  <a:srgbClr val="543b27"/>
                </a:solidFill>
                <a:latin typeface="Calibri"/>
              </a:rPr>
              <a:t>Audience Analysis       |       Planning      |        Drafting       |       Revising       |       </a:t>
            </a:r>
            <a:r>
              <a:rPr b="1" lang="en-US" sz="1600" spc="-1" strike="noStrike">
                <a:solidFill>
                  <a:srgbClr val="543b27"/>
                </a:solidFill>
                <a:latin typeface="Calibri"/>
              </a:rPr>
              <a:t>Proofreading</a:t>
            </a:r>
            <a:endParaRPr b="0" lang="en-US" sz="1600" spc="-1" strike="noStrike">
              <a:solidFill>
                <a:srgbClr val="672f7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Freeform 10"/>
          <p:cNvSpPr/>
          <p:nvPr/>
        </p:nvSpPr>
        <p:spPr>
          <a:xfrm>
            <a:off x="152280" y="152280"/>
            <a:ext cx="8839440" cy="15876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543b27"/>
          </a:solidFill>
          <a:ln w="5076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612" name="Title 1"/>
          <p:cNvSpPr/>
          <p:nvPr/>
        </p:nvSpPr>
        <p:spPr>
          <a:xfrm>
            <a:off x="457200" y="3808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913"/>
                </a:solidFill>
                <a:latin typeface="Trebuchet MS"/>
              </a:rPr>
              <a:t>[Click to edit Master title style]</a:t>
            </a:r>
            <a:endParaRPr b="0" lang="en-US" sz="4400" spc="-1" strike="noStrike">
              <a:solidFill>
                <a:srgbClr val="672f70"/>
              </a:solidFill>
              <a:latin typeface="Arial"/>
            </a:endParaRPr>
          </a:p>
        </p:txBody>
      </p:sp>
      <p:sp>
        <p:nvSpPr>
          <p:cNvPr id="613" name="Text Box 12"/>
          <p:cNvSpPr/>
          <p:nvPr/>
        </p:nvSpPr>
        <p:spPr>
          <a:xfrm rot="16200000">
            <a:off x="-810000" y="5823720"/>
            <a:ext cx="1838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96c18"/>
                </a:solidFill>
                <a:latin typeface="Arial"/>
              </a:rPr>
              <a:t>Copyright © 2012 Cengage Learning</a:t>
            </a:r>
            <a:endParaRPr b="0" lang="en-US" sz="800" spc="-1" strike="noStrike">
              <a:solidFill>
                <a:srgbClr val="672f70"/>
              </a:solidFill>
              <a:latin typeface="Arial"/>
            </a:endParaRPr>
          </a:p>
        </p:txBody>
      </p:sp>
      <p:sp>
        <p:nvSpPr>
          <p:cNvPr id="614" name="Freeform 10"/>
          <p:cNvSpPr/>
          <p:nvPr/>
        </p:nvSpPr>
        <p:spPr>
          <a:xfrm>
            <a:off x="152280" y="152280"/>
            <a:ext cx="8839440" cy="15876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543b27"/>
          </a:solidFill>
          <a:ln w="5076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Rectangle 6"/>
          <p:cNvSpPr/>
          <p:nvPr/>
        </p:nvSpPr>
        <p:spPr>
          <a:xfrm>
            <a:off x="0" y="0"/>
            <a:ext cx="9144000" cy="6858000"/>
          </a:xfrm>
          <a:prstGeom prst="rect">
            <a:avLst/>
          </a:prstGeom>
          <a:solidFill>
            <a:srgbClr val="543b2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2f70"/>
              </a:solidFill>
              <a:latin typeface="Arial"/>
            </a:endParaRPr>
          </a:p>
        </p:txBody>
      </p:sp>
      <p:sp>
        <p:nvSpPr>
          <p:cNvPr id="652" name="Freeform 8"/>
          <p:cNvSpPr/>
          <p:nvPr/>
        </p:nvSpPr>
        <p:spPr>
          <a:xfrm>
            <a:off x="228600" y="0"/>
            <a:ext cx="2971800" cy="895320"/>
          </a:xfrm>
          <a:custGeom>
            <a:avLst/>
            <a:gdLst/>
            <a:ahLst/>
            <a:rect l="l" t="t" r="r" b="b"/>
            <a:pathLst>
              <a:path w="1632" h="492">
                <a:moveTo>
                  <a:pt x="1632" y="0"/>
                </a:moveTo>
                <a:lnTo>
                  <a:pt x="1632" y="372"/>
                </a:lnTo>
                <a:lnTo>
                  <a:pt x="1632" y="372"/>
                </a:lnTo>
                <a:lnTo>
                  <a:pt x="1630" y="384"/>
                </a:lnTo>
                <a:lnTo>
                  <a:pt x="1628" y="396"/>
                </a:lnTo>
                <a:lnTo>
                  <a:pt x="1622" y="420"/>
                </a:lnTo>
                <a:lnTo>
                  <a:pt x="1610" y="440"/>
                </a:lnTo>
                <a:lnTo>
                  <a:pt x="1596" y="458"/>
                </a:lnTo>
                <a:lnTo>
                  <a:pt x="1578" y="472"/>
                </a:lnTo>
                <a:lnTo>
                  <a:pt x="1558" y="484"/>
                </a:lnTo>
                <a:lnTo>
                  <a:pt x="1536" y="490"/>
                </a:lnTo>
                <a:lnTo>
                  <a:pt x="1524" y="492"/>
                </a:lnTo>
                <a:lnTo>
                  <a:pt x="1512" y="492"/>
                </a:lnTo>
                <a:lnTo>
                  <a:pt x="120" y="492"/>
                </a:lnTo>
                <a:lnTo>
                  <a:pt x="120" y="492"/>
                </a:lnTo>
                <a:lnTo>
                  <a:pt x="108" y="492"/>
                </a:lnTo>
                <a:lnTo>
                  <a:pt x="96" y="490"/>
                </a:lnTo>
                <a:lnTo>
                  <a:pt x="72" y="484"/>
                </a:lnTo>
                <a:lnTo>
                  <a:pt x="52" y="472"/>
                </a:lnTo>
                <a:lnTo>
                  <a:pt x="34" y="458"/>
                </a:lnTo>
                <a:lnTo>
                  <a:pt x="20" y="440"/>
                </a:lnTo>
                <a:lnTo>
                  <a:pt x="8" y="420"/>
                </a:lnTo>
                <a:lnTo>
                  <a:pt x="2" y="396"/>
                </a:lnTo>
                <a:lnTo>
                  <a:pt x="0" y="384"/>
                </a:lnTo>
                <a:lnTo>
                  <a:pt x="0" y="372"/>
                </a:lnTo>
                <a:lnTo>
                  <a:pt x="0" y="0"/>
                </a:lnTo>
                <a:lnTo>
                  <a:pt x="1632" y="0"/>
                </a:lnTo>
                <a:close/>
              </a:path>
            </a:pathLst>
          </a:custGeom>
          <a:solidFill>
            <a:srgbClr val="fdb913"/>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653" name="Text Placeholder 6"/>
          <p:cNvSpPr/>
          <p:nvPr/>
        </p:nvSpPr>
        <p:spPr>
          <a:xfrm>
            <a:off x="336600" y="165240"/>
            <a:ext cx="2819520" cy="838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3b27"/>
                </a:solidFill>
                <a:latin typeface="Tempus Sans ITC"/>
                <a:ea typeface="JasmineUPC"/>
              </a:rPr>
              <a:t>Video Example</a:t>
            </a:r>
            <a:endParaRPr b="0" lang="en-US" sz="3200" spc="-1" strike="noStrike">
              <a:solidFill>
                <a:srgbClr val="672f70"/>
              </a:solidFill>
              <a:latin typeface="Arial"/>
            </a:endParaRPr>
          </a:p>
        </p:txBody>
      </p:sp>
      <p:sp>
        <p:nvSpPr>
          <p:cNvPr id="654" name="Text Box 12"/>
          <p:cNvSpPr/>
          <p:nvPr/>
        </p:nvSpPr>
        <p:spPr>
          <a:xfrm rot="16200000">
            <a:off x="-810000" y="5823720"/>
            <a:ext cx="1838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96c18"/>
                </a:solidFill>
                <a:latin typeface="Arial"/>
              </a:rPr>
              <a:t>Copyright © 2012 Cengage Learning</a:t>
            </a:r>
            <a:endParaRPr b="0" lang="en-US" sz="800" spc="-1" strike="noStrike">
              <a:solidFill>
                <a:srgbClr val="672f70"/>
              </a:solidFill>
              <a:latin typeface="Arial"/>
            </a:endParaRPr>
          </a:p>
        </p:txBody>
      </p:sp>
      <p:sp>
        <p:nvSpPr>
          <p:cNvPr id="655" name="Freeform 10"/>
          <p:cNvSpPr/>
          <p:nvPr/>
        </p:nvSpPr>
        <p:spPr>
          <a:xfrm>
            <a:off x="841320" y="6221520"/>
            <a:ext cx="1687680" cy="4572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fdb913"/>
          </a:solidFill>
          <a:ln w="1260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656" name="TextBox 10"/>
          <p:cNvSpPr/>
          <p:nvPr/>
        </p:nvSpPr>
        <p:spPr>
          <a:xfrm>
            <a:off x="380880" y="6248520"/>
            <a:ext cx="853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96c18"/>
                </a:solidFill>
                <a:latin typeface="Calibri"/>
              </a:rPr>
              <a:t>          </a:t>
            </a:r>
            <a:r>
              <a:rPr b="1" lang="en-US" sz="1600" spc="-1" strike="noStrike">
                <a:solidFill>
                  <a:srgbClr val="543b27"/>
                </a:solidFill>
                <a:latin typeface="Calibri"/>
              </a:rPr>
              <a:t>Audience Analysis</a:t>
            </a:r>
            <a:r>
              <a:rPr b="0" lang="en-US" sz="1600" spc="-1" strike="noStrike">
                <a:solidFill>
                  <a:srgbClr val="543b27"/>
                </a:solidFill>
                <a:latin typeface="Calibri"/>
              </a:rPr>
              <a:t>       </a:t>
            </a:r>
            <a:r>
              <a:rPr b="0" lang="en-US" sz="1600" spc="-1" strike="noStrike">
                <a:solidFill>
                  <a:srgbClr val="c96c18"/>
                </a:solidFill>
                <a:latin typeface="Calibri"/>
              </a:rPr>
              <a:t>|       Planning      |        Drafting       |       Revising       |       Proofreading</a:t>
            </a:r>
            <a:endParaRPr b="0" lang="en-US" sz="1600" spc="-1" strike="noStrike">
              <a:solidFill>
                <a:srgbClr val="672f70"/>
              </a:solidFill>
              <a:latin typeface="Arial"/>
            </a:endParaRPr>
          </a:p>
        </p:txBody>
      </p:sp>
      <p:sp>
        <p:nvSpPr>
          <p:cNvPr id="657" name="PlaceHolder 1"/>
          <p:cNvSpPr>
            <a:spLocks noGrp="1"/>
          </p:cNvSpPr>
          <p:nvPr>
            <p:ph type="title"/>
          </p:nvPr>
        </p:nvSpPr>
        <p:spPr>
          <a:xfrm>
            <a:off x="3352680" y="120600"/>
            <a:ext cx="5562720" cy="641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b913"/>
                </a:solidFill>
                <a:latin typeface="Calibri"/>
              </a:rPr>
              <a:t>Click to edit the title text format</a:t>
            </a:r>
            <a:endParaRPr b="0" lang="en-US" sz="3600" spc="-1" strike="noStrike">
              <a:solidFill>
                <a:srgbClr val="fdb913"/>
              </a:solidFill>
              <a:latin typeface="Calibri"/>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Rectangle 6"/>
          <p:cNvSpPr/>
          <p:nvPr/>
        </p:nvSpPr>
        <p:spPr>
          <a:xfrm>
            <a:off x="0" y="0"/>
            <a:ext cx="9144000" cy="6858000"/>
          </a:xfrm>
          <a:prstGeom prst="rect">
            <a:avLst/>
          </a:prstGeom>
          <a:solidFill>
            <a:srgbClr val="543b2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2f70"/>
              </a:solidFill>
              <a:latin typeface="Arial"/>
            </a:endParaRPr>
          </a:p>
        </p:txBody>
      </p:sp>
      <p:sp>
        <p:nvSpPr>
          <p:cNvPr id="695" name="Freeform 8"/>
          <p:cNvSpPr/>
          <p:nvPr/>
        </p:nvSpPr>
        <p:spPr>
          <a:xfrm>
            <a:off x="228600" y="0"/>
            <a:ext cx="2971800" cy="895320"/>
          </a:xfrm>
          <a:custGeom>
            <a:avLst/>
            <a:gdLst/>
            <a:ahLst/>
            <a:rect l="l" t="t" r="r" b="b"/>
            <a:pathLst>
              <a:path w="1632" h="492">
                <a:moveTo>
                  <a:pt x="1632" y="0"/>
                </a:moveTo>
                <a:lnTo>
                  <a:pt x="1632" y="372"/>
                </a:lnTo>
                <a:lnTo>
                  <a:pt x="1632" y="372"/>
                </a:lnTo>
                <a:lnTo>
                  <a:pt x="1630" y="384"/>
                </a:lnTo>
                <a:lnTo>
                  <a:pt x="1628" y="396"/>
                </a:lnTo>
                <a:lnTo>
                  <a:pt x="1622" y="420"/>
                </a:lnTo>
                <a:lnTo>
                  <a:pt x="1610" y="440"/>
                </a:lnTo>
                <a:lnTo>
                  <a:pt x="1596" y="458"/>
                </a:lnTo>
                <a:lnTo>
                  <a:pt x="1578" y="472"/>
                </a:lnTo>
                <a:lnTo>
                  <a:pt x="1558" y="484"/>
                </a:lnTo>
                <a:lnTo>
                  <a:pt x="1536" y="490"/>
                </a:lnTo>
                <a:lnTo>
                  <a:pt x="1524" y="492"/>
                </a:lnTo>
                <a:lnTo>
                  <a:pt x="1512" y="492"/>
                </a:lnTo>
                <a:lnTo>
                  <a:pt x="120" y="492"/>
                </a:lnTo>
                <a:lnTo>
                  <a:pt x="120" y="492"/>
                </a:lnTo>
                <a:lnTo>
                  <a:pt x="108" y="492"/>
                </a:lnTo>
                <a:lnTo>
                  <a:pt x="96" y="490"/>
                </a:lnTo>
                <a:lnTo>
                  <a:pt x="72" y="484"/>
                </a:lnTo>
                <a:lnTo>
                  <a:pt x="52" y="472"/>
                </a:lnTo>
                <a:lnTo>
                  <a:pt x="34" y="458"/>
                </a:lnTo>
                <a:lnTo>
                  <a:pt x="20" y="440"/>
                </a:lnTo>
                <a:lnTo>
                  <a:pt x="8" y="420"/>
                </a:lnTo>
                <a:lnTo>
                  <a:pt x="2" y="396"/>
                </a:lnTo>
                <a:lnTo>
                  <a:pt x="0" y="384"/>
                </a:lnTo>
                <a:lnTo>
                  <a:pt x="0" y="372"/>
                </a:lnTo>
                <a:lnTo>
                  <a:pt x="0" y="0"/>
                </a:lnTo>
                <a:lnTo>
                  <a:pt x="1632" y="0"/>
                </a:lnTo>
                <a:close/>
              </a:path>
            </a:pathLst>
          </a:custGeom>
          <a:solidFill>
            <a:srgbClr val="fdb913"/>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696" name="Text Placeholder 6"/>
          <p:cNvSpPr/>
          <p:nvPr/>
        </p:nvSpPr>
        <p:spPr>
          <a:xfrm>
            <a:off x="336600" y="165240"/>
            <a:ext cx="2819520" cy="838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3b27"/>
                </a:solidFill>
                <a:latin typeface="Tempus Sans ITC"/>
                <a:ea typeface="JasmineUPC"/>
              </a:rPr>
              <a:t>Video Example</a:t>
            </a:r>
            <a:endParaRPr b="0" lang="en-US" sz="3200" spc="-1" strike="noStrike">
              <a:solidFill>
                <a:srgbClr val="672f70"/>
              </a:solidFill>
              <a:latin typeface="Arial"/>
            </a:endParaRPr>
          </a:p>
        </p:txBody>
      </p:sp>
      <p:sp>
        <p:nvSpPr>
          <p:cNvPr id="697" name="Text Box 12"/>
          <p:cNvSpPr/>
          <p:nvPr/>
        </p:nvSpPr>
        <p:spPr>
          <a:xfrm rot="16200000">
            <a:off x="-810000" y="5823720"/>
            <a:ext cx="1838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96c18"/>
                </a:solidFill>
                <a:latin typeface="Arial"/>
              </a:rPr>
              <a:t>Copyright © 2012 Cengage Learning</a:t>
            </a:r>
            <a:endParaRPr b="0" lang="en-US" sz="800" spc="-1" strike="noStrike">
              <a:solidFill>
                <a:srgbClr val="672f70"/>
              </a:solidFill>
              <a:latin typeface="Arial"/>
            </a:endParaRPr>
          </a:p>
        </p:txBody>
      </p:sp>
      <p:sp>
        <p:nvSpPr>
          <p:cNvPr id="698" name="Freeform 10"/>
          <p:cNvSpPr/>
          <p:nvPr/>
        </p:nvSpPr>
        <p:spPr>
          <a:xfrm>
            <a:off x="2857680" y="6237360"/>
            <a:ext cx="1265040" cy="4572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fdb913"/>
          </a:solidFill>
          <a:ln w="1260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699" name="TextBox 10"/>
          <p:cNvSpPr/>
          <p:nvPr/>
        </p:nvSpPr>
        <p:spPr>
          <a:xfrm>
            <a:off x="380880" y="6248520"/>
            <a:ext cx="853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96c18"/>
                </a:solidFill>
                <a:latin typeface="Calibri"/>
              </a:rPr>
              <a:t>          </a:t>
            </a:r>
            <a:r>
              <a:rPr b="0" lang="en-US" sz="1600" spc="-1" strike="noStrike">
                <a:solidFill>
                  <a:srgbClr val="c96c18"/>
                </a:solidFill>
                <a:latin typeface="Calibri"/>
              </a:rPr>
              <a:t>Audience Analysis       |       </a:t>
            </a:r>
            <a:r>
              <a:rPr b="1" lang="en-US" sz="1600" spc="-1" strike="noStrike">
                <a:solidFill>
                  <a:srgbClr val="543b27"/>
                </a:solidFill>
                <a:latin typeface="Calibri"/>
              </a:rPr>
              <a:t>Planning</a:t>
            </a:r>
            <a:r>
              <a:rPr b="0" lang="en-US" sz="1600" spc="-1" strike="noStrike">
                <a:solidFill>
                  <a:srgbClr val="c96c18"/>
                </a:solidFill>
                <a:latin typeface="Calibri"/>
              </a:rPr>
              <a:t>      |        Drafting       |       Revising       |       Proofreading</a:t>
            </a:r>
            <a:endParaRPr b="0" lang="en-US" sz="1600" spc="-1" strike="noStrike">
              <a:solidFill>
                <a:srgbClr val="672f70"/>
              </a:solidFill>
              <a:latin typeface="Arial"/>
            </a:endParaRPr>
          </a:p>
        </p:txBody>
      </p:sp>
      <p:sp>
        <p:nvSpPr>
          <p:cNvPr id="700" name="PlaceHolder 1"/>
          <p:cNvSpPr>
            <a:spLocks noGrp="1"/>
          </p:cNvSpPr>
          <p:nvPr>
            <p:ph type="title"/>
          </p:nvPr>
        </p:nvSpPr>
        <p:spPr>
          <a:xfrm>
            <a:off x="3352680" y="120600"/>
            <a:ext cx="5562720" cy="641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b913"/>
                </a:solidFill>
                <a:latin typeface="Calibri"/>
              </a:rPr>
              <a:t>Click to edit the title text format</a:t>
            </a:r>
            <a:endParaRPr b="0" lang="en-US" sz="3600" spc="-1" strike="noStrike">
              <a:solidFill>
                <a:srgbClr val="fdb913"/>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Rectangle 6"/>
          <p:cNvSpPr/>
          <p:nvPr/>
        </p:nvSpPr>
        <p:spPr>
          <a:xfrm>
            <a:off x="0" y="0"/>
            <a:ext cx="9144000" cy="6858000"/>
          </a:xfrm>
          <a:prstGeom prst="rect">
            <a:avLst/>
          </a:prstGeom>
          <a:solidFill>
            <a:srgbClr val="543b2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2f70"/>
              </a:solidFill>
              <a:latin typeface="Arial"/>
            </a:endParaRPr>
          </a:p>
        </p:txBody>
      </p:sp>
      <p:sp>
        <p:nvSpPr>
          <p:cNvPr id="738" name="Freeform 8"/>
          <p:cNvSpPr/>
          <p:nvPr/>
        </p:nvSpPr>
        <p:spPr>
          <a:xfrm>
            <a:off x="228600" y="0"/>
            <a:ext cx="2971800" cy="895320"/>
          </a:xfrm>
          <a:custGeom>
            <a:avLst/>
            <a:gdLst/>
            <a:ahLst/>
            <a:rect l="l" t="t" r="r" b="b"/>
            <a:pathLst>
              <a:path w="1632" h="492">
                <a:moveTo>
                  <a:pt x="1632" y="0"/>
                </a:moveTo>
                <a:lnTo>
                  <a:pt x="1632" y="372"/>
                </a:lnTo>
                <a:lnTo>
                  <a:pt x="1632" y="372"/>
                </a:lnTo>
                <a:lnTo>
                  <a:pt x="1630" y="384"/>
                </a:lnTo>
                <a:lnTo>
                  <a:pt x="1628" y="396"/>
                </a:lnTo>
                <a:lnTo>
                  <a:pt x="1622" y="420"/>
                </a:lnTo>
                <a:lnTo>
                  <a:pt x="1610" y="440"/>
                </a:lnTo>
                <a:lnTo>
                  <a:pt x="1596" y="458"/>
                </a:lnTo>
                <a:lnTo>
                  <a:pt x="1578" y="472"/>
                </a:lnTo>
                <a:lnTo>
                  <a:pt x="1558" y="484"/>
                </a:lnTo>
                <a:lnTo>
                  <a:pt x="1536" y="490"/>
                </a:lnTo>
                <a:lnTo>
                  <a:pt x="1524" y="492"/>
                </a:lnTo>
                <a:lnTo>
                  <a:pt x="1512" y="492"/>
                </a:lnTo>
                <a:lnTo>
                  <a:pt x="120" y="492"/>
                </a:lnTo>
                <a:lnTo>
                  <a:pt x="120" y="492"/>
                </a:lnTo>
                <a:lnTo>
                  <a:pt x="108" y="492"/>
                </a:lnTo>
                <a:lnTo>
                  <a:pt x="96" y="490"/>
                </a:lnTo>
                <a:lnTo>
                  <a:pt x="72" y="484"/>
                </a:lnTo>
                <a:lnTo>
                  <a:pt x="52" y="472"/>
                </a:lnTo>
                <a:lnTo>
                  <a:pt x="34" y="458"/>
                </a:lnTo>
                <a:lnTo>
                  <a:pt x="20" y="440"/>
                </a:lnTo>
                <a:lnTo>
                  <a:pt x="8" y="420"/>
                </a:lnTo>
                <a:lnTo>
                  <a:pt x="2" y="396"/>
                </a:lnTo>
                <a:lnTo>
                  <a:pt x="0" y="384"/>
                </a:lnTo>
                <a:lnTo>
                  <a:pt x="0" y="372"/>
                </a:lnTo>
                <a:lnTo>
                  <a:pt x="0" y="0"/>
                </a:lnTo>
                <a:lnTo>
                  <a:pt x="1632" y="0"/>
                </a:lnTo>
                <a:close/>
              </a:path>
            </a:pathLst>
          </a:custGeom>
          <a:solidFill>
            <a:srgbClr val="fdb913"/>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739" name="Text Placeholder 6"/>
          <p:cNvSpPr/>
          <p:nvPr/>
        </p:nvSpPr>
        <p:spPr>
          <a:xfrm>
            <a:off x="336600" y="165240"/>
            <a:ext cx="2819520" cy="838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3b27"/>
                </a:solidFill>
                <a:latin typeface="Tempus Sans ITC"/>
                <a:ea typeface="JasmineUPC"/>
              </a:rPr>
              <a:t>Video Example</a:t>
            </a:r>
            <a:endParaRPr b="0" lang="en-US" sz="3200" spc="-1" strike="noStrike">
              <a:solidFill>
                <a:srgbClr val="672f70"/>
              </a:solidFill>
              <a:latin typeface="Arial"/>
            </a:endParaRPr>
          </a:p>
        </p:txBody>
      </p:sp>
      <p:sp>
        <p:nvSpPr>
          <p:cNvPr id="740" name="Text Box 12"/>
          <p:cNvSpPr/>
          <p:nvPr/>
        </p:nvSpPr>
        <p:spPr>
          <a:xfrm rot="16200000">
            <a:off x="-810000" y="5823720"/>
            <a:ext cx="1838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96c18"/>
                </a:solidFill>
                <a:latin typeface="Arial"/>
              </a:rPr>
              <a:t>Copyright © 2012 Cengage Learning</a:t>
            </a:r>
            <a:endParaRPr b="0" lang="en-US" sz="800" spc="-1" strike="noStrike">
              <a:solidFill>
                <a:srgbClr val="672f70"/>
              </a:solidFill>
              <a:latin typeface="Arial"/>
            </a:endParaRPr>
          </a:p>
        </p:txBody>
      </p:sp>
      <p:sp>
        <p:nvSpPr>
          <p:cNvPr id="741" name="Freeform 10"/>
          <p:cNvSpPr/>
          <p:nvPr/>
        </p:nvSpPr>
        <p:spPr>
          <a:xfrm>
            <a:off x="4281480" y="6248520"/>
            <a:ext cx="1255680" cy="4572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fdb913"/>
          </a:solidFill>
          <a:ln w="1260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742" name="TextBox 10"/>
          <p:cNvSpPr/>
          <p:nvPr/>
        </p:nvSpPr>
        <p:spPr>
          <a:xfrm>
            <a:off x="380880" y="6248520"/>
            <a:ext cx="853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96c18"/>
                </a:solidFill>
                <a:latin typeface="Calibri"/>
              </a:rPr>
              <a:t>          </a:t>
            </a:r>
            <a:r>
              <a:rPr b="0" lang="en-US" sz="1600" spc="-1" strike="noStrike">
                <a:solidFill>
                  <a:srgbClr val="c96c18"/>
                </a:solidFill>
                <a:latin typeface="Calibri"/>
              </a:rPr>
              <a:t>Audience Analysis       |       Planning      |        </a:t>
            </a:r>
            <a:r>
              <a:rPr b="1" lang="en-US" sz="1600" spc="-1" strike="noStrike">
                <a:solidFill>
                  <a:srgbClr val="543b27"/>
                </a:solidFill>
                <a:latin typeface="Calibri"/>
              </a:rPr>
              <a:t>Drafting </a:t>
            </a:r>
            <a:r>
              <a:rPr b="0" lang="en-US" sz="1600" spc="-1" strike="noStrike">
                <a:solidFill>
                  <a:srgbClr val="c96c18"/>
                </a:solidFill>
                <a:latin typeface="Calibri"/>
              </a:rPr>
              <a:t>      |       Revising       |       Proofreading</a:t>
            </a:r>
            <a:endParaRPr b="0" lang="en-US" sz="1600" spc="-1" strike="noStrike">
              <a:solidFill>
                <a:srgbClr val="672f70"/>
              </a:solidFill>
              <a:latin typeface="Arial"/>
            </a:endParaRPr>
          </a:p>
        </p:txBody>
      </p:sp>
      <p:sp>
        <p:nvSpPr>
          <p:cNvPr id="743" name="PlaceHolder 1"/>
          <p:cNvSpPr>
            <a:spLocks noGrp="1"/>
          </p:cNvSpPr>
          <p:nvPr>
            <p:ph type="title"/>
          </p:nvPr>
        </p:nvSpPr>
        <p:spPr>
          <a:xfrm>
            <a:off x="3352680" y="120600"/>
            <a:ext cx="5562720" cy="641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b913"/>
                </a:solidFill>
                <a:latin typeface="Calibri"/>
              </a:rPr>
              <a:t>Click to edit the title text format</a:t>
            </a:r>
            <a:endParaRPr b="0" lang="en-US" sz="3600" spc="-1" strike="noStrike">
              <a:solidFill>
                <a:srgbClr val="fdb913"/>
              </a:solidFill>
              <a:latin typeface="Calibri"/>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3b27"/>
        </a:solidFill>
      </p:bgPr>
    </p:bg>
    <p:spTree>
      <p:nvGrpSpPr>
        <p:cNvPr id="1" name=""/>
        <p:cNvGrpSpPr/>
        <p:nvPr/>
      </p:nvGrpSpPr>
      <p:grpSpPr>
        <a:xfrm>
          <a:off x="0" y="0"/>
          <a:ext cx="0" cy="0"/>
          <a:chOff x="0" y="0"/>
          <a:chExt cx="0" cy="0"/>
        </a:xfrm>
      </p:grpSpPr>
      <p:sp>
        <p:nvSpPr>
          <p:cNvPr id="41" name="Text Box 12"/>
          <p:cNvSpPr/>
          <p:nvPr/>
        </p:nvSpPr>
        <p:spPr>
          <a:xfrm>
            <a:off x="6840" y="6643800"/>
            <a:ext cx="1838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96c18"/>
                </a:solidFill>
                <a:latin typeface="Arial"/>
              </a:rPr>
              <a:t>Copyright © 2012 Cengage Learning</a:t>
            </a:r>
            <a:endParaRPr b="0" lang="en-US" sz="800" spc="-1" strike="noStrike">
              <a:solidFill>
                <a:srgbClr val="672f70"/>
              </a:solidFill>
              <a:latin typeface="Arial"/>
            </a:endParaRPr>
          </a:p>
        </p:txBody>
      </p:sp>
      <p:sp>
        <p:nvSpPr>
          <p:cNvPr id="42" name="Rectangle 3"/>
          <p:cNvSpPr/>
          <p:nvPr/>
        </p:nvSpPr>
        <p:spPr>
          <a:xfrm>
            <a:off x="152280" y="228600"/>
            <a:ext cx="8839440" cy="6400800"/>
          </a:xfrm>
          <a:prstGeom prst="rect">
            <a:avLst/>
          </a:prstGeom>
          <a:noFill/>
          <a:ln w="25560">
            <a:solidFill>
              <a:srgbClr val="fdb91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2f70"/>
              </a:solidFill>
              <a:latin typeface="Arial"/>
            </a:endParaRPr>
          </a:p>
        </p:txBody>
      </p:sp>
      <p:sp>
        <p:nvSpPr>
          <p:cNvPr id="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Rectangle 6"/>
          <p:cNvSpPr/>
          <p:nvPr/>
        </p:nvSpPr>
        <p:spPr>
          <a:xfrm>
            <a:off x="0" y="0"/>
            <a:ext cx="9144000" cy="6858000"/>
          </a:xfrm>
          <a:prstGeom prst="rect">
            <a:avLst/>
          </a:prstGeom>
          <a:solidFill>
            <a:srgbClr val="543b2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2f70"/>
              </a:solidFill>
              <a:latin typeface="Arial"/>
            </a:endParaRPr>
          </a:p>
        </p:txBody>
      </p:sp>
      <p:sp>
        <p:nvSpPr>
          <p:cNvPr id="781" name="Freeform 8"/>
          <p:cNvSpPr/>
          <p:nvPr/>
        </p:nvSpPr>
        <p:spPr>
          <a:xfrm>
            <a:off x="228600" y="0"/>
            <a:ext cx="2971800" cy="895320"/>
          </a:xfrm>
          <a:custGeom>
            <a:avLst/>
            <a:gdLst/>
            <a:ahLst/>
            <a:rect l="l" t="t" r="r" b="b"/>
            <a:pathLst>
              <a:path w="1632" h="492">
                <a:moveTo>
                  <a:pt x="1632" y="0"/>
                </a:moveTo>
                <a:lnTo>
                  <a:pt x="1632" y="372"/>
                </a:lnTo>
                <a:lnTo>
                  <a:pt x="1632" y="372"/>
                </a:lnTo>
                <a:lnTo>
                  <a:pt x="1630" y="384"/>
                </a:lnTo>
                <a:lnTo>
                  <a:pt x="1628" y="396"/>
                </a:lnTo>
                <a:lnTo>
                  <a:pt x="1622" y="420"/>
                </a:lnTo>
                <a:lnTo>
                  <a:pt x="1610" y="440"/>
                </a:lnTo>
                <a:lnTo>
                  <a:pt x="1596" y="458"/>
                </a:lnTo>
                <a:lnTo>
                  <a:pt x="1578" y="472"/>
                </a:lnTo>
                <a:lnTo>
                  <a:pt x="1558" y="484"/>
                </a:lnTo>
                <a:lnTo>
                  <a:pt x="1536" y="490"/>
                </a:lnTo>
                <a:lnTo>
                  <a:pt x="1524" y="492"/>
                </a:lnTo>
                <a:lnTo>
                  <a:pt x="1512" y="492"/>
                </a:lnTo>
                <a:lnTo>
                  <a:pt x="120" y="492"/>
                </a:lnTo>
                <a:lnTo>
                  <a:pt x="120" y="492"/>
                </a:lnTo>
                <a:lnTo>
                  <a:pt x="108" y="492"/>
                </a:lnTo>
                <a:lnTo>
                  <a:pt x="96" y="490"/>
                </a:lnTo>
                <a:lnTo>
                  <a:pt x="72" y="484"/>
                </a:lnTo>
                <a:lnTo>
                  <a:pt x="52" y="472"/>
                </a:lnTo>
                <a:lnTo>
                  <a:pt x="34" y="458"/>
                </a:lnTo>
                <a:lnTo>
                  <a:pt x="20" y="440"/>
                </a:lnTo>
                <a:lnTo>
                  <a:pt x="8" y="420"/>
                </a:lnTo>
                <a:lnTo>
                  <a:pt x="2" y="396"/>
                </a:lnTo>
                <a:lnTo>
                  <a:pt x="0" y="384"/>
                </a:lnTo>
                <a:lnTo>
                  <a:pt x="0" y="372"/>
                </a:lnTo>
                <a:lnTo>
                  <a:pt x="0" y="0"/>
                </a:lnTo>
                <a:lnTo>
                  <a:pt x="1632" y="0"/>
                </a:lnTo>
                <a:close/>
              </a:path>
            </a:pathLst>
          </a:custGeom>
          <a:solidFill>
            <a:srgbClr val="fdb913"/>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782" name="Text Placeholder 6"/>
          <p:cNvSpPr/>
          <p:nvPr/>
        </p:nvSpPr>
        <p:spPr>
          <a:xfrm>
            <a:off x="336600" y="165240"/>
            <a:ext cx="2819520" cy="838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3b27"/>
                </a:solidFill>
                <a:latin typeface="Tempus Sans ITC"/>
                <a:ea typeface="JasmineUPC"/>
              </a:rPr>
              <a:t>Video Example</a:t>
            </a:r>
            <a:endParaRPr b="0" lang="en-US" sz="3200" spc="-1" strike="noStrike">
              <a:solidFill>
                <a:srgbClr val="672f70"/>
              </a:solidFill>
              <a:latin typeface="Arial"/>
            </a:endParaRPr>
          </a:p>
        </p:txBody>
      </p:sp>
      <p:sp>
        <p:nvSpPr>
          <p:cNvPr id="783" name="Text Box 12"/>
          <p:cNvSpPr/>
          <p:nvPr/>
        </p:nvSpPr>
        <p:spPr>
          <a:xfrm rot="16200000">
            <a:off x="-810000" y="5823720"/>
            <a:ext cx="1838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96c18"/>
                </a:solidFill>
                <a:latin typeface="Arial"/>
              </a:rPr>
              <a:t>Copyright © 2012 Cengage Learning</a:t>
            </a:r>
            <a:endParaRPr b="0" lang="en-US" sz="800" spc="-1" strike="noStrike">
              <a:solidFill>
                <a:srgbClr val="672f70"/>
              </a:solidFill>
              <a:latin typeface="Arial"/>
            </a:endParaRPr>
          </a:p>
        </p:txBody>
      </p:sp>
      <p:sp>
        <p:nvSpPr>
          <p:cNvPr id="784" name="Freeform 10"/>
          <p:cNvSpPr/>
          <p:nvPr/>
        </p:nvSpPr>
        <p:spPr>
          <a:xfrm>
            <a:off x="5703840" y="6224760"/>
            <a:ext cx="1252440" cy="4572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fdb913"/>
          </a:solidFill>
          <a:ln w="1260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785" name="TextBox 10"/>
          <p:cNvSpPr/>
          <p:nvPr/>
        </p:nvSpPr>
        <p:spPr>
          <a:xfrm>
            <a:off x="380880" y="6248520"/>
            <a:ext cx="853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96c18"/>
                </a:solidFill>
                <a:latin typeface="Calibri"/>
              </a:rPr>
              <a:t>          </a:t>
            </a:r>
            <a:r>
              <a:rPr b="0" lang="en-US" sz="1600" spc="-1" strike="noStrike">
                <a:solidFill>
                  <a:srgbClr val="c96c18"/>
                </a:solidFill>
                <a:latin typeface="Calibri"/>
              </a:rPr>
              <a:t>Audience Analysis       |       Planning      |        Drafting       |       </a:t>
            </a:r>
            <a:r>
              <a:rPr b="1" lang="en-US" sz="1600" spc="-1" strike="noStrike">
                <a:solidFill>
                  <a:srgbClr val="543b27"/>
                </a:solidFill>
                <a:latin typeface="Calibri"/>
              </a:rPr>
              <a:t>Revising</a:t>
            </a:r>
            <a:r>
              <a:rPr b="0" lang="en-US" sz="1600" spc="-1" strike="noStrike">
                <a:solidFill>
                  <a:srgbClr val="c96c18"/>
                </a:solidFill>
                <a:latin typeface="Calibri"/>
              </a:rPr>
              <a:t>       |       Proofreading</a:t>
            </a:r>
            <a:endParaRPr b="0" lang="en-US" sz="1600" spc="-1" strike="noStrike">
              <a:solidFill>
                <a:srgbClr val="672f70"/>
              </a:solidFill>
              <a:latin typeface="Arial"/>
            </a:endParaRPr>
          </a:p>
        </p:txBody>
      </p:sp>
      <p:sp>
        <p:nvSpPr>
          <p:cNvPr id="786" name="PlaceHolder 1"/>
          <p:cNvSpPr>
            <a:spLocks noGrp="1"/>
          </p:cNvSpPr>
          <p:nvPr>
            <p:ph type="title"/>
          </p:nvPr>
        </p:nvSpPr>
        <p:spPr>
          <a:xfrm>
            <a:off x="3352680" y="120600"/>
            <a:ext cx="5562720" cy="641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b913"/>
                </a:solidFill>
                <a:latin typeface="Calibri"/>
              </a:rPr>
              <a:t>Click to edit the title text format</a:t>
            </a:r>
            <a:endParaRPr b="0" lang="en-US" sz="3600" spc="-1" strike="noStrike">
              <a:solidFill>
                <a:srgbClr val="fdb913"/>
              </a:solidFill>
              <a:latin typeface="Calibri"/>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Rectangle 6"/>
          <p:cNvSpPr/>
          <p:nvPr/>
        </p:nvSpPr>
        <p:spPr>
          <a:xfrm>
            <a:off x="0" y="0"/>
            <a:ext cx="9144000" cy="6858000"/>
          </a:xfrm>
          <a:prstGeom prst="rect">
            <a:avLst/>
          </a:prstGeom>
          <a:solidFill>
            <a:srgbClr val="543b2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2f70"/>
              </a:solidFill>
              <a:latin typeface="Arial"/>
            </a:endParaRPr>
          </a:p>
        </p:txBody>
      </p:sp>
      <p:sp>
        <p:nvSpPr>
          <p:cNvPr id="824" name="Freeform 8"/>
          <p:cNvSpPr/>
          <p:nvPr/>
        </p:nvSpPr>
        <p:spPr>
          <a:xfrm>
            <a:off x="228600" y="0"/>
            <a:ext cx="2971800" cy="895320"/>
          </a:xfrm>
          <a:custGeom>
            <a:avLst/>
            <a:gdLst/>
            <a:ahLst/>
            <a:rect l="l" t="t" r="r" b="b"/>
            <a:pathLst>
              <a:path w="1632" h="492">
                <a:moveTo>
                  <a:pt x="1632" y="0"/>
                </a:moveTo>
                <a:lnTo>
                  <a:pt x="1632" y="372"/>
                </a:lnTo>
                <a:lnTo>
                  <a:pt x="1632" y="372"/>
                </a:lnTo>
                <a:lnTo>
                  <a:pt x="1630" y="384"/>
                </a:lnTo>
                <a:lnTo>
                  <a:pt x="1628" y="396"/>
                </a:lnTo>
                <a:lnTo>
                  <a:pt x="1622" y="420"/>
                </a:lnTo>
                <a:lnTo>
                  <a:pt x="1610" y="440"/>
                </a:lnTo>
                <a:lnTo>
                  <a:pt x="1596" y="458"/>
                </a:lnTo>
                <a:lnTo>
                  <a:pt x="1578" y="472"/>
                </a:lnTo>
                <a:lnTo>
                  <a:pt x="1558" y="484"/>
                </a:lnTo>
                <a:lnTo>
                  <a:pt x="1536" y="490"/>
                </a:lnTo>
                <a:lnTo>
                  <a:pt x="1524" y="492"/>
                </a:lnTo>
                <a:lnTo>
                  <a:pt x="1512" y="492"/>
                </a:lnTo>
                <a:lnTo>
                  <a:pt x="120" y="492"/>
                </a:lnTo>
                <a:lnTo>
                  <a:pt x="120" y="492"/>
                </a:lnTo>
                <a:lnTo>
                  <a:pt x="108" y="492"/>
                </a:lnTo>
                <a:lnTo>
                  <a:pt x="96" y="490"/>
                </a:lnTo>
                <a:lnTo>
                  <a:pt x="72" y="484"/>
                </a:lnTo>
                <a:lnTo>
                  <a:pt x="52" y="472"/>
                </a:lnTo>
                <a:lnTo>
                  <a:pt x="34" y="458"/>
                </a:lnTo>
                <a:lnTo>
                  <a:pt x="20" y="440"/>
                </a:lnTo>
                <a:lnTo>
                  <a:pt x="8" y="420"/>
                </a:lnTo>
                <a:lnTo>
                  <a:pt x="2" y="396"/>
                </a:lnTo>
                <a:lnTo>
                  <a:pt x="0" y="384"/>
                </a:lnTo>
                <a:lnTo>
                  <a:pt x="0" y="372"/>
                </a:lnTo>
                <a:lnTo>
                  <a:pt x="0" y="0"/>
                </a:lnTo>
                <a:lnTo>
                  <a:pt x="1632" y="0"/>
                </a:lnTo>
                <a:close/>
              </a:path>
            </a:pathLst>
          </a:custGeom>
          <a:solidFill>
            <a:srgbClr val="fdb913"/>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825" name="Text Placeholder 6"/>
          <p:cNvSpPr/>
          <p:nvPr/>
        </p:nvSpPr>
        <p:spPr>
          <a:xfrm>
            <a:off x="336600" y="165240"/>
            <a:ext cx="2819520" cy="838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3b27"/>
                </a:solidFill>
                <a:latin typeface="Tempus Sans ITC"/>
                <a:ea typeface="JasmineUPC"/>
              </a:rPr>
              <a:t>Video Example</a:t>
            </a:r>
            <a:endParaRPr b="0" lang="en-US" sz="3200" spc="-1" strike="noStrike">
              <a:solidFill>
                <a:srgbClr val="672f70"/>
              </a:solidFill>
              <a:latin typeface="Arial"/>
            </a:endParaRPr>
          </a:p>
        </p:txBody>
      </p:sp>
      <p:sp>
        <p:nvSpPr>
          <p:cNvPr id="826" name="Text Box 12"/>
          <p:cNvSpPr/>
          <p:nvPr/>
        </p:nvSpPr>
        <p:spPr>
          <a:xfrm rot="16200000">
            <a:off x="-810000" y="5823720"/>
            <a:ext cx="1838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96c18"/>
                </a:solidFill>
                <a:latin typeface="Arial"/>
              </a:rPr>
              <a:t>Copyright © 2012 Cengage Learning</a:t>
            </a:r>
            <a:endParaRPr b="0" lang="en-US" sz="800" spc="-1" strike="noStrike">
              <a:solidFill>
                <a:srgbClr val="672f70"/>
              </a:solidFill>
              <a:latin typeface="Arial"/>
            </a:endParaRPr>
          </a:p>
        </p:txBody>
      </p:sp>
      <p:sp>
        <p:nvSpPr>
          <p:cNvPr id="827" name="Freeform 10"/>
          <p:cNvSpPr/>
          <p:nvPr/>
        </p:nvSpPr>
        <p:spPr>
          <a:xfrm>
            <a:off x="7188120" y="6224760"/>
            <a:ext cx="1524240" cy="4572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fdb913"/>
          </a:solidFill>
          <a:ln w="1260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828" name="TextBox 10"/>
          <p:cNvSpPr/>
          <p:nvPr/>
        </p:nvSpPr>
        <p:spPr>
          <a:xfrm>
            <a:off x="380880" y="6248520"/>
            <a:ext cx="853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96c18"/>
                </a:solidFill>
                <a:latin typeface="Calibri"/>
              </a:rPr>
              <a:t>          </a:t>
            </a:r>
            <a:r>
              <a:rPr b="0" lang="en-US" sz="1600" spc="-1" strike="noStrike">
                <a:solidFill>
                  <a:srgbClr val="c96c18"/>
                </a:solidFill>
                <a:latin typeface="Calibri"/>
              </a:rPr>
              <a:t>Audience Analysis       |       Planning      |        Drafting       |       Revising       |       </a:t>
            </a:r>
            <a:r>
              <a:rPr b="1" lang="en-US" sz="1600" spc="-1" strike="noStrike">
                <a:solidFill>
                  <a:srgbClr val="543b27"/>
                </a:solidFill>
                <a:latin typeface="Calibri"/>
              </a:rPr>
              <a:t>Proofreading</a:t>
            </a:r>
            <a:endParaRPr b="0" lang="en-US" sz="1600" spc="-1" strike="noStrike">
              <a:solidFill>
                <a:srgbClr val="672f70"/>
              </a:solidFill>
              <a:latin typeface="Arial"/>
            </a:endParaRPr>
          </a:p>
        </p:txBody>
      </p:sp>
      <p:sp>
        <p:nvSpPr>
          <p:cNvPr id="829" name="PlaceHolder 1"/>
          <p:cNvSpPr>
            <a:spLocks noGrp="1"/>
          </p:cNvSpPr>
          <p:nvPr>
            <p:ph type="title"/>
          </p:nvPr>
        </p:nvSpPr>
        <p:spPr>
          <a:xfrm>
            <a:off x="3352680" y="120600"/>
            <a:ext cx="5562720" cy="641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b913"/>
                </a:solidFill>
                <a:latin typeface="Calibri"/>
              </a:rPr>
              <a:t>Click to edit the title text format</a:t>
            </a:r>
            <a:endParaRPr b="0" lang="en-US" sz="3600" spc="-1" strike="noStrike">
              <a:solidFill>
                <a:srgbClr val="fdb913"/>
              </a:solidFill>
              <a:latin typeface="Calibri"/>
            </a:endParaRPr>
          </a:p>
        </p:txBody>
      </p:sp>
      <p:sp>
        <p:nvSpPr>
          <p:cNvPr id="83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672f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2f70"/>
                </a:solidFill>
                <a:latin typeface="Calibri"/>
              </a:rPr>
              <a:t>Click to edit the outline text format</a:t>
            </a:r>
            <a:endParaRPr b="0" lang="en-US" sz="3200" spc="-1" strike="noStrike">
              <a:solidFill>
                <a:srgbClr val="672f70"/>
              </a:solidFill>
              <a:latin typeface="Calibri"/>
            </a:endParaRPr>
          </a:p>
          <a:p>
            <a:pPr lvl="1" marL="743040" indent="-285840">
              <a:spcBef>
                <a:spcPts val="700"/>
              </a:spcBef>
              <a:buClr>
                <a:srgbClr val="672f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2f70"/>
                </a:solidFill>
                <a:latin typeface="Calibri"/>
              </a:rPr>
              <a:t>Second Outline Level</a:t>
            </a:r>
            <a:endParaRPr b="0" lang="en-US" sz="2800" spc="-1" strike="noStrike">
              <a:solidFill>
                <a:srgbClr val="672f70"/>
              </a:solidFill>
              <a:latin typeface="Calibri"/>
            </a:endParaRPr>
          </a:p>
          <a:p>
            <a:pPr lvl="2" marL="1143000" indent="-228600">
              <a:spcBef>
                <a:spcPts val="601"/>
              </a:spcBef>
              <a:buClr>
                <a:srgbClr val="672f7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2f70"/>
                </a:solidFill>
                <a:latin typeface="Calibri"/>
              </a:rPr>
              <a:t>Third Outline Level</a:t>
            </a:r>
            <a:endParaRPr b="0" lang="en-US" sz="2400" spc="-1" strike="noStrike">
              <a:solidFill>
                <a:srgbClr val="672f70"/>
              </a:solidFill>
              <a:latin typeface="Calibri"/>
            </a:endParaRPr>
          </a:p>
          <a:p>
            <a:pPr lvl="3" marL="1600200" indent="-228600">
              <a:spcBef>
                <a:spcPts val="499"/>
              </a:spcBef>
              <a:buClr>
                <a:srgbClr val="672f7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2f70"/>
                </a:solidFill>
                <a:latin typeface="Calibri"/>
              </a:rPr>
              <a:t>Fourth Outline Level</a:t>
            </a:r>
            <a:endParaRPr b="0" lang="en-US" sz="2000" spc="-1" strike="noStrike">
              <a:solidFill>
                <a:srgbClr val="672f70"/>
              </a:solidFill>
              <a:latin typeface="Calibri"/>
            </a:endParaRPr>
          </a:p>
          <a:p>
            <a:pPr lvl="4" marL="2057400" indent="-228600">
              <a:spcBef>
                <a:spcPts val="499"/>
              </a:spcBef>
              <a:buClr>
                <a:srgbClr val="672f7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2f70"/>
                </a:solidFill>
                <a:latin typeface="Calibri"/>
              </a:rPr>
              <a:t>Fifth Outline Level</a:t>
            </a:r>
            <a:endParaRPr b="0" lang="en-US" sz="2000" spc="-1" strike="noStrike">
              <a:solidFill>
                <a:srgbClr val="672f70"/>
              </a:solidFill>
              <a:latin typeface="Calibri"/>
            </a:endParaRPr>
          </a:p>
          <a:p>
            <a:pPr lvl="5" marL="2057400" indent="-228600">
              <a:spcBef>
                <a:spcPts val="499"/>
              </a:spcBef>
              <a:buClr>
                <a:srgbClr val="672f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2f70"/>
                </a:solidFill>
                <a:latin typeface="Calibri"/>
              </a:rPr>
              <a:t>Sixth Outline Level</a:t>
            </a:r>
            <a:endParaRPr b="0" lang="en-US" sz="2000" spc="-1" strike="noStrike">
              <a:solidFill>
                <a:srgbClr val="672f70"/>
              </a:solidFill>
              <a:latin typeface="Calibri"/>
            </a:endParaRPr>
          </a:p>
          <a:p>
            <a:pPr lvl="6" marL="2057400" indent="-228600">
              <a:spcBef>
                <a:spcPts val="499"/>
              </a:spcBef>
              <a:buClr>
                <a:srgbClr val="672f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2f70"/>
                </a:solidFill>
                <a:latin typeface="Calibri"/>
              </a:rPr>
              <a:t>Seventh Outline Level</a:t>
            </a:r>
            <a:endParaRPr b="0" lang="en-US" sz="2000" spc="-1" strike="noStrike">
              <a:solidFill>
                <a:srgbClr val="672f70"/>
              </a:solidFill>
              <a:latin typeface="Calibri"/>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Rectangle 6"/>
          <p:cNvSpPr/>
          <p:nvPr/>
        </p:nvSpPr>
        <p:spPr>
          <a:xfrm>
            <a:off x="0" y="0"/>
            <a:ext cx="9144000" cy="6858000"/>
          </a:xfrm>
          <a:prstGeom prst="rect">
            <a:avLst/>
          </a:prstGeom>
          <a:solidFill>
            <a:srgbClr val="543b2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2f70"/>
              </a:solidFill>
              <a:latin typeface="Arial"/>
            </a:endParaRPr>
          </a:p>
        </p:txBody>
      </p:sp>
      <p:sp>
        <p:nvSpPr>
          <p:cNvPr id="868" name="Freeform 8"/>
          <p:cNvSpPr/>
          <p:nvPr/>
        </p:nvSpPr>
        <p:spPr>
          <a:xfrm>
            <a:off x="228600" y="0"/>
            <a:ext cx="2971800" cy="895320"/>
          </a:xfrm>
          <a:custGeom>
            <a:avLst/>
            <a:gdLst/>
            <a:ahLst/>
            <a:rect l="l" t="t" r="r" b="b"/>
            <a:pathLst>
              <a:path w="1632" h="492">
                <a:moveTo>
                  <a:pt x="1632" y="0"/>
                </a:moveTo>
                <a:lnTo>
                  <a:pt x="1632" y="372"/>
                </a:lnTo>
                <a:lnTo>
                  <a:pt x="1632" y="372"/>
                </a:lnTo>
                <a:lnTo>
                  <a:pt x="1630" y="384"/>
                </a:lnTo>
                <a:lnTo>
                  <a:pt x="1628" y="396"/>
                </a:lnTo>
                <a:lnTo>
                  <a:pt x="1622" y="420"/>
                </a:lnTo>
                <a:lnTo>
                  <a:pt x="1610" y="440"/>
                </a:lnTo>
                <a:lnTo>
                  <a:pt x="1596" y="458"/>
                </a:lnTo>
                <a:lnTo>
                  <a:pt x="1578" y="472"/>
                </a:lnTo>
                <a:lnTo>
                  <a:pt x="1558" y="484"/>
                </a:lnTo>
                <a:lnTo>
                  <a:pt x="1536" y="490"/>
                </a:lnTo>
                <a:lnTo>
                  <a:pt x="1524" y="492"/>
                </a:lnTo>
                <a:lnTo>
                  <a:pt x="1512" y="492"/>
                </a:lnTo>
                <a:lnTo>
                  <a:pt x="120" y="492"/>
                </a:lnTo>
                <a:lnTo>
                  <a:pt x="120" y="492"/>
                </a:lnTo>
                <a:lnTo>
                  <a:pt x="108" y="492"/>
                </a:lnTo>
                <a:lnTo>
                  <a:pt x="96" y="490"/>
                </a:lnTo>
                <a:lnTo>
                  <a:pt x="72" y="484"/>
                </a:lnTo>
                <a:lnTo>
                  <a:pt x="52" y="472"/>
                </a:lnTo>
                <a:lnTo>
                  <a:pt x="34" y="458"/>
                </a:lnTo>
                <a:lnTo>
                  <a:pt x="20" y="440"/>
                </a:lnTo>
                <a:lnTo>
                  <a:pt x="8" y="420"/>
                </a:lnTo>
                <a:lnTo>
                  <a:pt x="2" y="396"/>
                </a:lnTo>
                <a:lnTo>
                  <a:pt x="0" y="384"/>
                </a:lnTo>
                <a:lnTo>
                  <a:pt x="0" y="372"/>
                </a:lnTo>
                <a:lnTo>
                  <a:pt x="0" y="0"/>
                </a:lnTo>
                <a:lnTo>
                  <a:pt x="1632" y="0"/>
                </a:lnTo>
                <a:close/>
              </a:path>
            </a:pathLst>
          </a:custGeom>
          <a:solidFill>
            <a:srgbClr val="fdb913"/>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869" name="Text Placeholder 6"/>
          <p:cNvSpPr/>
          <p:nvPr/>
        </p:nvSpPr>
        <p:spPr>
          <a:xfrm>
            <a:off x="336600" y="165240"/>
            <a:ext cx="2819520" cy="838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3b27"/>
                </a:solidFill>
                <a:latin typeface="Tempus Sans ITC"/>
                <a:ea typeface="JasmineUPC"/>
              </a:rPr>
              <a:t>Video Example</a:t>
            </a:r>
            <a:endParaRPr b="0" lang="en-US" sz="3200" spc="-1" strike="noStrike">
              <a:solidFill>
                <a:srgbClr val="672f70"/>
              </a:solidFill>
              <a:latin typeface="Arial"/>
            </a:endParaRPr>
          </a:p>
        </p:txBody>
      </p:sp>
      <p:sp>
        <p:nvSpPr>
          <p:cNvPr id="870" name="Text Box 12"/>
          <p:cNvSpPr/>
          <p:nvPr/>
        </p:nvSpPr>
        <p:spPr>
          <a:xfrm rot="16200000">
            <a:off x="-810000" y="5823720"/>
            <a:ext cx="1838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96c18"/>
                </a:solidFill>
                <a:latin typeface="Arial"/>
              </a:rPr>
              <a:t>Copyright © 2012 Cengage Learning</a:t>
            </a:r>
            <a:endParaRPr b="0" lang="en-US" sz="800" spc="-1" strike="noStrike">
              <a:solidFill>
                <a:srgbClr val="672f70"/>
              </a:solidFill>
              <a:latin typeface="Arial"/>
            </a:endParaRPr>
          </a:p>
        </p:txBody>
      </p:sp>
      <p:sp>
        <p:nvSpPr>
          <p:cNvPr id="871" name="PlaceHolder 1"/>
          <p:cNvSpPr>
            <a:spLocks noGrp="1"/>
          </p:cNvSpPr>
          <p:nvPr>
            <p:ph type="title"/>
          </p:nvPr>
        </p:nvSpPr>
        <p:spPr>
          <a:xfrm>
            <a:off x="3352680" y="120600"/>
            <a:ext cx="5562720" cy="641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b913"/>
                </a:solidFill>
                <a:latin typeface="Calibri"/>
              </a:rPr>
              <a:t>Click to edit the title text format</a:t>
            </a:r>
            <a:endParaRPr b="0" lang="en-US" sz="3600" spc="-1" strike="noStrike">
              <a:solidFill>
                <a:srgbClr val="fdb913"/>
              </a:solidFill>
              <a:latin typeface="Calibri"/>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Rectangle 6"/>
          <p:cNvSpPr/>
          <p:nvPr/>
        </p:nvSpPr>
        <p:spPr>
          <a:xfrm>
            <a:off x="0" y="0"/>
            <a:ext cx="9144000" cy="6858000"/>
          </a:xfrm>
          <a:prstGeom prst="rect">
            <a:avLst/>
          </a:prstGeom>
          <a:solidFill>
            <a:srgbClr val="543b2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2f70"/>
              </a:solidFill>
              <a:latin typeface="Arial"/>
            </a:endParaRPr>
          </a:p>
        </p:txBody>
      </p:sp>
      <p:sp>
        <p:nvSpPr>
          <p:cNvPr id="909" name="Freeform 8"/>
          <p:cNvSpPr/>
          <p:nvPr/>
        </p:nvSpPr>
        <p:spPr>
          <a:xfrm>
            <a:off x="228600" y="0"/>
            <a:ext cx="2971800" cy="895320"/>
          </a:xfrm>
          <a:custGeom>
            <a:avLst/>
            <a:gdLst/>
            <a:ahLst/>
            <a:rect l="l" t="t" r="r" b="b"/>
            <a:pathLst>
              <a:path w="1632" h="492">
                <a:moveTo>
                  <a:pt x="1632" y="0"/>
                </a:moveTo>
                <a:lnTo>
                  <a:pt x="1632" y="372"/>
                </a:lnTo>
                <a:lnTo>
                  <a:pt x="1632" y="372"/>
                </a:lnTo>
                <a:lnTo>
                  <a:pt x="1630" y="384"/>
                </a:lnTo>
                <a:lnTo>
                  <a:pt x="1628" y="396"/>
                </a:lnTo>
                <a:lnTo>
                  <a:pt x="1622" y="420"/>
                </a:lnTo>
                <a:lnTo>
                  <a:pt x="1610" y="440"/>
                </a:lnTo>
                <a:lnTo>
                  <a:pt x="1596" y="458"/>
                </a:lnTo>
                <a:lnTo>
                  <a:pt x="1578" y="472"/>
                </a:lnTo>
                <a:lnTo>
                  <a:pt x="1558" y="484"/>
                </a:lnTo>
                <a:lnTo>
                  <a:pt x="1536" y="490"/>
                </a:lnTo>
                <a:lnTo>
                  <a:pt x="1524" y="492"/>
                </a:lnTo>
                <a:lnTo>
                  <a:pt x="1512" y="492"/>
                </a:lnTo>
                <a:lnTo>
                  <a:pt x="120" y="492"/>
                </a:lnTo>
                <a:lnTo>
                  <a:pt x="120" y="492"/>
                </a:lnTo>
                <a:lnTo>
                  <a:pt x="108" y="492"/>
                </a:lnTo>
                <a:lnTo>
                  <a:pt x="96" y="490"/>
                </a:lnTo>
                <a:lnTo>
                  <a:pt x="72" y="484"/>
                </a:lnTo>
                <a:lnTo>
                  <a:pt x="52" y="472"/>
                </a:lnTo>
                <a:lnTo>
                  <a:pt x="34" y="458"/>
                </a:lnTo>
                <a:lnTo>
                  <a:pt x="20" y="440"/>
                </a:lnTo>
                <a:lnTo>
                  <a:pt x="8" y="420"/>
                </a:lnTo>
                <a:lnTo>
                  <a:pt x="2" y="396"/>
                </a:lnTo>
                <a:lnTo>
                  <a:pt x="0" y="384"/>
                </a:lnTo>
                <a:lnTo>
                  <a:pt x="0" y="372"/>
                </a:lnTo>
                <a:lnTo>
                  <a:pt x="0" y="0"/>
                </a:lnTo>
                <a:lnTo>
                  <a:pt x="1632" y="0"/>
                </a:lnTo>
                <a:close/>
              </a:path>
            </a:pathLst>
          </a:custGeom>
          <a:solidFill>
            <a:srgbClr val="fdb913"/>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910" name="Text Placeholder 6"/>
          <p:cNvSpPr/>
          <p:nvPr/>
        </p:nvSpPr>
        <p:spPr>
          <a:xfrm>
            <a:off x="336600" y="165240"/>
            <a:ext cx="2819520" cy="838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3b27"/>
                </a:solidFill>
                <a:latin typeface="Tempus Sans ITC"/>
                <a:ea typeface="JasmineUPC"/>
              </a:rPr>
              <a:t>Video Example</a:t>
            </a:r>
            <a:endParaRPr b="0" lang="en-US" sz="3200" spc="-1" strike="noStrike">
              <a:solidFill>
                <a:srgbClr val="672f70"/>
              </a:solidFill>
              <a:latin typeface="Arial"/>
            </a:endParaRPr>
          </a:p>
        </p:txBody>
      </p:sp>
      <p:sp>
        <p:nvSpPr>
          <p:cNvPr id="911" name="Text Box 12"/>
          <p:cNvSpPr/>
          <p:nvPr/>
        </p:nvSpPr>
        <p:spPr>
          <a:xfrm rot="16200000">
            <a:off x="-810000" y="5823720"/>
            <a:ext cx="1838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96c18"/>
                </a:solidFill>
                <a:latin typeface="Arial"/>
              </a:rPr>
              <a:t>Copyright © 2012 Cengage Learning</a:t>
            </a:r>
            <a:endParaRPr b="0" lang="en-US" sz="800" spc="-1" strike="noStrike">
              <a:solidFill>
                <a:srgbClr val="672f70"/>
              </a:solidFill>
              <a:latin typeface="Arial"/>
            </a:endParaRPr>
          </a:p>
        </p:txBody>
      </p:sp>
      <p:sp>
        <p:nvSpPr>
          <p:cNvPr id="912" name="PlaceHolder 1"/>
          <p:cNvSpPr>
            <a:spLocks noGrp="1"/>
          </p:cNvSpPr>
          <p:nvPr>
            <p:ph type="title"/>
          </p:nvPr>
        </p:nvSpPr>
        <p:spPr>
          <a:xfrm>
            <a:off x="3352680" y="120600"/>
            <a:ext cx="5562720" cy="641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b913"/>
                </a:solidFill>
                <a:latin typeface="Calibri"/>
              </a:rPr>
              <a:t>Click to edit the title text format</a:t>
            </a:r>
            <a:endParaRPr b="0" lang="en-US" sz="3600" spc="-1" strike="noStrike">
              <a:solidFill>
                <a:srgbClr val="fdb913"/>
              </a:solidFill>
              <a:latin typeface="Calibri"/>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Freeform 10"/>
          <p:cNvSpPr/>
          <p:nvPr/>
        </p:nvSpPr>
        <p:spPr>
          <a:xfrm>
            <a:off x="0" y="458640"/>
            <a:ext cx="9144000" cy="1592280"/>
          </a:xfrm>
          <a:custGeom>
            <a:avLst/>
            <a:gdLst/>
            <a:ahLst/>
            <a:rect l="l" t="t" r="r" b="b"/>
            <a:pathLst>
              <a:path w="5760" h="1003">
                <a:moveTo>
                  <a:pt x="0" y="0"/>
                </a:moveTo>
                <a:lnTo>
                  <a:pt x="0" y="865"/>
                </a:lnTo>
                <a:lnTo>
                  <a:pt x="0" y="865"/>
                </a:lnTo>
                <a:lnTo>
                  <a:pt x="13" y="857"/>
                </a:lnTo>
                <a:lnTo>
                  <a:pt x="51" y="840"/>
                </a:lnTo>
                <a:lnTo>
                  <a:pt x="76" y="829"/>
                </a:lnTo>
                <a:lnTo>
                  <a:pt x="107" y="818"/>
                </a:lnTo>
                <a:lnTo>
                  <a:pt x="142" y="808"/>
                </a:lnTo>
                <a:lnTo>
                  <a:pt x="178" y="799"/>
                </a:lnTo>
                <a:lnTo>
                  <a:pt x="220" y="792"/>
                </a:lnTo>
                <a:lnTo>
                  <a:pt x="264" y="788"/>
                </a:lnTo>
                <a:lnTo>
                  <a:pt x="307" y="788"/>
                </a:lnTo>
                <a:lnTo>
                  <a:pt x="331" y="788"/>
                </a:lnTo>
                <a:lnTo>
                  <a:pt x="354" y="792"/>
                </a:lnTo>
                <a:lnTo>
                  <a:pt x="378" y="795"/>
                </a:lnTo>
                <a:lnTo>
                  <a:pt x="402" y="801"/>
                </a:lnTo>
                <a:lnTo>
                  <a:pt x="425" y="806"/>
                </a:lnTo>
                <a:lnTo>
                  <a:pt x="449" y="815"/>
                </a:lnTo>
                <a:lnTo>
                  <a:pt x="473" y="826"/>
                </a:lnTo>
                <a:lnTo>
                  <a:pt x="496" y="836"/>
                </a:lnTo>
                <a:lnTo>
                  <a:pt x="518" y="850"/>
                </a:lnTo>
                <a:lnTo>
                  <a:pt x="542" y="865"/>
                </a:lnTo>
                <a:lnTo>
                  <a:pt x="542" y="865"/>
                </a:lnTo>
                <a:lnTo>
                  <a:pt x="556" y="873"/>
                </a:lnTo>
                <a:lnTo>
                  <a:pt x="576" y="886"/>
                </a:lnTo>
                <a:lnTo>
                  <a:pt x="603" y="900"/>
                </a:lnTo>
                <a:lnTo>
                  <a:pt x="638" y="916"/>
                </a:lnTo>
                <a:lnTo>
                  <a:pt x="676" y="932"/>
                </a:lnTo>
                <a:lnTo>
                  <a:pt x="720" y="950"/>
                </a:lnTo>
                <a:lnTo>
                  <a:pt x="769" y="964"/>
                </a:lnTo>
                <a:lnTo>
                  <a:pt x="822" y="978"/>
                </a:lnTo>
                <a:lnTo>
                  <a:pt x="876" y="990"/>
                </a:lnTo>
                <a:lnTo>
                  <a:pt x="936" y="997"/>
                </a:lnTo>
                <a:lnTo>
                  <a:pt x="965" y="1001"/>
                </a:lnTo>
                <a:lnTo>
                  <a:pt x="996" y="1003"/>
                </a:lnTo>
                <a:lnTo>
                  <a:pt x="1027" y="1003"/>
                </a:lnTo>
                <a:lnTo>
                  <a:pt x="1058" y="1001"/>
                </a:lnTo>
                <a:lnTo>
                  <a:pt x="1091" y="999"/>
                </a:lnTo>
                <a:lnTo>
                  <a:pt x="1121" y="996"/>
                </a:lnTo>
                <a:lnTo>
                  <a:pt x="1154" y="990"/>
                </a:lnTo>
                <a:lnTo>
                  <a:pt x="1187" y="983"/>
                </a:lnTo>
                <a:lnTo>
                  <a:pt x="1220" y="974"/>
                </a:lnTo>
                <a:lnTo>
                  <a:pt x="1251" y="962"/>
                </a:lnTo>
                <a:lnTo>
                  <a:pt x="1283" y="950"/>
                </a:lnTo>
                <a:lnTo>
                  <a:pt x="1316" y="935"/>
                </a:lnTo>
                <a:lnTo>
                  <a:pt x="1316" y="935"/>
                </a:lnTo>
                <a:lnTo>
                  <a:pt x="1336" y="925"/>
                </a:lnTo>
                <a:lnTo>
                  <a:pt x="1369" y="912"/>
                </a:lnTo>
                <a:lnTo>
                  <a:pt x="1409" y="898"/>
                </a:lnTo>
                <a:lnTo>
                  <a:pt x="1458" y="884"/>
                </a:lnTo>
                <a:lnTo>
                  <a:pt x="1514" y="868"/>
                </a:lnTo>
                <a:lnTo>
                  <a:pt x="1574" y="852"/>
                </a:lnTo>
                <a:lnTo>
                  <a:pt x="1639" y="836"/>
                </a:lnTo>
                <a:lnTo>
                  <a:pt x="1707" y="822"/>
                </a:lnTo>
                <a:lnTo>
                  <a:pt x="1776" y="811"/>
                </a:lnTo>
                <a:lnTo>
                  <a:pt x="1845" y="803"/>
                </a:lnTo>
                <a:lnTo>
                  <a:pt x="1914" y="797"/>
                </a:lnTo>
                <a:lnTo>
                  <a:pt x="1947" y="797"/>
                </a:lnTo>
                <a:lnTo>
                  <a:pt x="1979" y="797"/>
                </a:lnTo>
                <a:lnTo>
                  <a:pt x="2012" y="799"/>
                </a:lnTo>
                <a:lnTo>
                  <a:pt x="2043" y="803"/>
                </a:lnTo>
                <a:lnTo>
                  <a:pt x="2072" y="806"/>
                </a:lnTo>
                <a:lnTo>
                  <a:pt x="2099" y="811"/>
                </a:lnTo>
                <a:lnTo>
                  <a:pt x="2127" y="818"/>
                </a:lnTo>
                <a:lnTo>
                  <a:pt x="2150" y="829"/>
                </a:lnTo>
                <a:lnTo>
                  <a:pt x="2174" y="840"/>
                </a:lnTo>
                <a:lnTo>
                  <a:pt x="2196" y="852"/>
                </a:lnTo>
                <a:lnTo>
                  <a:pt x="2196" y="852"/>
                </a:lnTo>
                <a:lnTo>
                  <a:pt x="2223" y="872"/>
                </a:lnTo>
                <a:lnTo>
                  <a:pt x="2243" y="882"/>
                </a:lnTo>
                <a:lnTo>
                  <a:pt x="2268" y="896"/>
                </a:lnTo>
                <a:lnTo>
                  <a:pt x="2297" y="911"/>
                </a:lnTo>
                <a:lnTo>
                  <a:pt x="2330" y="923"/>
                </a:lnTo>
                <a:lnTo>
                  <a:pt x="2368" y="937"/>
                </a:lnTo>
                <a:lnTo>
                  <a:pt x="2412" y="948"/>
                </a:lnTo>
                <a:lnTo>
                  <a:pt x="2459" y="957"/>
                </a:lnTo>
                <a:lnTo>
                  <a:pt x="2512" y="964"/>
                </a:lnTo>
                <a:lnTo>
                  <a:pt x="2570" y="967"/>
                </a:lnTo>
                <a:lnTo>
                  <a:pt x="2636" y="967"/>
                </a:lnTo>
                <a:lnTo>
                  <a:pt x="2668" y="966"/>
                </a:lnTo>
                <a:lnTo>
                  <a:pt x="2705" y="962"/>
                </a:lnTo>
                <a:lnTo>
                  <a:pt x="2741" y="958"/>
                </a:lnTo>
                <a:lnTo>
                  <a:pt x="2779" y="953"/>
                </a:lnTo>
                <a:lnTo>
                  <a:pt x="2819" y="946"/>
                </a:lnTo>
                <a:lnTo>
                  <a:pt x="2861" y="937"/>
                </a:lnTo>
                <a:lnTo>
                  <a:pt x="2905" y="928"/>
                </a:lnTo>
                <a:lnTo>
                  <a:pt x="2948" y="916"/>
                </a:lnTo>
                <a:lnTo>
                  <a:pt x="2948" y="916"/>
                </a:lnTo>
                <a:lnTo>
                  <a:pt x="3010" y="896"/>
                </a:lnTo>
                <a:lnTo>
                  <a:pt x="3090" y="870"/>
                </a:lnTo>
                <a:lnTo>
                  <a:pt x="3137" y="854"/>
                </a:lnTo>
                <a:lnTo>
                  <a:pt x="3186" y="840"/>
                </a:lnTo>
                <a:lnTo>
                  <a:pt x="3239" y="826"/>
                </a:lnTo>
                <a:lnTo>
                  <a:pt x="3294" y="813"/>
                </a:lnTo>
                <a:lnTo>
                  <a:pt x="3350" y="803"/>
                </a:lnTo>
                <a:lnTo>
                  <a:pt x="3406" y="795"/>
                </a:lnTo>
                <a:lnTo>
                  <a:pt x="3464" y="792"/>
                </a:lnTo>
                <a:lnTo>
                  <a:pt x="3493" y="792"/>
                </a:lnTo>
                <a:lnTo>
                  <a:pt x="3523" y="792"/>
                </a:lnTo>
                <a:lnTo>
                  <a:pt x="3550" y="794"/>
                </a:lnTo>
                <a:lnTo>
                  <a:pt x="3579" y="797"/>
                </a:lnTo>
                <a:lnTo>
                  <a:pt x="3606" y="803"/>
                </a:lnTo>
                <a:lnTo>
                  <a:pt x="3633" y="808"/>
                </a:lnTo>
                <a:lnTo>
                  <a:pt x="3661" y="815"/>
                </a:lnTo>
                <a:lnTo>
                  <a:pt x="3686" y="826"/>
                </a:lnTo>
                <a:lnTo>
                  <a:pt x="3713" y="836"/>
                </a:lnTo>
                <a:lnTo>
                  <a:pt x="3737" y="849"/>
                </a:lnTo>
                <a:lnTo>
                  <a:pt x="3737" y="849"/>
                </a:lnTo>
                <a:lnTo>
                  <a:pt x="3761" y="861"/>
                </a:lnTo>
                <a:lnTo>
                  <a:pt x="3793" y="873"/>
                </a:lnTo>
                <a:lnTo>
                  <a:pt x="3835" y="888"/>
                </a:lnTo>
                <a:lnTo>
                  <a:pt x="3882" y="904"/>
                </a:lnTo>
                <a:lnTo>
                  <a:pt x="3937" y="918"/>
                </a:lnTo>
                <a:lnTo>
                  <a:pt x="3995" y="932"/>
                </a:lnTo>
                <a:lnTo>
                  <a:pt x="4059" y="944"/>
                </a:lnTo>
                <a:lnTo>
                  <a:pt x="4124" y="957"/>
                </a:lnTo>
                <a:lnTo>
                  <a:pt x="4191" y="966"/>
                </a:lnTo>
                <a:lnTo>
                  <a:pt x="4260" y="971"/>
                </a:lnTo>
                <a:lnTo>
                  <a:pt x="4330" y="974"/>
                </a:lnTo>
                <a:lnTo>
                  <a:pt x="4364" y="974"/>
                </a:lnTo>
                <a:lnTo>
                  <a:pt x="4397" y="973"/>
                </a:lnTo>
                <a:lnTo>
                  <a:pt x="4430" y="971"/>
                </a:lnTo>
                <a:lnTo>
                  <a:pt x="4462" y="967"/>
                </a:lnTo>
                <a:lnTo>
                  <a:pt x="4493" y="964"/>
                </a:lnTo>
                <a:lnTo>
                  <a:pt x="4524" y="957"/>
                </a:lnTo>
                <a:lnTo>
                  <a:pt x="4553" y="950"/>
                </a:lnTo>
                <a:lnTo>
                  <a:pt x="4580" y="941"/>
                </a:lnTo>
                <a:lnTo>
                  <a:pt x="4608" y="930"/>
                </a:lnTo>
                <a:lnTo>
                  <a:pt x="4633" y="919"/>
                </a:lnTo>
                <a:lnTo>
                  <a:pt x="4633" y="919"/>
                </a:lnTo>
                <a:lnTo>
                  <a:pt x="4660" y="907"/>
                </a:lnTo>
                <a:lnTo>
                  <a:pt x="4693" y="895"/>
                </a:lnTo>
                <a:lnTo>
                  <a:pt x="4733" y="880"/>
                </a:lnTo>
                <a:lnTo>
                  <a:pt x="4777" y="868"/>
                </a:lnTo>
                <a:lnTo>
                  <a:pt x="4826" y="854"/>
                </a:lnTo>
                <a:lnTo>
                  <a:pt x="4878" y="842"/>
                </a:lnTo>
                <a:lnTo>
                  <a:pt x="4935" y="831"/>
                </a:lnTo>
                <a:lnTo>
                  <a:pt x="4991" y="822"/>
                </a:lnTo>
                <a:lnTo>
                  <a:pt x="5049" y="813"/>
                </a:lnTo>
                <a:lnTo>
                  <a:pt x="5106" y="808"/>
                </a:lnTo>
                <a:lnTo>
                  <a:pt x="5162" y="804"/>
                </a:lnTo>
                <a:lnTo>
                  <a:pt x="5217" y="804"/>
                </a:lnTo>
                <a:lnTo>
                  <a:pt x="5269" y="808"/>
                </a:lnTo>
                <a:lnTo>
                  <a:pt x="5293" y="810"/>
                </a:lnTo>
                <a:lnTo>
                  <a:pt x="5317" y="815"/>
                </a:lnTo>
                <a:lnTo>
                  <a:pt x="5340" y="818"/>
                </a:lnTo>
                <a:lnTo>
                  <a:pt x="5360" y="826"/>
                </a:lnTo>
                <a:lnTo>
                  <a:pt x="5380" y="833"/>
                </a:lnTo>
                <a:lnTo>
                  <a:pt x="5398" y="840"/>
                </a:lnTo>
                <a:lnTo>
                  <a:pt x="5398" y="840"/>
                </a:lnTo>
                <a:lnTo>
                  <a:pt x="5416" y="849"/>
                </a:lnTo>
                <a:lnTo>
                  <a:pt x="5436" y="857"/>
                </a:lnTo>
                <a:lnTo>
                  <a:pt x="5476" y="870"/>
                </a:lnTo>
                <a:lnTo>
                  <a:pt x="5520" y="880"/>
                </a:lnTo>
                <a:lnTo>
                  <a:pt x="5566" y="889"/>
                </a:lnTo>
                <a:lnTo>
                  <a:pt x="5615" y="895"/>
                </a:lnTo>
                <a:lnTo>
                  <a:pt x="5662" y="900"/>
                </a:lnTo>
                <a:lnTo>
                  <a:pt x="5711" y="902"/>
                </a:lnTo>
                <a:lnTo>
                  <a:pt x="5760" y="902"/>
                </a:lnTo>
                <a:lnTo>
                  <a:pt x="5760" y="0"/>
                </a:lnTo>
                <a:lnTo>
                  <a:pt x="0" y="0"/>
                </a:lnTo>
                <a:close/>
              </a:path>
            </a:pathLst>
          </a:custGeom>
          <a:solidFill>
            <a:srgbClr val="ad7b51"/>
          </a:solidFill>
          <a:ln w="0">
            <a:noFill/>
          </a:ln>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950" name="Freeform 11"/>
          <p:cNvSpPr/>
          <p:nvPr/>
        </p:nvSpPr>
        <p:spPr>
          <a:xfrm>
            <a:off x="3240" y="0"/>
            <a:ext cx="9140760" cy="1422360"/>
          </a:xfrm>
          <a:custGeom>
            <a:avLst/>
            <a:gdLst/>
            <a:ahLst/>
            <a:rect l="l" t="t" r="r" b="b"/>
            <a:pathLst>
              <a:path w="5758" h="896">
                <a:moveTo>
                  <a:pt x="0" y="0"/>
                </a:moveTo>
                <a:lnTo>
                  <a:pt x="0" y="758"/>
                </a:lnTo>
                <a:lnTo>
                  <a:pt x="0" y="758"/>
                </a:lnTo>
                <a:lnTo>
                  <a:pt x="25" y="763"/>
                </a:lnTo>
                <a:lnTo>
                  <a:pt x="93" y="772"/>
                </a:lnTo>
                <a:lnTo>
                  <a:pt x="194" y="783"/>
                </a:lnTo>
                <a:lnTo>
                  <a:pt x="256" y="788"/>
                </a:lnTo>
                <a:lnTo>
                  <a:pt x="320" y="792"/>
                </a:lnTo>
                <a:lnTo>
                  <a:pt x="389" y="795"/>
                </a:lnTo>
                <a:lnTo>
                  <a:pt x="458" y="795"/>
                </a:lnTo>
                <a:lnTo>
                  <a:pt x="529" y="793"/>
                </a:lnTo>
                <a:lnTo>
                  <a:pt x="598" y="790"/>
                </a:lnTo>
                <a:lnTo>
                  <a:pt x="667" y="781"/>
                </a:lnTo>
                <a:lnTo>
                  <a:pt x="700" y="776"/>
                </a:lnTo>
                <a:lnTo>
                  <a:pt x="730" y="770"/>
                </a:lnTo>
                <a:lnTo>
                  <a:pt x="761" y="763"/>
                </a:lnTo>
                <a:lnTo>
                  <a:pt x="790" y="754"/>
                </a:lnTo>
                <a:lnTo>
                  <a:pt x="820" y="746"/>
                </a:lnTo>
                <a:lnTo>
                  <a:pt x="845" y="733"/>
                </a:lnTo>
                <a:lnTo>
                  <a:pt x="845" y="733"/>
                </a:lnTo>
                <a:lnTo>
                  <a:pt x="867" y="726"/>
                </a:lnTo>
                <a:lnTo>
                  <a:pt x="889" y="719"/>
                </a:lnTo>
                <a:lnTo>
                  <a:pt x="912" y="712"/>
                </a:lnTo>
                <a:lnTo>
                  <a:pt x="938" y="708"/>
                </a:lnTo>
                <a:lnTo>
                  <a:pt x="963" y="705"/>
                </a:lnTo>
                <a:lnTo>
                  <a:pt x="990" y="701"/>
                </a:lnTo>
                <a:lnTo>
                  <a:pt x="1049" y="698"/>
                </a:lnTo>
                <a:lnTo>
                  <a:pt x="1110" y="698"/>
                </a:lnTo>
                <a:lnTo>
                  <a:pt x="1174" y="701"/>
                </a:lnTo>
                <a:lnTo>
                  <a:pt x="1239" y="707"/>
                </a:lnTo>
                <a:lnTo>
                  <a:pt x="1305" y="715"/>
                </a:lnTo>
                <a:lnTo>
                  <a:pt x="1368" y="724"/>
                </a:lnTo>
                <a:lnTo>
                  <a:pt x="1430" y="735"/>
                </a:lnTo>
                <a:lnTo>
                  <a:pt x="1490" y="747"/>
                </a:lnTo>
                <a:lnTo>
                  <a:pt x="1545" y="761"/>
                </a:lnTo>
                <a:lnTo>
                  <a:pt x="1596" y="774"/>
                </a:lnTo>
                <a:lnTo>
                  <a:pt x="1639" y="788"/>
                </a:lnTo>
                <a:lnTo>
                  <a:pt x="1677" y="800"/>
                </a:lnTo>
                <a:lnTo>
                  <a:pt x="1707" y="813"/>
                </a:lnTo>
                <a:lnTo>
                  <a:pt x="1707" y="813"/>
                </a:lnTo>
                <a:lnTo>
                  <a:pt x="1736" y="825"/>
                </a:lnTo>
                <a:lnTo>
                  <a:pt x="1765" y="834"/>
                </a:lnTo>
                <a:lnTo>
                  <a:pt x="1797" y="843"/>
                </a:lnTo>
                <a:lnTo>
                  <a:pt x="1830" y="850"/>
                </a:lnTo>
                <a:lnTo>
                  <a:pt x="1865" y="857"/>
                </a:lnTo>
                <a:lnTo>
                  <a:pt x="1899" y="861"/>
                </a:lnTo>
                <a:lnTo>
                  <a:pt x="1936" y="864"/>
                </a:lnTo>
                <a:lnTo>
                  <a:pt x="1974" y="868"/>
                </a:lnTo>
                <a:lnTo>
                  <a:pt x="2010" y="868"/>
                </a:lnTo>
                <a:lnTo>
                  <a:pt x="2048" y="868"/>
                </a:lnTo>
                <a:lnTo>
                  <a:pt x="2126" y="864"/>
                </a:lnTo>
                <a:lnTo>
                  <a:pt x="2203" y="859"/>
                </a:lnTo>
                <a:lnTo>
                  <a:pt x="2279" y="850"/>
                </a:lnTo>
                <a:lnTo>
                  <a:pt x="2354" y="838"/>
                </a:lnTo>
                <a:lnTo>
                  <a:pt x="2425" y="825"/>
                </a:lnTo>
                <a:lnTo>
                  <a:pt x="2490" y="811"/>
                </a:lnTo>
                <a:lnTo>
                  <a:pt x="2552" y="797"/>
                </a:lnTo>
                <a:lnTo>
                  <a:pt x="2606" y="781"/>
                </a:lnTo>
                <a:lnTo>
                  <a:pt x="2652" y="767"/>
                </a:lnTo>
                <a:lnTo>
                  <a:pt x="2688" y="754"/>
                </a:lnTo>
                <a:lnTo>
                  <a:pt x="2715" y="742"/>
                </a:lnTo>
                <a:lnTo>
                  <a:pt x="2715" y="742"/>
                </a:lnTo>
                <a:lnTo>
                  <a:pt x="2743" y="730"/>
                </a:lnTo>
                <a:lnTo>
                  <a:pt x="2772" y="719"/>
                </a:lnTo>
                <a:lnTo>
                  <a:pt x="2803" y="708"/>
                </a:lnTo>
                <a:lnTo>
                  <a:pt x="2832" y="701"/>
                </a:lnTo>
                <a:lnTo>
                  <a:pt x="2863" y="696"/>
                </a:lnTo>
                <a:lnTo>
                  <a:pt x="2893" y="691"/>
                </a:lnTo>
                <a:lnTo>
                  <a:pt x="2926" y="687"/>
                </a:lnTo>
                <a:lnTo>
                  <a:pt x="2957" y="685"/>
                </a:lnTo>
                <a:lnTo>
                  <a:pt x="2990" y="685"/>
                </a:lnTo>
                <a:lnTo>
                  <a:pt x="3022" y="685"/>
                </a:lnTo>
                <a:lnTo>
                  <a:pt x="3088" y="689"/>
                </a:lnTo>
                <a:lnTo>
                  <a:pt x="3152" y="696"/>
                </a:lnTo>
                <a:lnTo>
                  <a:pt x="3215" y="707"/>
                </a:lnTo>
                <a:lnTo>
                  <a:pt x="3277" y="719"/>
                </a:lnTo>
                <a:lnTo>
                  <a:pt x="3335" y="733"/>
                </a:lnTo>
                <a:lnTo>
                  <a:pt x="3391" y="747"/>
                </a:lnTo>
                <a:lnTo>
                  <a:pt x="3444" y="763"/>
                </a:lnTo>
                <a:lnTo>
                  <a:pt x="3535" y="790"/>
                </a:lnTo>
                <a:lnTo>
                  <a:pt x="3602" y="809"/>
                </a:lnTo>
                <a:lnTo>
                  <a:pt x="3602" y="809"/>
                </a:lnTo>
                <a:lnTo>
                  <a:pt x="3653" y="822"/>
                </a:lnTo>
                <a:lnTo>
                  <a:pt x="3702" y="831"/>
                </a:lnTo>
                <a:lnTo>
                  <a:pt x="3748" y="839"/>
                </a:lnTo>
                <a:lnTo>
                  <a:pt x="3793" y="847"/>
                </a:lnTo>
                <a:lnTo>
                  <a:pt x="3837" y="852"/>
                </a:lnTo>
                <a:lnTo>
                  <a:pt x="3879" y="855"/>
                </a:lnTo>
                <a:lnTo>
                  <a:pt x="3919" y="859"/>
                </a:lnTo>
                <a:lnTo>
                  <a:pt x="3957" y="861"/>
                </a:lnTo>
                <a:lnTo>
                  <a:pt x="4028" y="861"/>
                </a:lnTo>
                <a:lnTo>
                  <a:pt x="4093" y="857"/>
                </a:lnTo>
                <a:lnTo>
                  <a:pt x="4153" y="850"/>
                </a:lnTo>
                <a:lnTo>
                  <a:pt x="4208" y="841"/>
                </a:lnTo>
                <a:lnTo>
                  <a:pt x="4257" y="831"/>
                </a:lnTo>
                <a:lnTo>
                  <a:pt x="4298" y="816"/>
                </a:lnTo>
                <a:lnTo>
                  <a:pt x="4337" y="804"/>
                </a:lnTo>
                <a:lnTo>
                  <a:pt x="4369" y="790"/>
                </a:lnTo>
                <a:lnTo>
                  <a:pt x="4397" y="776"/>
                </a:lnTo>
                <a:lnTo>
                  <a:pt x="4420" y="765"/>
                </a:lnTo>
                <a:lnTo>
                  <a:pt x="4451" y="746"/>
                </a:lnTo>
                <a:lnTo>
                  <a:pt x="4451" y="746"/>
                </a:lnTo>
                <a:lnTo>
                  <a:pt x="4475" y="733"/>
                </a:lnTo>
                <a:lnTo>
                  <a:pt x="4500" y="723"/>
                </a:lnTo>
                <a:lnTo>
                  <a:pt x="4529" y="712"/>
                </a:lnTo>
                <a:lnTo>
                  <a:pt x="4558" y="705"/>
                </a:lnTo>
                <a:lnTo>
                  <a:pt x="4589" y="699"/>
                </a:lnTo>
                <a:lnTo>
                  <a:pt x="4624" y="696"/>
                </a:lnTo>
                <a:lnTo>
                  <a:pt x="4658" y="692"/>
                </a:lnTo>
                <a:lnTo>
                  <a:pt x="4693" y="691"/>
                </a:lnTo>
                <a:lnTo>
                  <a:pt x="4729" y="691"/>
                </a:lnTo>
                <a:lnTo>
                  <a:pt x="4767" y="692"/>
                </a:lnTo>
                <a:lnTo>
                  <a:pt x="4844" y="696"/>
                </a:lnTo>
                <a:lnTo>
                  <a:pt x="4922" y="705"/>
                </a:lnTo>
                <a:lnTo>
                  <a:pt x="5000" y="715"/>
                </a:lnTo>
                <a:lnTo>
                  <a:pt x="5076" y="730"/>
                </a:lnTo>
                <a:lnTo>
                  <a:pt x="5149" y="746"/>
                </a:lnTo>
                <a:lnTo>
                  <a:pt x="5218" y="761"/>
                </a:lnTo>
                <a:lnTo>
                  <a:pt x="5280" y="777"/>
                </a:lnTo>
                <a:lnTo>
                  <a:pt x="5334" y="792"/>
                </a:lnTo>
                <a:lnTo>
                  <a:pt x="5382" y="806"/>
                </a:lnTo>
                <a:lnTo>
                  <a:pt x="5416" y="818"/>
                </a:lnTo>
                <a:lnTo>
                  <a:pt x="5442" y="829"/>
                </a:lnTo>
                <a:lnTo>
                  <a:pt x="5442" y="829"/>
                </a:lnTo>
                <a:lnTo>
                  <a:pt x="5480" y="845"/>
                </a:lnTo>
                <a:lnTo>
                  <a:pt x="5520" y="859"/>
                </a:lnTo>
                <a:lnTo>
                  <a:pt x="5560" y="870"/>
                </a:lnTo>
                <a:lnTo>
                  <a:pt x="5600" y="878"/>
                </a:lnTo>
                <a:lnTo>
                  <a:pt x="5640" y="886"/>
                </a:lnTo>
                <a:lnTo>
                  <a:pt x="5680" y="891"/>
                </a:lnTo>
                <a:lnTo>
                  <a:pt x="5720" y="894"/>
                </a:lnTo>
                <a:lnTo>
                  <a:pt x="5758" y="896"/>
                </a:lnTo>
                <a:lnTo>
                  <a:pt x="5758" y="0"/>
                </a:lnTo>
                <a:lnTo>
                  <a:pt x="0" y="0"/>
                </a:lnTo>
                <a:close/>
              </a:path>
            </a:pathLst>
          </a:custGeom>
          <a:solidFill>
            <a:srgbClr val="543b27"/>
          </a:solidFill>
          <a:ln w="0">
            <a:noFill/>
          </a:ln>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951" name="Text Box 12"/>
          <p:cNvSpPr/>
          <p:nvPr/>
        </p:nvSpPr>
        <p:spPr>
          <a:xfrm rot="16200000">
            <a:off x="-810000" y="5823720"/>
            <a:ext cx="1838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96c18"/>
                </a:solidFill>
                <a:latin typeface="Arial"/>
                <a:ea typeface="Arial"/>
              </a:rPr>
              <a:t>Copyright © 2012 Cengage Learning</a:t>
            </a:r>
            <a:endParaRPr b="0" lang="en-US" sz="800" spc="-1" strike="noStrike">
              <a:solidFill>
                <a:srgbClr val="672f70"/>
              </a:solidFill>
              <a:latin typeface="Arial"/>
            </a:endParaRPr>
          </a:p>
        </p:txBody>
      </p:sp>
      <p:sp>
        <p:nvSpPr>
          <p:cNvPr id="952" name="Freeform 12"/>
          <p:cNvSpPr/>
          <p:nvPr/>
        </p:nvSpPr>
        <p:spPr>
          <a:xfrm>
            <a:off x="378000" y="1052640"/>
            <a:ext cx="8534160" cy="5043240"/>
          </a:xfrm>
          <a:custGeom>
            <a:avLst/>
            <a:gdLst/>
            <a:ahLst/>
            <a:rect l="l" t="t" r="r" b="b"/>
            <a:pathLst>
              <a:path w="5376" h="3530">
                <a:moveTo>
                  <a:pt x="5376" y="3423"/>
                </a:moveTo>
                <a:lnTo>
                  <a:pt x="5376" y="3423"/>
                </a:lnTo>
                <a:lnTo>
                  <a:pt x="5375" y="3434"/>
                </a:lnTo>
                <a:lnTo>
                  <a:pt x="5373" y="3445"/>
                </a:lnTo>
                <a:lnTo>
                  <a:pt x="5367" y="3464"/>
                </a:lnTo>
                <a:lnTo>
                  <a:pt x="5356" y="3482"/>
                </a:lnTo>
                <a:lnTo>
                  <a:pt x="5344" y="3498"/>
                </a:lnTo>
                <a:lnTo>
                  <a:pt x="5327" y="3512"/>
                </a:lnTo>
                <a:lnTo>
                  <a:pt x="5309" y="3521"/>
                </a:lnTo>
                <a:lnTo>
                  <a:pt x="5289" y="3528"/>
                </a:lnTo>
                <a:lnTo>
                  <a:pt x="5278" y="3530"/>
                </a:lnTo>
                <a:lnTo>
                  <a:pt x="5267" y="3530"/>
                </a:lnTo>
                <a:lnTo>
                  <a:pt x="109" y="3530"/>
                </a:lnTo>
                <a:lnTo>
                  <a:pt x="109" y="3530"/>
                </a:lnTo>
                <a:lnTo>
                  <a:pt x="98" y="3530"/>
                </a:lnTo>
                <a:lnTo>
                  <a:pt x="87" y="3528"/>
                </a:lnTo>
                <a:lnTo>
                  <a:pt x="67" y="3521"/>
                </a:lnTo>
                <a:lnTo>
                  <a:pt x="49" y="3512"/>
                </a:lnTo>
                <a:lnTo>
                  <a:pt x="33" y="3498"/>
                </a:lnTo>
                <a:lnTo>
                  <a:pt x="20" y="3482"/>
                </a:lnTo>
                <a:lnTo>
                  <a:pt x="9" y="3464"/>
                </a:lnTo>
                <a:lnTo>
                  <a:pt x="3" y="3445"/>
                </a:lnTo>
                <a:lnTo>
                  <a:pt x="2" y="3434"/>
                </a:lnTo>
                <a:lnTo>
                  <a:pt x="0" y="3423"/>
                </a:lnTo>
                <a:lnTo>
                  <a:pt x="0" y="106"/>
                </a:lnTo>
                <a:lnTo>
                  <a:pt x="0" y="106"/>
                </a:lnTo>
                <a:lnTo>
                  <a:pt x="2" y="96"/>
                </a:lnTo>
                <a:lnTo>
                  <a:pt x="3" y="85"/>
                </a:lnTo>
                <a:lnTo>
                  <a:pt x="9" y="65"/>
                </a:lnTo>
                <a:lnTo>
                  <a:pt x="20" y="48"/>
                </a:lnTo>
                <a:lnTo>
                  <a:pt x="33" y="32"/>
                </a:lnTo>
                <a:lnTo>
                  <a:pt x="49" y="18"/>
                </a:lnTo>
                <a:lnTo>
                  <a:pt x="67" y="9"/>
                </a:lnTo>
                <a:lnTo>
                  <a:pt x="87" y="2"/>
                </a:lnTo>
                <a:lnTo>
                  <a:pt x="98" y="0"/>
                </a:lnTo>
                <a:lnTo>
                  <a:pt x="109" y="0"/>
                </a:lnTo>
                <a:lnTo>
                  <a:pt x="5267" y="0"/>
                </a:lnTo>
                <a:lnTo>
                  <a:pt x="5267" y="0"/>
                </a:lnTo>
                <a:lnTo>
                  <a:pt x="5278" y="0"/>
                </a:lnTo>
                <a:lnTo>
                  <a:pt x="5289" y="2"/>
                </a:lnTo>
                <a:lnTo>
                  <a:pt x="5309" y="9"/>
                </a:lnTo>
                <a:lnTo>
                  <a:pt x="5327" y="18"/>
                </a:lnTo>
                <a:lnTo>
                  <a:pt x="5344" y="32"/>
                </a:lnTo>
                <a:lnTo>
                  <a:pt x="5356" y="48"/>
                </a:lnTo>
                <a:lnTo>
                  <a:pt x="5367" y="65"/>
                </a:lnTo>
                <a:lnTo>
                  <a:pt x="5373" y="85"/>
                </a:lnTo>
                <a:lnTo>
                  <a:pt x="5375" y="96"/>
                </a:lnTo>
                <a:lnTo>
                  <a:pt x="5376" y="106"/>
                </a:lnTo>
                <a:lnTo>
                  <a:pt x="5376" y="34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953" name="Freeform 10"/>
          <p:cNvSpPr/>
          <p:nvPr/>
        </p:nvSpPr>
        <p:spPr>
          <a:xfrm>
            <a:off x="844560" y="6237360"/>
            <a:ext cx="1738440" cy="4572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fdb913"/>
          </a:solidFill>
          <a:ln w="1260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954" name="TextBox 6"/>
          <p:cNvSpPr/>
          <p:nvPr/>
        </p:nvSpPr>
        <p:spPr>
          <a:xfrm>
            <a:off x="380880" y="6248520"/>
            <a:ext cx="853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3b27"/>
                </a:solidFill>
                <a:latin typeface="Calibri"/>
                <a:ea typeface="Arial"/>
              </a:rPr>
              <a:t>          </a:t>
            </a:r>
            <a:r>
              <a:rPr b="1" lang="en-US" sz="1600" spc="-1" strike="noStrike">
                <a:solidFill>
                  <a:srgbClr val="543b27"/>
                </a:solidFill>
                <a:latin typeface="Calibri"/>
                <a:ea typeface="Arial"/>
              </a:rPr>
              <a:t>Audience Analysis</a:t>
            </a:r>
            <a:r>
              <a:rPr b="0" lang="en-US" sz="1600" spc="-1" strike="noStrike">
                <a:solidFill>
                  <a:srgbClr val="543b27"/>
                </a:solidFill>
                <a:latin typeface="Calibri"/>
                <a:ea typeface="Arial"/>
              </a:rPr>
              <a:t>       |       Planning      |        Drafting       |       Revising       |       Proofreading</a:t>
            </a:r>
            <a:endParaRPr b="0" lang="en-US" sz="1600" spc="-1" strike="noStrike">
              <a:solidFill>
                <a:srgbClr val="672f70"/>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Freeform 10"/>
          <p:cNvSpPr/>
          <p:nvPr/>
        </p:nvSpPr>
        <p:spPr>
          <a:xfrm>
            <a:off x="0" y="458640"/>
            <a:ext cx="9144000" cy="1592280"/>
          </a:xfrm>
          <a:custGeom>
            <a:avLst/>
            <a:gdLst/>
            <a:ahLst/>
            <a:rect l="l" t="t" r="r" b="b"/>
            <a:pathLst>
              <a:path w="5760" h="1003">
                <a:moveTo>
                  <a:pt x="0" y="0"/>
                </a:moveTo>
                <a:lnTo>
                  <a:pt x="0" y="865"/>
                </a:lnTo>
                <a:lnTo>
                  <a:pt x="0" y="865"/>
                </a:lnTo>
                <a:lnTo>
                  <a:pt x="13" y="857"/>
                </a:lnTo>
                <a:lnTo>
                  <a:pt x="51" y="840"/>
                </a:lnTo>
                <a:lnTo>
                  <a:pt x="76" y="829"/>
                </a:lnTo>
                <a:lnTo>
                  <a:pt x="107" y="818"/>
                </a:lnTo>
                <a:lnTo>
                  <a:pt x="142" y="808"/>
                </a:lnTo>
                <a:lnTo>
                  <a:pt x="178" y="799"/>
                </a:lnTo>
                <a:lnTo>
                  <a:pt x="220" y="792"/>
                </a:lnTo>
                <a:lnTo>
                  <a:pt x="264" y="788"/>
                </a:lnTo>
                <a:lnTo>
                  <a:pt x="307" y="788"/>
                </a:lnTo>
                <a:lnTo>
                  <a:pt x="331" y="788"/>
                </a:lnTo>
                <a:lnTo>
                  <a:pt x="354" y="792"/>
                </a:lnTo>
                <a:lnTo>
                  <a:pt x="378" y="795"/>
                </a:lnTo>
                <a:lnTo>
                  <a:pt x="402" y="801"/>
                </a:lnTo>
                <a:lnTo>
                  <a:pt x="425" y="806"/>
                </a:lnTo>
                <a:lnTo>
                  <a:pt x="449" y="815"/>
                </a:lnTo>
                <a:lnTo>
                  <a:pt x="473" y="826"/>
                </a:lnTo>
                <a:lnTo>
                  <a:pt x="496" y="836"/>
                </a:lnTo>
                <a:lnTo>
                  <a:pt x="518" y="850"/>
                </a:lnTo>
                <a:lnTo>
                  <a:pt x="542" y="865"/>
                </a:lnTo>
                <a:lnTo>
                  <a:pt x="542" y="865"/>
                </a:lnTo>
                <a:lnTo>
                  <a:pt x="556" y="873"/>
                </a:lnTo>
                <a:lnTo>
                  <a:pt x="576" y="886"/>
                </a:lnTo>
                <a:lnTo>
                  <a:pt x="603" y="900"/>
                </a:lnTo>
                <a:lnTo>
                  <a:pt x="638" y="916"/>
                </a:lnTo>
                <a:lnTo>
                  <a:pt x="676" y="932"/>
                </a:lnTo>
                <a:lnTo>
                  <a:pt x="720" y="950"/>
                </a:lnTo>
                <a:lnTo>
                  <a:pt x="769" y="964"/>
                </a:lnTo>
                <a:lnTo>
                  <a:pt x="822" y="978"/>
                </a:lnTo>
                <a:lnTo>
                  <a:pt x="876" y="990"/>
                </a:lnTo>
                <a:lnTo>
                  <a:pt x="936" y="997"/>
                </a:lnTo>
                <a:lnTo>
                  <a:pt x="965" y="1001"/>
                </a:lnTo>
                <a:lnTo>
                  <a:pt x="996" y="1003"/>
                </a:lnTo>
                <a:lnTo>
                  <a:pt x="1027" y="1003"/>
                </a:lnTo>
                <a:lnTo>
                  <a:pt x="1058" y="1001"/>
                </a:lnTo>
                <a:lnTo>
                  <a:pt x="1091" y="999"/>
                </a:lnTo>
                <a:lnTo>
                  <a:pt x="1121" y="996"/>
                </a:lnTo>
                <a:lnTo>
                  <a:pt x="1154" y="990"/>
                </a:lnTo>
                <a:lnTo>
                  <a:pt x="1187" y="983"/>
                </a:lnTo>
                <a:lnTo>
                  <a:pt x="1220" y="974"/>
                </a:lnTo>
                <a:lnTo>
                  <a:pt x="1251" y="962"/>
                </a:lnTo>
                <a:lnTo>
                  <a:pt x="1283" y="950"/>
                </a:lnTo>
                <a:lnTo>
                  <a:pt x="1316" y="935"/>
                </a:lnTo>
                <a:lnTo>
                  <a:pt x="1316" y="935"/>
                </a:lnTo>
                <a:lnTo>
                  <a:pt x="1336" y="925"/>
                </a:lnTo>
                <a:lnTo>
                  <a:pt x="1369" y="912"/>
                </a:lnTo>
                <a:lnTo>
                  <a:pt x="1409" y="898"/>
                </a:lnTo>
                <a:lnTo>
                  <a:pt x="1458" y="884"/>
                </a:lnTo>
                <a:lnTo>
                  <a:pt x="1514" y="868"/>
                </a:lnTo>
                <a:lnTo>
                  <a:pt x="1574" y="852"/>
                </a:lnTo>
                <a:lnTo>
                  <a:pt x="1639" y="836"/>
                </a:lnTo>
                <a:lnTo>
                  <a:pt x="1707" y="822"/>
                </a:lnTo>
                <a:lnTo>
                  <a:pt x="1776" y="811"/>
                </a:lnTo>
                <a:lnTo>
                  <a:pt x="1845" y="803"/>
                </a:lnTo>
                <a:lnTo>
                  <a:pt x="1914" y="797"/>
                </a:lnTo>
                <a:lnTo>
                  <a:pt x="1947" y="797"/>
                </a:lnTo>
                <a:lnTo>
                  <a:pt x="1979" y="797"/>
                </a:lnTo>
                <a:lnTo>
                  <a:pt x="2012" y="799"/>
                </a:lnTo>
                <a:lnTo>
                  <a:pt x="2043" y="803"/>
                </a:lnTo>
                <a:lnTo>
                  <a:pt x="2072" y="806"/>
                </a:lnTo>
                <a:lnTo>
                  <a:pt x="2099" y="811"/>
                </a:lnTo>
                <a:lnTo>
                  <a:pt x="2127" y="818"/>
                </a:lnTo>
                <a:lnTo>
                  <a:pt x="2150" y="829"/>
                </a:lnTo>
                <a:lnTo>
                  <a:pt x="2174" y="840"/>
                </a:lnTo>
                <a:lnTo>
                  <a:pt x="2196" y="852"/>
                </a:lnTo>
                <a:lnTo>
                  <a:pt x="2196" y="852"/>
                </a:lnTo>
                <a:lnTo>
                  <a:pt x="2223" y="872"/>
                </a:lnTo>
                <a:lnTo>
                  <a:pt x="2243" y="882"/>
                </a:lnTo>
                <a:lnTo>
                  <a:pt x="2268" y="896"/>
                </a:lnTo>
                <a:lnTo>
                  <a:pt x="2297" y="911"/>
                </a:lnTo>
                <a:lnTo>
                  <a:pt x="2330" y="923"/>
                </a:lnTo>
                <a:lnTo>
                  <a:pt x="2368" y="937"/>
                </a:lnTo>
                <a:lnTo>
                  <a:pt x="2412" y="948"/>
                </a:lnTo>
                <a:lnTo>
                  <a:pt x="2459" y="957"/>
                </a:lnTo>
                <a:lnTo>
                  <a:pt x="2512" y="964"/>
                </a:lnTo>
                <a:lnTo>
                  <a:pt x="2570" y="967"/>
                </a:lnTo>
                <a:lnTo>
                  <a:pt x="2636" y="967"/>
                </a:lnTo>
                <a:lnTo>
                  <a:pt x="2668" y="966"/>
                </a:lnTo>
                <a:lnTo>
                  <a:pt x="2705" y="962"/>
                </a:lnTo>
                <a:lnTo>
                  <a:pt x="2741" y="958"/>
                </a:lnTo>
                <a:lnTo>
                  <a:pt x="2779" y="953"/>
                </a:lnTo>
                <a:lnTo>
                  <a:pt x="2819" y="946"/>
                </a:lnTo>
                <a:lnTo>
                  <a:pt x="2861" y="937"/>
                </a:lnTo>
                <a:lnTo>
                  <a:pt x="2905" y="928"/>
                </a:lnTo>
                <a:lnTo>
                  <a:pt x="2948" y="916"/>
                </a:lnTo>
                <a:lnTo>
                  <a:pt x="2948" y="916"/>
                </a:lnTo>
                <a:lnTo>
                  <a:pt x="3010" y="896"/>
                </a:lnTo>
                <a:lnTo>
                  <a:pt x="3090" y="870"/>
                </a:lnTo>
                <a:lnTo>
                  <a:pt x="3137" y="854"/>
                </a:lnTo>
                <a:lnTo>
                  <a:pt x="3186" y="840"/>
                </a:lnTo>
                <a:lnTo>
                  <a:pt x="3239" y="826"/>
                </a:lnTo>
                <a:lnTo>
                  <a:pt x="3294" y="813"/>
                </a:lnTo>
                <a:lnTo>
                  <a:pt x="3350" y="803"/>
                </a:lnTo>
                <a:lnTo>
                  <a:pt x="3406" y="795"/>
                </a:lnTo>
                <a:lnTo>
                  <a:pt x="3464" y="792"/>
                </a:lnTo>
                <a:lnTo>
                  <a:pt x="3493" y="792"/>
                </a:lnTo>
                <a:lnTo>
                  <a:pt x="3523" y="792"/>
                </a:lnTo>
                <a:lnTo>
                  <a:pt x="3550" y="794"/>
                </a:lnTo>
                <a:lnTo>
                  <a:pt x="3579" y="797"/>
                </a:lnTo>
                <a:lnTo>
                  <a:pt x="3606" y="803"/>
                </a:lnTo>
                <a:lnTo>
                  <a:pt x="3633" y="808"/>
                </a:lnTo>
                <a:lnTo>
                  <a:pt x="3661" y="815"/>
                </a:lnTo>
                <a:lnTo>
                  <a:pt x="3686" y="826"/>
                </a:lnTo>
                <a:lnTo>
                  <a:pt x="3713" y="836"/>
                </a:lnTo>
                <a:lnTo>
                  <a:pt x="3737" y="849"/>
                </a:lnTo>
                <a:lnTo>
                  <a:pt x="3737" y="849"/>
                </a:lnTo>
                <a:lnTo>
                  <a:pt x="3761" y="861"/>
                </a:lnTo>
                <a:lnTo>
                  <a:pt x="3793" y="873"/>
                </a:lnTo>
                <a:lnTo>
                  <a:pt x="3835" y="888"/>
                </a:lnTo>
                <a:lnTo>
                  <a:pt x="3882" y="904"/>
                </a:lnTo>
                <a:lnTo>
                  <a:pt x="3937" y="918"/>
                </a:lnTo>
                <a:lnTo>
                  <a:pt x="3995" y="932"/>
                </a:lnTo>
                <a:lnTo>
                  <a:pt x="4059" y="944"/>
                </a:lnTo>
                <a:lnTo>
                  <a:pt x="4124" y="957"/>
                </a:lnTo>
                <a:lnTo>
                  <a:pt x="4191" y="966"/>
                </a:lnTo>
                <a:lnTo>
                  <a:pt x="4260" y="971"/>
                </a:lnTo>
                <a:lnTo>
                  <a:pt x="4330" y="974"/>
                </a:lnTo>
                <a:lnTo>
                  <a:pt x="4364" y="974"/>
                </a:lnTo>
                <a:lnTo>
                  <a:pt x="4397" y="973"/>
                </a:lnTo>
                <a:lnTo>
                  <a:pt x="4430" y="971"/>
                </a:lnTo>
                <a:lnTo>
                  <a:pt x="4462" y="967"/>
                </a:lnTo>
                <a:lnTo>
                  <a:pt x="4493" y="964"/>
                </a:lnTo>
                <a:lnTo>
                  <a:pt x="4524" y="957"/>
                </a:lnTo>
                <a:lnTo>
                  <a:pt x="4553" y="950"/>
                </a:lnTo>
                <a:lnTo>
                  <a:pt x="4580" y="941"/>
                </a:lnTo>
                <a:lnTo>
                  <a:pt x="4608" y="930"/>
                </a:lnTo>
                <a:lnTo>
                  <a:pt x="4633" y="919"/>
                </a:lnTo>
                <a:lnTo>
                  <a:pt x="4633" y="919"/>
                </a:lnTo>
                <a:lnTo>
                  <a:pt x="4660" y="907"/>
                </a:lnTo>
                <a:lnTo>
                  <a:pt x="4693" y="895"/>
                </a:lnTo>
                <a:lnTo>
                  <a:pt x="4733" y="880"/>
                </a:lnTo>
                <a:lnTo>
                  <a:pt x="4777" y="868"/>
                </a:lnTo>
                <a:lnTo>
                  <a:pt x="4826" y="854"/>
                </a:lnTo>
                <a:lnTo>
                  <a:pt x="4878" y="842"/>
                </a:lnTo>
                <a:lnTo>
                  <a:pt x="4935" y="831"/>
                </a:lnTo>
                <a:lnTo>
                  <a:pt x="4991" y="822"/>
                </a:lnTo>
                <a:lnTo>
                  <a:pt x="5049" y="813"/>
                </a:lnTo>
                <a:lnTo>
                  <a:pt x="5106" y="808"/>
                </a:lnTo>
                <a:lnTo>
                  <a:pt x="5162" y="804"/>
                </a:lnTo>
                <a:lnTo>
                  <a:pt x="5217" y="804"/>
                </a:lnTo>
                <a:lnTo>
                  <a:pt x="5269" y="808"/>
                </a:lnTo>
                <a:lnTo>
                  <a:pt x="5293" y="810"/>
                </a:lnTo>
                <a:lnTo>
                  <a:pt x="5317" y="815"/>
                </a:lnTo>
                <a:lnTo>
                  <a:pt x="5340" y="818"/>
                </a:lnTo>
                <a:lnTo>
                  <a:pt x="5360" y="826"/>
                </a:lnTo>
                <a:lnTo>
                  <a:pt x="5380" y="833"/>
                </a:lnTo>
                <a:lnTo>
                  <a:pt x="5398" y="840"/>
                </a:lnTo>
                <a:lnTo>
                  <a:pt x="5398" y="840"/>
                </a:lnTo>
                <a:lnTo>
                  <a:pt x="5416" y="849"/>
                </a:lnTo>
                <a:lnTo>
                  <a:pt x="5436" y="857"/>
                </a:lnTo>
                <a:lnTo>
                  <a:pt x="5476" y="870"/>
                </a:lnTo>
                <a:lnTo>
                  <a:pt x="5520" y="880"/>
                </a:lnTo>
                <a:lnTo>
                  <a:pt x="5566" y="889"/>
                </a:lnTo>
                <a:lnTo>
                  <a:pt x="5615" y="895"/>
                </a:lnTo>
                <a:lnTo>
                  <a:pt x="5662" y="900"/>
                </a:lnTo>
                <a:lnTo>
                  <a:pt x="5711" y="902"/>
                </a:lnTo>
                <a:lnTo>
                  <a:pt x="5760" y="902"/>
                </a:lnTo>
                <a:lnTo>
                  <a:pt x="5760" y="0"/>
                </a:lnTo>
                <a:lnTo>
                  <a:pt x="0" y="0"/>
                </a:lnTo>
                <a:close/>
              </a:path>
            </a:pathLst>
          </a:custGeom>
          <a:solidFill>
            <a:srgbClr val="ad7b51"/>
          </a:solidFill>
          <a:ln w="0">
            <a:noFill/>
          </a:ln>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992" name="Freeform 11"/>
          <p:cNvSpPr/>
          <p:nvPr/>
        </p:nvSpPr>
        <p:spPr>
          <a:xfrm>
            <a:off x="3240" y="0"/>
            <a:ext cx="9140760" cy="1422360"/>
          </a:xfrm>
          <a:custGeom>
            <a:avLst/>
            <a:gdLst/>
            <a:ahLst/>
            <a:rect l="l" t="t" r="r" b="b"/>
            <a:pathLst>
              <a:path w="5758" h="896">
                <a:moveTo>
                  <a:pt x="0" y="0"/>
                </a:moveTo>
                <a:lnTo>
                  <a:pt x="0" y="758"/>
                </a:lnTo>
                <a:lnTo>
                  <a:pt x="0" y="758"/>
                </a:lnTo>
                <a:lnTo>
                  <a:pt x="25" y="763"/>
                </a:lnTo>
                <a:lnTo>
                  <a:pt x="93" y="772"/>
                </a:lnTo>
                <a:lnTo>
                  <a:pt x="194" y="783"/>
                </a:lnTo>
                <a:lnTo>
                  <a:pt x="256" y="788"/>
                </a:lnTo>
                <a:lnTo>
                  <a:pt x="320" y="792"/>
                </a:lnTo>
                <a:lnTo>
                  <a:pt x="389" y="795"/>
                </a:lnTo>
                <a:lnTo>
                  <a:pt x="458" y="795"/>
                </a:lnTo>
                <a:lnTo>
                  <a:pt x="529" y="793"/>
                </a:lnTo>
                <a:lnTo>
                  <a:pt x="598" y="790"/>
                </a:lnTo>
                <a:lnTo>
                  <a:pt x="667" y="781"/>
                </a:lnTo>
                <a:lnTo>
                  <a:pt x="700" y="776"/>
                </a:lnTo>
                <a:lnTo>
                  <a:pt x="730" y="770"/>
                </a:lnTo>
                <a:lnTo>
                  <a:pt x="761" y="763"/>
                </a:lnTo>
                <a:lnTo>
                  <a:pt x="790" y="754"/>
                </a:lnTo>
                <a:lnTo>
                  <a:pt x="820" y="746"/>
                </a:lnTo>
                <a:lnTo>
                  <a:pt x="845" y="733"/>
                </a:lnTo>
                <a:lnTo>
                  <a:pt x="845" y="733"/>
                </a:lnTo>
                <a:lnTo>
                  <a:pt x="867" y="726"/>
                </a:lnTo>
                <a:lnTo>
                  <a:pt x="889" y="719"/>
                </a:lnTo>
                <a:lnTo>
                  <a:pt x="912" y="712"/>
                </a:lnTo>
                <a:lnTo>
                  <a:pt x="938" y="708"/>
                </a:lnTo>
                <a:lnTo>
                  <a:pt x="963" y="705"/>
                </a:lnTo>
                <a:lnTo>
                  <a:pt x="990" y="701"/>
                </a:lnTo>
                <a:lnTo>
                  <a:pt x="1049" y="698"/>
                </a:lnTo>
                <a:lnTo>
                  <a:pt x="1110" y="698"/>
                </a:lnTo>
                <a:lnTo>
                  <a:pt x="1174" y="701"/>
                </a:lnTo>
                <a:lnTo>
                  <a:pt x="1239" y="707"/>
                </a:lnTo>
                <a:lnTo>
                  <a:pt x="1305" y="715"/>
                </a:lnTo>
                <a:lnTo>
                  <a:pt x="1368" y="724"/>
                </a:lnTo>
                <a:lnTo>
                  <a:pt x="1430" y="735"/>
                </a:lnTo>
                <a:lnTo>
                  <a:pt x="1490" y="747"/>
                </a:lnTo>
                <a:lnTo>
                  <a:pt x="1545" y="761"/>
                </a:lnTo>
                <a:lnTo>
                  <a:pt x="1596" y="774"/>
                </a:lnTo>
                <a:lnTo>
                  <a:pt x="1639" y="788"/>
                </a:lnTo>
                <a:lnTo>
                  <a:pt x="1677" y="800"/>
                </a:lnTo>
                <a:lnTo>
                  <a:pt x="1707" y="813"/>
                </a:lnTo>
                <a:lnTo>
                  <a:pt x="1707" y="813"/>
                </a:lnTo>
                <a:lnTo>
                  <a:pt x="1736" y="825"/>
                </a:lnTo>
                <a:lnTo>
                  <a:pt x="1765" y="834"/>
                </a:lnTo>
                <a:lnTo>
                  <a:pt x="1797" y="843"/>
                </a:lnTo>
                <a:lnTo>
                  <a:pt x="1830" y="850"/>
                </a:lnTo>
                <a:lnTo>
                  <a:pt x="1865" y="857"/>
                </a:lnTo>
                <a:lnTo>
                  <a:pt x="1899" y="861"/>
                </a:lnTo>
                <a:lnTo>
                  <a:pt x="1936" y="864"/>
                </a:lnTo>
                <a:lnTo>
                  <a:pt x="1974" y="868"/>
                </a:lnTo>
                <a:lnTo>
                  <a:pt x="2010" y="868"/>
                </a:lnTo>
                <a:lnTo>
                  <a:pt x="2048" y="868"/>
                </a:lnTo>
                <a:lnTo>
                  <a:pt x="2126" y="864"/>
                </a:lnTo>
                <a:lnTo>
                  <a:pt x="2203" y="859"/>
                </a:lnTo>
                <a:lnTo>
                  <a:pt x="2279" y="850"/>
                </a:lnTo>
                <a:lnTo>
                  <a:pt x="2354" y="838"/>
                </a:lnTo>
                <a:lnTo>
                  <a:pt x="2425" y="825"/>
                </a:lnTo>
                <a:lnTo>
                  <a:pt x="2490" y="811"/>
                </a:lnTo>
                <a:lnTo>
                  <a:pt x="2552" y="797"/>
                </a:lnTo>
                <a:lnTo>
                  <a:pt x="2606" y="781"/>
                </a:lnTo>
                <a:lnTo>
                  <a:pt x="2652" y="767"/>
                </a:lnTo>
                <a:lnTo>
                  <a:pt x="2688" y="754"/>
                </a:lnTo>
                <a:lnTo>
                  <a:pt x="2715" y="742"/>
                </a:lnTo>
                <a:lnTo>
                  <a:pt x="2715" y="742"/>
                </a:lnTo>
                <a:lnTo>
                  <a:pt x="2743" y="730"/>
                </a:lnTo>
                <a:lnTo>
                  <a:pt x="2772" y="719"/>
                </a:lnTo>
                <a:lnTo>
                  <a:pt x="2803" y="708"/>
                </a:lnTo>
                <a:lnTo>
                  <a:pt x="2832" y="701"/>
                </a:lnTo>
                <a:lnTo>
                  <a:pt x="2863" y="696"/>
                </a:lnTo>
                <a:lnTo>
                  <a:pt x="2893" y="691"/>
                </a:lnTo>
                <a:lnTo>
                  <a:pt x="2926" y="687"/>
                </a:lnTo>
                <a:lnTo>
                  <a:pt x="2957" y="685"/>
                </a:lnTo>
                <a:lnTo>
                  <a:pt x="2990" y="685"/>
                </a:lnTo>
                <a:lnTo>
                  <a:pt x="3022" y="685"/>
                </a:lnTo>
                <a:lnTo>
                  <a:pt x="3088" y="689"/>
                </a:lnTo>
                <a:lnTo>
                  <a:pt x="3152" y="696"/>
                </a:lnTo>
                <a:lnTo>
                  <a:pt x="3215" y="707"/>
                </a:lnTo>
                <a:lnTo>
                  <a:pt x="3277" y="719"/>
                </a:lnTo>
                <a:lnTo>
                  <a:pt x="3335" y="733"/>
                </a:lnTo>
                <a:lnTo>
                  <a:pt x="3391" y="747"/>
                </a:lnTo>
                <a:lnTo>
                  <a:pt x="3444" y="763"/>
                </a:lnTo>
                <a:lnTo>
                  <a:pt x="3535" y="790"/>
                </a:lnTo>
                <a:lnTo>
                  <a:pt x="3602" y="809"/>
                </a:lnTo>
                <a:lnTo>
                  <a:pt x="3602" y="809"/>
                </a:lnTo>
                <a:lnTo>
                  <a:pt x="3653" y="822"/>
                </a:lnTo>
                <a:lnTo>
                  <a:pt x="3702" y="831"/>
                </a:lnTo>
                <a:lnTo>
                  <a:pt x="3748" y="839"/>
                </a:lnTo>
                <a:lnTo>
                  <a:pt x="3793" y="847"/>
                </a:lnTo>
                <a:lnTo>
                  <a:pt x="3837" y="852"/>
                </a:lnTo>
                <a:lnTo>
                  <a:pt x="3879" y="855"/>
                </a:lnTo>
                <a:lnTo>
                  <a:pt x="3919" y="859"/>
                </a:lnTo>
                <a:lnTo>
                  <a:pt x="3957" y="861"/>
                </a:lnTo>
                <a:lnTo>
                  <a:pt x="4028" y="861"/>
                </a:lnTo>
                <a:lnTo>
                  <a:pt x="4093" y="857"/>
                </a:lnTo>
                <a:lnTo>
                  <a:pt x="4153" y="850"/>
                </a:lnTo>
                <a:lnTo>
                  <a:pt x="4208" y="841"/>
                </a:lnTo>
                <a:lnTo>
                  <a:pt x="4257" y="831"/>
                </a:lnTo>
                <a:lnTo>
                  <a:pt x="4298" y="816"/>
                </a:lnTo>
                <a:lnTo>
                  <a:pt x="4337" y="804"/>
                </a:lnTo>
                <a:lnTo>
                  <a:pt x="4369" y="790"/>
                </a:lnTo>
                <a:lnTo>
                  <a:pt x="4397" y="776"/>
                </a:lnTo>
                <a:lnTo>
                  <a:pt x="4420" y="765"/>
                </a:lnTo>
                <a:lnTo>
                  <a:pt x="4451" y="746"/>
                </a:lnTo>
                <a:lnTo>
                  <a:pt x="4451" y="746"/>
                </a:lnTo>
                <a:lnTo>
                  <a:pt x="4475" y="733"/>
                </a:lnTo>
                <a:lnTo>
                  <a:pt x="4500" y="723"/>
                </a:lnTo>
                <a:lnTo>
                  <a:pt x="4529" y="712"/>
                </a:lnTo>
                <a:lnTo>
                  <a:pt x="4558" y="705"/>
                </a:lnTo>
                <a:lnTo>
                  <a:pt x="4589" y="699"/>
                </a:lnTo>
                <a:lnTo>
                  <a:pt x="4624" y="696"/>
                </a:lnTo>
                <a:lnTo>
                  <a:pt x="4658" y="692"/>
                </a:lnTo>
                <a:lnTo>
                  <a:pt x="4693" y="691"/>
                </a:lnTo>
                <a:lnTo>
                  <a:pt x="4729" y="691"/>
                </a:lnTo>
                <a:lnTo>
                  <a:pt x="4767" y="692"/>
                </a:lnTo>
                <a:lnTo>
                  <a:pt x="4844" y="696"/>
                </a:lnTo>
                <a:lnTo>
                  <a:pt x="4922" y="705"/>
                </a:lnTo>
                <a:lnTo>
                  <a:pt x="5000" y="715"/>
                </a:lnTo>
                <a:lnTo>
                  <a:pt x="5076" y="730"/>
                </a:lnTo>
                <a:lnTo>
                  <a:pt x="5149" y="746"/>
                </a:lnTo>
                <a:lnTo>
                  <a:pt x="5218" y="761"/>
                </a:lnTo>
                <a:lnTo>
                  <a:pt x="5280" y="777"/>
                </a:lnTo>
                <a:lnTo>
                  <a:pt x="5334" y="792"/>
                </a:lnTo>
                <a:lnTo>
                  <a:pt x="5382" y="806"/>
                </a:lnTo>
                <a:lnTo>
                  <a:pt x="5416" y="818"/>
                </a:lnTo>
                <a:lnTo>
                  <a:pt x="5442" y="829"/>
                </a:lnTo>
                <a:lnTo>
                  <a:pt x="5442" y="829"/>
                </a:lnTo>
                <a:lnTo>
                  <a:pt x="5480" y="845"/>
                </a:lnTo>
                <a:lnTo>
                  <a:pt x="5520" y="859"/>
                </a:lnTo>
                <a:lnTo>
                  <a:pt x="5560" y="870"/>
                </a:lnTo>
                <a:lnTo>
                  <a:pt x="5600" y="878"/>
                </a:lnTo>
                <a:lnTo>
                  <a:pt x="5640" y="886"/>
                </a:lnTo>
                <a:lnTo>
                  <a:pt x="5680" y="891"/>
                </a:lnTo>
                <a:lnTo>
                  <a:pt x="5720" y="894"/>
                </a:lnTo>
                <a:lnTo>
                  <a:pt x="5758" y="896"/>
                </a:lnTo>
                <a:lnTo>
                  <a:pt x="5758" y="0"/>
                </a:lnTo>
                <a:lnTo>
                  <a:pt x="0" y="0"/>
                </a:lnTo>
                <a:close/>
              </a:path>
            </a:pathLst>
          </a:custGeom>
          <a:solidFill>
            <a:srgbClr val="543b27"/>
          </a:solidFill>
          <a:ln w="0">
            <a:noFill/>
          </a:ln>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993" name="Text Box 12"/>
          <p:cNvSpPr/>
          <p:nvPr/>
        </p:nvSpPr>
        <p:spPr>
          <a:xfrm rot="16200000">
            <a:off x="-810000" y="5823720"/>
            <a:ext cx="1838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96c18"/>
                </a:solidFill>
                <a:latin typeface="Arial"/>
                <a:ea typeface="Arial"/>
              </a:rPr>
              <a:t>Copyright © 2012 Cengage Learning</a:t>
            </a:r>
            <a:endParaRPr b="0" lang="en-US" sz="800" spc="-1" strike="noStrike">
              <a:solidFill>
                <a:srgbClr val="672f70"/>
              </a:solidFill>
              <a:latin typeface="Arial"/>
            </a:endParaRPr>
          </a:p>
        </p:txBody>
      </p:sp>
      <p:sp>
        <p:nvSpPr>
          <p:cNvPr id="994" name="Freeform 12"/>
          <p:cNvSpPr/>
          <p:nvPr/>
        </p:nvSpPr>
        <p:spPr>
          <a:xfrm>
            <a:off x="378000" y="1052640"/>
            <a:ext cx="8534160" cy="5043240"/>
          </a:xfrm>
          <a:custGeom>
            <a:avLst/>
            <a:gdLst/>
            <a:ahLst/>
            <a:rect l="l" t="t" r="r" b="b"/>
            <a:pathLst>
              <a:path w="5376" h="3530">
                <a:moveTo>
                  <a:pt x="5376" y="3423"/>
                </a:moveTo>
                <a:lnTo>
                  <a:pt x="5376" y="3423"/>
                </a:lnTo>
                <a:lnTo>
                  <a:pt x="5375" y="3434"/>
                </a:lnTo>
                <a:lnTo>
                  <a:pt x="5373" y="3445"/>
                </a:lnTo>
                <a:lnTo>
                  <a:pt x="5367" y="3464"/>
                </a:lnTo>
                <a:lnTo>
                  <a:pt x="5356" y="3482"/>
                </a:lnTo>
                <a:lnTo>
                  <a:pt x="5344" y="3498"/>
                </a:lnTo>
                <a:lnTo>
                  <a:pt x="5327" y="3512"/>
                </a:lnTo>
                <a:lnTo>
                  <a:pt x="5309" y="3521"/>
                </a:lnTo>
                <a:lnTo>
                  <a:pt x="5289" y="3528"/>
                </a:lnTo>
                <a:lnTo>
                  <a:pt x="5278" y="3530"/>
                </a:lnTo>
                <a:lnTo>
                  <a:pt x="5267" y="3530"/>
                </a:lnTo>
                <a:lnTo>
                  <a:pt x="109" y="3530"/>
                </a:lnTo>
                <a:lnTo>
                  <a:pt x="109" y="3530"/>
                </a:lnTo>
                <a:lnTo>
                  <a:pt x="98" y="3530"/>
                </a:lnTo>
                <a:lnTo>
                  <a:pt x="87" y="3528"/>
                </a:lnTo>
                <a:lnTo>
                  <a:pt x="67" y="3521"/>
                </a:lnTo>
                <a:lnTo>
                  <a:pt x="49" y="3512"/>
                </a:lnTo>
                <a:lnTo>
                  <a:pt x="33" y="3498"/>
                </a:lnTo>
                <a:lnTo>
                  <a:pt x="20" y="3482"/>
                </a:lnTo>
                <a:lnTo>
                  <a:pt x="9" y="3464"/>
                </a:lnTo>
                <a:lnTo>
                  <a:pt x="3" y="3445"/>
                </a:lnTo>
                <a:lnTo>
                  <a:pt x="2" y="3434"/>
                </a:lnTo>
                <a:lnTo>
                  <a:pt x="0" y="3423"/>
                </a:lnTo>
                <a:lnTo>
                  <a:pt x="0" y="106"/>
                </a:lnTo>
                <a:lnTo>
                  <a:pt x="0" y="106"/>
                </a:lnTo>
                <a:lnTo>
                  <a:pt x="2" y="96"/>
                </a:lnTo>
                <a:lnTo>
                  <a:pt x="3" y="85"/>
                </a:lnTo>
                <a:lnTo>
                  <a:pt x="9" y="65"/>
                </a:lnTo>
                <a:lnTo>
                  <a:pt x="20" y="48"/>
                </a:lnTo>
                <a:lnTo>
                  <a:pt x="33" y="32"/>
                </a:lnTo>
                <a:lnTo>
                  <a:pt x="49" y="18"/>
                </a:lnTo>
                <a:lnTo>
                  <a:pt x="67" y="9"/>
                </a:lnTo>
                <a:lnTo>
                  <a:pt x="87" y="2"/>
                </a:lnTo>
                <a:lnTo>
                  <a:pt x="98" y="0"/>
                </a:lnTo>
                <a:lnTo>
                  <a:pt x="109" y="0"/>
                </a:lnTo>
                <a:lnTo>
                  <a:pt x="5267" y="0"/>
                </a:lnTo>
                <a:lnTo>
                  <a:pt x="5267" y="0"/>
                </a:lnTo>
                <a:lnTo>
                  <a:pt x="5278" y="0"/>
                </a:lnTo>
                <a:lnTo>
                  <a:pt x="5289" y="2"/>
                </a:lnTo>
                <a:lnTo>
                  <a:pt x="5309" y="9"/>
                </a:lnTo>
                <a:lnTo>
                  <a:pt x="5327" y="18"/>
                </a:lnTo>
                <a:lnTo>
                  <a:pt x="5344" y="32"/>
                </a:lnTo>
                <a:lnTo>
                  <a:pt x="5356" y="48"/>
                </a:lnTo>
                <a:lnTo>
                  <a:pt x="5367" y="65"/>
                </a:lnTo>
                <a:lnTo>
                  <a:pt x="5373" y="85"/>
                </a:lnTo>
                <a:lnTo>
                  <a:pt x="5375" y="96"/>
                </a:lnTo>
                <a:lnTo>
                  <a:pt x="5376" y="106"/>
                </a:lnTo>
                <a:lnTo>
                  <a:pt x="5376" y="34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995" name="Freeform 10"/>
          <p:cNvSpPr/>
          <p:nvPr/>
        </p:nvSpPr>
        <p:spPr>
          <a:xfrm>
            <a:off x="2890800" y="6226200"/>
            <a:ext cx="1231920" cy="4572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fdb913"/>
          </a:solidFill>
          <a:ln w="1260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996" name="TextBox 6"/>
          <p:cNvSpPr/>
          <p:nvPr/>
        </p:nvSpPr>
        <p:spPr>
          <a:xfrm>
            <a:off x="380880" y="6248520"/>
            <a:ext cx="853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3b27"/>
                </a:solidFill>
                <a:latin typeface="Calibri"/>
                <a:ea typeface="Arial"/>
              </a:rPr>
              <a:t>          </a:t>
            </a:r>
            <a:r>
              <a:rPr b="0" lang="en-US" sz="1600" spc="-1" strike="noStrike">
                <a:solidFill>
                  <a:srgbClr val="543b27"/>
                </a:solidFill>
                <a:latin typeface="Calibri"/>
                <a:ea typeface="Arial"/>
              </a:rPr>
              <a:t>Audience Analysis       |       </a:t>
            </a:r>
            <a:r>
              <a:rPr b="1" lang="en-US" sz="1600" spc="-1" strike="noStrike">
                <a:solidFill>
                  <a:srgbClr val="543b27"/>
                </a:solidFill>
                <a:latin typeface="Calibri"/>
                <a:ea typeface="Arial"/>
              </a:rPr>
              <a:t>Planning</a:t>
            </a:r>
            <a:r>
              <a:rPr b="0" lang="en-US" sz="1600" spc="-1" strike="noStrike">
                <a:solidFill>
                  <a:srgbClr val="543b27"/>
                </a:solidFill>
                <a:latin typeface="Calibri"/>
                <a:ea typeface="Arial"/>
              </a:rPr>
              <a:t>      |        Drafting       |       Revising       |       Proofreading</a:t>
            </a:r>
            <a:endParaRPr b="0" lang="en-US" sz="1600" spc="-1" strike="noStrike">
              <a:solidFill>
                <a:srgbClr val="672f70"/>
              </a:solidFill>
              <a:latin typeface="Arial"/>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3" name="Freeform 10"/>
          <p:cNvSpPr/>
          <p:nvPr/>
        </p:nvSpPr>
        <p:spPr>
          <a:xfrm>
            <a:off x="0" y="458640"/>
            <a:ext cx="9144000" cy="1592280"/>
          </a:xfrm>
          <a:custGeom>
            <a:avLst/>
            <a:gdLst/>
            <a:ahLst/>
            <a:rect l="l" t="t" r="r" b="b"/>
            <a:pathLst>
              <a:path w="5760" h="1003">
                <a:moveTo>
                  <a:pt x="0" y="0"/>
                </a:moveTo>
                <a:lnTo>
                  <a:pt x="0" y="865"/>
                </a:lnTo>
                <a:lnTo>
                  <a:pt x="0" y="865"/>
                </a:lnTo>
                <a:lnTo>
                  <a:pt x="13" y="857"/>
                </a:lnTo>
                <a:lnTo>
                  <a:pt x="51" y="840"/>
                </a:lnTo>
                <a:lnTo>
                  <a:pt x="76" y="829"/>
                </a:lnTo>
                <a:lnTo>
                  <a:pt x="107" y="818"/>
                </a:lnTo>
                <a:lnTo>
                  <a:pt x="142" y="808"/>
                </a:lnTo>
                <a:lnTo>
                  <a:pt x="178" y="799"/>
                </a:lnTo>
                <a:lnTo>
                  <a:pt x="220" y="792"/>
                </a:lnTo>
                <a:lnTo>
                  <a:pt x="264" y="788"/>
                </a:lnTo>
                <a:lnTo>
                  <a:pt x="307" y="788"/>
                </a:lnTo>
                <a:lnTo>
                  <a:pt x="331" y="788"/>
                </a:lnTo>
                <a:lnTo>
                  <a:pt x="354" y="792"/>
                </a:lnTo>
                <a:lnTo>
                  <a:pt x="378" y="795"/>
                </a:lnTo>
                <a:lnTo>
                  <a:pt x="402" y="801"/>
                </a:lnTo>
                <a:lnTo>
                  <a:pt x="425" y="806"/>
                </a:lnTo>
                <a:lnTo>
                  <a:pt x="449" y="815"/>
                </a:lnTo>
                <a:lnTo>
                  <a:pt x="473" y="826"/>
                </a:lnTo>
                <a:lnTo>
                  <a:pt x="496" y="836"/>
                </a:lnTo>
                <a:lnTo>
                  <a:pt x="518" y="850"/>
                </a:lnTo>
                <a:lnTo>
                  <a:pt x="542" y="865"/>
                </a:lnTo>
                <a:lnTo>
                  <a:pt x="542" y="865"/>
                </a:lnTo>
                <a:lnTo>
                  <a:pt x="556" y="873"/>
                </a:lnTo>
                <a:lnTo>
                  <a:pt x="576" y="886"/>
                </a:lnTo>
                <a:lnTo>
                  <a:pt x="603" y="900"/>
                </a:lnTo>
                <a:lnTo>
                  <a:pt x="638" y="916"/>
                </a:lnTo>
                <a:lnTo>
                  <a:pt x="676" y="932"/>
                </a:lnTo>
                <a:lnTo>
                  <a:pt x="720" y="950"/>
                </a:lnTo>
                <a:lnTo>
                  <a:pt x="769" y="964"/>
                </a:lnTo>
                <a:lnTo>
                  <a:pt x="822" y="978"/>
                </a:lnTo>
                <a:lnTo>
                  <a:pt x="876" y="990"/>
                </a:lnTo>
                <a:lnTo>
                  <a:pt x="936" y="997"/>
                </a:lnTo>
                <a:lnTo>
                  <a:pt x="965" y="1001"/>
                </a:lnTo>
                <a:lnTo>
                  <a:pt x="996" y="1003"/>
                </a:lnTo>
                <a:lnTo>
                  <a:pt x="1027" y="1003"/>
                </a:lnTo>
                <a:lnTo>
                  <a:pt x="1058" y="1001"/>
                </a:lnTo>
                <a:lnTo>
                  <a:pt x="1091" y="999"/>
                </a:lnTo>
                <a:lnTo>
                  <a:pt x="1121" y="996"/>
                </a:lnTo>
                <a:lnTo>
                  <a:pt x="1154" y="990"/>
                </a:lnTo>
                <a:lnTo>
                  <a:pt x="1187" y="983"/>
                </a:lnTo>
                <a:lnTo>
                  <a:pt x="1220" y="974"/>
                </a:lnTo>
                <a:lnTo>
                  <a:pt x="1251" y="962"/>
                </a:lnTo>
                <a:lnTo>
                  <a:pt x="1283" y="950"/>
                </a:lnTo>
                <a:lnTo>
                  <a:pt x="1316" y="935"/>
                </a:lnTo>
                <a:lnTo>
                  <a:pt x="1316" y="935"/>
                </a:lnTo>
                <a:lnTo>
                  <a:pt x="1336" y="925"/>
                </a:lnTo>
                <a:lnTo>
                  <a:pt x="1369" y="912"/>
                </a:lnTo>
                <a:lnTo>
                  <a:pt x="1409" y="898"/>
                </a:lnTo>
                <a:lnTo>
                  <a:pt x="1458" y="884"/>
                </a:lnTo>
                <a:lnTo>
                  <a:pt x="1514" y="868"/>
                </a:lnTo>
                <a:lnTo>
                  <a:pt x="1574" y="852"/>
                </a:lnTo>
                <a:lnTo>
                  <a:pt x="1639" y="836"/>
                </a:lnTo>
                <a:lnTo>
                  <a:pt x="1707" y="822"/>
                </a:lnTo>
                <a:lnTo>
                  <a:pt x="1776" y="811"/>
                </a:lnTo>
                <a:lnTo>
                  <a:pt x="1845" y="803"/>
                </a:lnTo>
                <a:lnTo>
                  <a:pt x="1914" y="797"/>
                </a:lnTo>
                <a:lnTo>
                  <a:pt x="1947" y="797"/>
                </a:lnTo>
                <a:lnTo>
                  <a:pt x="1979" y="797"/>
                </a:lnTo>
                <a:lnTo>
                  <a:pt x="2012" y="799"/>
                </a:lnTo>
                <a:lnTo>
                  <a:pt x="2043" y="803"/>
                </a:lnTo>
                <a:lnTo>
                  <a:pt x="2072" y="806"/>
                </a:lnTo>
                <a:lnTo>
                  <a:pt x="2099" y="811"/>
                </a:lnTo>
                <a:lnTo>
                  <a:pt x="2127" y="818"/>
                </a:lnTo>
                <a:lnTo>
                  <a:pt x="2150" y="829"/>
                </a:lnTo>
                <a:lnTo>
                  <a:pt x="2174" y="840"/>
                </a:lnTo>
                <a:lnTo>
                  <a:pt x="2196" y="852"/>
                </a:lnTo>
                <a:lnTo>
                  <a:pt x="2196" y="852"/>
                </a:lnTo>
                <a:lnTo>
                  <a:pt x="2223" y="872"/>
                </a:lnTo>
                <a:lnTo>
                  <a:pt x="2243" y="882"/>
                </a:lnTo>
                <a:lnTo>
                  <a:pt x="2268" y="896"/>
                </a:lnTo>
                <a:lnTo>
                  <a:pt x="2297" y="911"/>
                </a:lnTo>
                <a:lnTo>
                  <a:pt x="2330" y="923"/>
                </a:lnTo>
                <a:lnTo>
                  <a:pt x="2368" y="937"/>
                </a:lnTo>
                <a:lnTo>
                  <a:pt x="2412" y="948"/>
                </a:lnTo>
                <a:lnTo>
                  <a:pt x="2459" y="957"/>
                </a:lnTo>
                <a:lnTo>
                  <a:pt x="2512" y="964"/>
                </a:lnTo>
                <a:lnTo>
                  <a:pt x="2570" y="967"/>
                </a:lnTo>
                <a:lnTo>
                  <a:pt x="2636" y="967"/>
                </a:lnTo>
                <a:lnTo>
                  <a:pt x="2668" y="966"/>
                </a:lnTo>
                <a:lnTo>
                  <a:pt x="2705" y="962"/>
                </a:lnTo>
                <a:lnTo>
                  <a:pt x="2741" y="958"/>
                </a:lnTo>
                <a:lnTo>
                  <a:pt x="2779" y="953"/>
                </a:lnTo>
                <a:lnTo>
                  <a:pt x="2819" y="946"/>
                </a:lnTo>
                <a:lnTo>
                  <a:pt x="2861" y="937"/>
                </a:lnTo>
                <a:lnTo>
                  <a:pt x="2905" y="928"/>
                </a:lnTo>
                <a:lnTo>
                  <a:pt x="2948" y="916"/>
                </a:lnTo>
                <a:lnTo>
                  <a:pt x="2948" y="916"/>
                </a:lnTo>
                <a:lnTo>
                  <a:pt x="3010" y="896"/>
                </a:lnTo>
                <a:lnTo>
                  <a:pt x="3090" y="870"/>
                </a:lnTo>
                <a:lnTo>
                  <a:pt x="3137" y="854"/>
                </a:lnTo>
                <a:lnTo>
                  <a:pt x="3186" y="840"/>
                </a:lnTo>
                <a:lnTo>
                  <a:pt x="3239" y="826"/>
                </a:lnTo>
                <a:lnTo>
                  <a:pt x="3294" y="813"/>
                </a:lnTo>
                <a:lnTo>
                  <a:pt x="3350" y="803"/>
                </a:lnTo>
                <a:lnTo>
                  <a:pt x="3406" y="795"/>
                </a:lnTo>
                <a:lnTo>
                  <a:pt x="3464" y="792"/>
                </a:lnTo>
                <a:lnTo>
                  <a:pt x="3493" y="792"/>
                </a:lnTo>
                <a:lnTo>
                  <a:pt x="3523" y="792"/>
                </a:lnTo>
                <a:lnTo>
                  <a:pt x="3550" y="794"/>
                </a:lnTo>
                <a:lnTo>
                  <a:pt x="3579" y="797"/>
                </a:lnTo>
                <a:lnTo>
                  <a:pt x="3606" y="803"/>
                </a:lnTo>
                <a:lnTo>
                  <a:pt x="3633" y="808"/>
                </a:lnTo>
                <a:lnTo>
                  <a:pt x="3661" y="815"/>
                </a:lnTo>
                <a:lnTo>
                  <a:pt x="3686" y="826"/>
                </a:lnTo>
                <a:lnTo>
                  <a:pt x="3713" y="836"/>
                </a:lnTo>
                <a:lnTo>
                  <a:pt x="3737" y="849"/>
                </a:lnTo>
                <a:lnTo>
                  <a:pt x="3737" y="849"/>
                </a:lnTo>
                <a:lnTo>
                  <a:pt x="3761" y="861"/>
                </a:lnTo>
                <a:lnTo>
                  <a:pt x="3793" y="873"/>
                </a:lnTo>
                <a:lnTo>
                  <a:pt x="3835" y="888"/>
                </a:lnTo>
                <a:lnTo>
                  <a:pt x="3882" y="904"/>
                </a:lnTo>
                <a:lnTo>
                  <a:pt x="3937" y="918"/>
                </a:lnTo>
                <a:lnTo>
                  <a:pt x="3995" y="932"/>
                </a:lnTo>
                <a:lnTo>
                  <a:pt x="4059" y="944"/>
                </a:lnTo>
                <a:lnTo>
                  <a:pt x="4124" y="957"/>
                </a:lnTo>
                <a:lnTo>
                  <a:pt x="4191" y="966"/>
                </a:lnTo>
                <a:lnTo>
                  <a:pt x="4260" y="971"/>
                </a:lnTo>
                <a:lnTo>
                  <a:pt x="4330" y="974"/>
                </a:lnTo>
                <a:lnTo>
                  <a:pt x="4364" y="974"/>
                </a:lnTo>
                <a:lnTo>
                  <a:pt x="4397" y="973"/>
                </a:lnTo>
                <a:lnTo>
                  <a:pt x="4430" y="971"/>
                </a:lnTo>
                <a:lnTo>
                  <a:pt x="4462" y="967"/>
                </a:lnTo>
                <a:lnTo>
                  <a:pt x="4493" y="964"/>
                </a:lnTo>
                <a:lnTo>
                  <a:pt x="4524" y="957"/>
                </a:lnTo>
                <a:lnTo>
                  <a:pt x="4553" y="950"/>
                </a:lnTo>
                <a:lnTo>
                  <a:pt x="4580" y="941"/>
                </a:lnTo>
                <a:lnTo>
                  <a:pt x="4608" y="930"/>
                </a:lnTo>
                <a:lnTo>
                  <a:pt x="4633" y="919"/>
                </a:lnTo>
                <a:lnTo>
                  <a:pt x="4633" y="919"/>
                </a:lnTo>
                <a:lnTo>
                  <a:pt x="4660" y="907"/>
                </a:lnTo>
                <a:lnTo>
                  <a:pt x="4693" y="895"/>
                </a:lnTo>
                <a:lnTo>
                  <a:pt x="4733" y="880"/>
                </a:lnTo>
                <a:lnTo>
                  <a:pt x="4777" y="868"/>
                </a:lnTo>
                <a:lnTo>
                  <a:pt x="4826" y="854"/>
                </a:lnTo>
                <a:lnTo>
                  <a:pt x="4878" y="842"/>
                </a:lnTo>
                <a:lnTo>
                  <a:pt x="4935" y="831"/>
                </a:lnTo>
                <a:lnTo>
                  <a:pt x="4991" y="822"/>
                </a:lnTo>
                <a:lnTo>
                  <a:pt x="5049" y="813"/>
                </a:lnTo>
                <a:lnTo>
                  <a:pt x="5106" y="808"/>
                </a:lnTo>
                <a:lnTo>
                  <a:pt x="5162" y="804"/>
                </a:lnTo>
                <a:lnTo>
                  <a:pt x="5217" y="804"/>
                </a:lnTo>
                <a:lnTo>
                  <a:pt x="5269" y="808"/>
                </a:lnTo>
                <a:lnTo>
                  <a:pt x="5293" y="810"/>
                </a:lnTo>
                <a:lnTo>
                  <a:pt x="5317" y="815"/>
                </a:lnTo>
                <a:lnTo>
                  <a:pt x="5340" y="818"/>
                </a:lnTo>
                <a:lnTo>
                  <a:pt x="5360" y="826"/>
                </a:lnTo>
                <a:lnTo>
                  <a:pt x="5380" y="833"/>
                </a:lnTo>
                <a:lnTo>
                  <a:pt x="5398" y="840"/>
                </a:lnTo>
                <a:lnTo>
                  <a:pt x="5398" y="840"/>
                </a:lnTo>
                <a:lnTo>
                  <a:pt x="5416" y="849"/>
                </a:lnTo>
                <a:lnTo>
                  <a:pt x="5436" y="857"/>
                </a:lnTo>
                <a:lnTo>
                  <a:pt x="5476" y="870"/>
                </a:lnTo>
                <a:lnTo>
                  <a:pt x="5520" y="880"/>
                </a:lnTo>
                <a:lnTo>
                  <a:pt x="5566" y="889"/>
                </a:lnTo>
                <a:lnTo>
                  <a:pt x="5615" y="895"/>
                </a:lnTo>
                <a:lnTo>
                  <a:pt x="5662" y="900"/>
                </a:lnTo>
                <a:lnTo>
                  <a:pt x="5711" y="902"/>
                </a:lnTo>
                <a:lnTo>
                  <a:pt x="5760" y="902"/>
                </a:lnTo>
                <a:lnTo>
                  <a:pt x="5760" y="0"/>
                </a:lnTo>
                <a:lnTo>
                  <a:pt x="0" y="0"/>
                </a:lnTo>
                <a:close/>
              </a:path>
            </a:pathLst>
          </a:custGeom>
          <a:solidFill>
            <a:srgbClr val="ad7b51"/>
          </a:solidFill>
          <a:ln w="0">
            <a:noFill/>
          </a:ln>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1034" name="Freeform 11"/>
          <p:cNvSpPr/>
          <p:nvPr/>
        </p:nvSpPr>
        <p:spPr>
          <a:xfrm>
            <a:off x="3240" y="0"/>
            <a:ext cx="9140760" cy="1422360"/>
          </a:xfrm>
          <a:custGeom>
            <a:avLst/>
            <a:gdLst/>
            <a:ahLst/>
            <a:rect l="l" t="t" r="r" b="b"/>
            <a:pathLst>
              <a:path w="5758" h="896">
                <a:moveTo>
                  <a:pt x="0" y="0"/>
                </a:moveTo>
                <a:lnTo>
                  <a:pt x="0" y="758"/>
                </a:lnTo>
                <a:lnTo>
                  <a:pt x="0" y="758"/>
                </a:lnTo>
                <a:lnTo>
                  <a:pt x="25" y="763"/>
                </a:lnTo>
                <a:lnTo>
                  <a:pt x="93" y="772"/>
                </a:lnTo>
                <a:lnTo>
                  <a:pt x="194" y="783"/>
                </a:lnTo>
                <a:lnTo>
                  <a:pt x="256" y="788"/>
                </a:lnTo>
                <a:lnTo>
                  <a:pt x="320" y="792"/>
                </a:lnTo>
                <a:lnTo>
                  <a:pt x="389" y="795"/>
                </a:lnTo>
                <a:lnTo>
                  <a:pt x="458" y="795"/>
                </a:lnTo>
                <a:lnTo>
                  <a:pt x="529" y="793"/>
                </a:lnTo>
                <a:lnTo>
                  <a:pt x="598" y="790"/>
                </a:lnTo>
                <a:lnTo>
                  <a:pt x="667" y="781"/>
                </a:lnTo>
                <a:lnTo>
                  <a:pt x="700" y="776"/>
                </a:lnTo>
                <a:lnTo>
                  <a:pt x="730" y="770"/>
                </a:lnTo>
                <a:lnTo>
                  <a:pt x="761" y="763"/>
                </a:lnTo>
                <a:lnTo>
                  <a:pt x="790" y="754"/>
                </a:lnTo>
                <a:lnTo>
                  <a:pt x="820" y="746"/>
                </a:lnTo>
                <a:lnTo>
                  <a:pt x="845" y="733"/>
                </a:lnTo>
                <a:lnTo>
                  <a:pt x="845" y="733"/>
                </a:lnTo>
                <a:lnTo>
                  <a:pt x="867" y="726"/>
                </a:lnTo>
                <a:lnTo>
                  <a:pt x="889" y="719"/>
                </a:lnTo>
                <a:lnTo>
                  <a:pt x="912" y="712"/>
                </a:lnTo>
                <a:lnTo>
                  <a:pt x="938" y="708"/>
                </a:lnTo>
                <a:lnTo>
                  <a:pt x="963" y="705"/>
                </a:lnTo>
                <a:lnTo>
                  <a:pt x="990" y="701"/>
                </a:lnTo>
                <a:lnTo>
                  <a:pt x="1049" y="698"/>
                </a:lnTo>
                <a:lnTo>
                  <a:pt x="1110" y="698"/>
                </a:lnTo>
                <a:lnTo>
                  <a:pt x="1174" y="701"/>
                </a:lnTo>
                <a:lnTo>
                  <a:pt x="1239" y="707"/>
                </a:lnTo>
                <a:lnTo>
                  <a:pt x="1305" y="715"/>
                </a:lnTo>
                <a:lnTo>
                  <a:pt x="1368" y="724"/>
                </a:lnTo>
                <a:lnTo>
                  <a:pt x="1430" y="735"/>
                </a:lnTo>
                <a:lnTo>
                  <a:pt x="1490" y="747"/>
                </a:lnTo>
                <a:lnTo>
                  <a:pt x="1545" y="761"/>
                </a:lnTo>
                <a:lnTo>
                  <a:pt x="1596" y="774"/>
                </a:lnTo>
                <a:lnTo>
                  <a:pt x="1639" y="788"/>
                </a:lnTo>
                <a:lnTo>
                  <a:pt x="1677" y="800"/>
                </a:lnTo>
                <a:lnTo>
                  <a:pt x="1707" y="813"/>
                </a:lnTo>
                <a:lnTo>
                  <a:pt x="1707" y="813"/>
                </a:lnTo>
                <a:lnTo>
                  <a:pt x="1736" y="825"/>
                </a:lnTo>
                <a:lnTo>
                  <a:pt x="1765" y="834"/>
                </a:lnTo>
                <a:lnTo>
                  <a:pt x="1797" y="843"/>
                </a:lnTo>
                <a:lnTo>
                  <a:pt x="1830" y="850"/>
                </a:lnTo>
                <a:lnTo>
                  <a:pt x="1865" y="857"/>
                </a:lnTo>
                <a:lnTo>
                  <a:pt x="1899" y="861"/>
                </a:lnTo>
                <a:lnTo>
                  <a:pt x="1936" y="864"/>
                </a:lnTo>
                <a:lnTo>
                  <a:pt x="1974" y="868"/>
                </a:lnTo>
                <a:lnTo>
                  <a:pt x="2010" y="868"/>
                </a:lnTo>
                <a:lnTo>
                  <a:pt x="2048" y="868"/>
                </a:lnTo>
                <a:lnTo>
                  <a:pt x="2126" y="864"/>
                </a:lnTo>
                <a:lnTo>
                  <a:pt x="2203" y="859"/>
                </a:lnTo>
                <a:lnTo>
                  <a:pt x="2279" y="850"/>
                </a:lnTo>
                <a:lnTo>
                  <a:pt x="2354" y="838"/>
                </a:lnTo>
                <a:lnTo>
                  <a:pt x="2425" y="825"/>
                </a:lnTo>
                <a:lnTo>
                  <a:pt x="2490" y="811"/>
                </a:lnTo>
                <a:lnTo>
                  <a:pt x="2552" y="797"/>
                </a:lnTo>
                <a:lnTo>
                  <a:pt x="2606" y="781"/>
                </a:lnTo>
                <a:lnTo>
                  <a:pt x="2652" y="767"/>
                </a:lnTo>
                <a:lnTo>
                  <a:pt x="2688" y="754"/>
                </a:lnTo>
                <a:lnTo>
                  <a:pt x="2715" y="742"/>
                </a:lnTo>
                <a:lnTo>
                  <a:pt x="2715" y="742"/>
                </a:lnTo>
                <a:lnTo>
                  <a:pt x="2743" y="730"/>
                </a:lnTo>
                <a:lnTo>
                  <a:pt x="2772" y="719"/>
                </a:lnTo>
                <a:lnTo>
                  <a:pt x="2803" y="708"/>
                </a:lnTo>
                <a:lnTo>
                  <a:pt x="2832" y="701"/>
                </a:lnTo>
                <a:lnTo>
                  <a:pt x="2863" y="696"/>
                </a:lnTo>
                <a:lnTo>
                  <a:pt x="2893" y="691"/>
                </a:lnTo>
                <a:lnTo>
                  <a:pt x="2926" y="687"/>
                </a:lnTo>
                <a:lnTo>
                  <a:pt x="2957" y="685"/>
                </a:lnTo>
                <a:lnTo>
                  <a:pt x="2990" y="685"/>
                </a:lnTo>
                <a:lnTo>
                  <a:pt x="3022" y="685"/>
                </a:lnTo>
                <a:lnTo>
                  <a:pt x="3088" y="689"/>
                </a:lnTo>
                <a:lnTo>
                  <a:pt x="3152" y="696"/>
                </a:lnTo>
                <a:lnTo>
                  <a:pt x="3215" y="707"/>
                </a:lnTo>
                <a:lnTo>
                  <a:pt x="3277" y="719"/>
                </a:lnTo>
                <a:lnTo>
                  <a:pt x="3335" y="733"/>
                </a:lnTo>
                <a:lnTo>
                  <a:pt x="3391" y="747"/>
                </a:lnTo>
                <a:lnTo>
                  <a:pt x="3444" y="763"/>
                </a:lnTo>
                <a:lnTo>
                  <a:pt x="3535" y="790"/>
                </a:lnTo>
                <a:lnTo>
                  <a:pt x="3602" y="809"/>
                </a:lnTo>
                <a:lnTo>
                  <a:pt x="3602" y="809"/>
                </a:lnTo>
                <a:lnTo>
                  <a:pt x="3653" y="822"/>
                </a:lnTo>
                <a:lnTo>
                  <a:pt x="3702" y="831"/>
                </a:lnTo>
                <a:lnTo>
                  <a:pt x="3748" y="839"/>
                </a:lnTo>
                <a:lnTo>
                  <a:pt x="3793" y="847"/>
                </a:lnTo>
                <a:lnTo>
                  <a:pt x="3837" y="852"/>
                </a:lnTo>
                <a:lnTo>
                  <a:pt x="3879" y="855"/>
                </a:lnTo>
                <a:lnTo>
                  <a:pt x="3919" y="859"/>
                </a:lnTo>
                <a:lnTo>
                  <a:pt x="3957" y="861"/>
                </a:lnTo>
                <a:lnTo>
                  <a:pt x="4028" y="861"/>
                </a:lnTo>
                <a:lnTo>
                  <a:pt x="4093" y="857"/>
                </a:lnTo>
                <a:lnTo>
                  <a:pt x="4153" y="850"/>
                </a:lnTo>
                <a:lnTo>
                  <a:pt x="4208" y="841"/>
                </a:lnTo>
                <a:lnTo>
                  <a:pt x="4257" y="831"/>
                </a:lnTo>
                <a:lnTo>
                  <a:pt x="4298" y="816"/>
                </a:lnTo>
                <a:lnTo>
                  <a:pt x="4337" y="804"/>
                </a:lnTo>
                <a:lnTo>
                  <a:pt x="4369" y="790"/>
                </a:lnTo>
                <a:lnTo>
                  <a:pt x="4397" y="776"/>
                </a:lnTo>
                <a:lnTo>
                  <a:pt x="4420" y="765"/>
                </a:lnTo>
                <a:lnTo>
                  <a:pt x="4451" y="746"/>
                </a:lnTo>
                <a:lnTo>
                  <a:pt x="4451" y="746"/>
                </a:lnTo>
                <a:lnTo>
                  <a:pt x="4475" y="733"/>
                </a:lnTo>
                <a:lnTo>
                  <a:pt x="4500" y="723"/>
                </a:lnTo>
                <a:lnTo>
                  <a:pt x="4529" y="712"/>
                </a:lnTo>
                <a:lnTo>
                  <a:pt x="4558" y="705"/>
                </a:lnTo>
                <a:lnTo>
                  <a:pt x="4589" y="699"/>
                </a:lnTo>
                <a:lnTo>
                  <a:pt x="4624" y="696"/>
                </a:lnTo>
                <a:lnTo>
                  <a:pt x="4658" y="692"/>
                </a:lnTo>
                <a:lnTo>
                  <a:pt x="4693" y="691"/>
                </a:lnTo>
                <a:lnTo>
                  <a:pt x="4729" y="691"/>
                </a:lnTo>
                <a:lnTo>
                  <a:pt x="4767" y="692"/>
                </a:lnTo>
                <a:lnTo>
                  <a:pt x="4844" y="696"/>
                </a:lnTo>
                <a:lnTo>
                  <a:pt x="4922" y="705"/>
                </a:lnTo>
                <a:lnTo>
                  <a:pt x="5000" y="715"/>
                </a:lnTo>
                <a:lnTo>
                  <a:pt x="5076" y="730"/>
                </a:lnTo>
                <a:lnTo>
                  <a:pt x="5149" y="746"/>
                </a:lnTo>
                <a:lnTo>
                  <a:pt x="5218" y="761"/>
                </a:lnTo>
                <a:lnTo>
                  <a:pt x="5280" y="777"/>
                </a:lnTo>
                <a:lnTo>
                  <a:pt x="5334" y="792"/>
                </a:lnTo>
                <a:lnTo>
                  <a:pt x="5382" y="806"/>
                </a:lnTo>
                <a:lnTo>
                  <a:pt x="5416" y="818"/>
                </a:lnTo>
                <a:lnTo>
                  <a:pt x="5442" y="829"/>
                </a:lnTo>
                <a:lnTo>
                  <a:pt x="5442" y="829"/>
                </a:lnTo>
                <a:lnTo>
                  <a:pt x="5480" y="845"/>
                </a:lnTo>
                <a:lnTo>
                  <a:pt x="5520" y="859"/>
                </a:lnTo>
                <a:lnTo>
                  <a:pt x="5560" y="870"/>
                </a:lnTo>
                <a:lnTo>
                  <a:pt x="5600" y="878"/>
                </a:lnTo>
                <a:lnTo>
                  <a:pt x="5640" y="886"/>
                </a:lnTo>
                <a:lnTo>
                  <a:pt x="5680" y="891"/>
                </a:lnTo>
                <a:lnTo>
                  <a:pt x="5720" y="894"/>
                </a:lnTo>
                <a:lnTo>
                  <a:pt x="5758" y="896"/>
                </a:lnTo>
                <a:lnTo>
                  <a:pt x="5758" y="0"/>
                </a:lnTo>
                <a:lnTo>
                  <a:pt x="0" y="0"/>
                </a:lnTo>
                <a:close/>
              </a:path>
            </a:pathLst>
          </a:custGeom>
          <a:solidFill>
            <a:srgbClr val="543b27"/>
          </a:solidFill>
          <a:ln w="0">
            <a:noFill/>
          </a:ln>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1035" name="Text Box 12"/>
          <p:cNvSpPr/>
          <p:nvPr/>
        </p:nvSpPr>
        <p:spPr>
          <a:xfrm rot="16200000">
            <a:off x="-810000" y="5823720"/>
            <a:ext cx="1838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96c18"/>
                </a:solidFill>
                <a:latin typeface="Arial"/>
                <a:ea typeface="Arial"/>
              </a:rPr>
              <a:t>Copyright © 2012 Cengage Learning</a:t>
            </a:r>
            <a:endParaRPr b="0" lang="en-US" sz="800" spc="-1" strike="noStrike">
              <a:solidFill>
                <a:srgbClr val="672f70"/>
              </a:solidFill>
              <a:latin typeface="Arial"/>
            </a:endParaRPr>
          </a:p>
        </p:txBody>
      </p:sp>
      <p:sp>
        <p:nvSpPr>
          <p:cNvPr id="1036" name="Freeform 12"/>
          <p:cNvSpPr/>
          <p:nvPr/>
        </p:nvSpPr>
        <p:spPr>
          <a:xfrm>
            <a:off x="378000" y="1052640"/>
            <a:ext cx="8534160" cy="5043240"/>
          </a:xfrm>
          <a:custGeom>
            <a:avLst/>
            <a:gdLst/>
            <a:ahLst/>
            <a:rect l="l" t="t" r="r" b="b"/>
            <a:pathLst>
              <a:path w="5376" h="3530">
                <a:moveTo>
                  <a:pt x="5376" y="3423"/>
                </a:moveTo>
                <a:lnTo>
                  <a:pt x="5376" y="3423"/>
                </a:lnTo>
                <a:lnTo>
                  <a:pt x="5375" y="3434"/>
                </a:lnTo>
                <a:lnTo>
                  <a:pt x="5373" y="3445"/>
                </a:lnTo>
                <a:lnTo>
                  <a:pt x="5367" y="3464"/>
                </a:lnTo>
                <a:lnTo>
                  <a:pt x="5356" y="3482"/>
                </a:lnTo>
                <a:lnTo>
                  <a:pt x="5344" y="3498"/>
                </a:lnTo>
                <a:lnTo>
                  <a:pt x="5327" y="3512"/>
                </a:lnTo>
                <a:lnTo>
                  <a:pt x="5309" y="3521"/>
                </a:lnTo>
                <a:lnTo>
                  <a:pt x="5289" y="3528"/>
                </a:lnTo>
                <a:lnTo>
                  <a:pt x="5278" y="3530"/>
                </a:lnTo>
                <a:lnTo>
                  <a:pt x="5267" y="3530"/>
                </a:lnTo>
                <a:lnTo>
                  <a:pt x="109" y="3530"/>
                </a:lnTo>
                <a:lnTo>
                  <a:pt x="109" y="3530"/>
                </a:lnTo>
                <a:lnTo>
                  <a:pt x="98" y="3530"/>
                </a:lnTo>
                <a:lnTo>
                  <a:pt x="87" y="3528"/>
                </a:lnTo>
                <a:lnTo>
                  <a:pt x="67" y="3521"/>
                </a:lnTo>
                <a:lnTo>
                  <a:pt x="49" y="3512"/>
                </a:lnTo>
                <a:lnTo>
                  <a:pt x="33" y="3498"/>
                </a:lnTo>
                <a:lnTo>
                  <a:pt x="20" y="3482"/>
                </a:lnTo>
                <a:lnTo>
                  <a:pt x="9" y="3464"/>
                </a:lnTo>
                <a:lnTo>
                  <a:pt x="3" y="3445"/>
                </a:lnTo>
                <a:lnTo>
                  <a:pt x="2" y="3434"/>
                </a:lnTo>
                <a:lnTo>
                  <a:pt x="0" y="3423"/>
                </a:lnTo>
                <a:lnTo>
                  <a:pt x="0" y="106"/>
                </a:lnTo>
                <a:lnTo>
                  <a:pt x="0" y="106"/>
                </a:lnTo>
                <a:lnTo>
                  <a:pt x="2" y="96"/>
                </a:lnTo>
                <a:lnTo>
                  <a:pt x="3" y="85"/>
                </a:lnTo>
                <a:lnTo>
                  <a:pt x="9" y="65"/>
                </a:lnTo>
                <a:lnTo>
                  <a:pt x="20" y="48"/>
                </a:lnTo>
                <a:lnTo>
                  <a:pt x="33" y="32"/>
                </a:lnTo>
                <a:lnTo>
                  <a:pt x="49" y="18"/>
                </a:lnTo>
                <a:lnTo>
                  <a:pt x="67" y="9"/>
                </a:lnTo>
                <a:lnTo>
                  <a:pt x="87" y="2"/>
                </a:lnTo>
                <a:lnTo>
                  <a:pt x="98" y="0"/>
                </a:lnTo>
                <a:lnTo>
                  <a:pt x="109" y="0"/>
                </a:lnTo>
                <a:lnTo>
                  <a:pt x="5267" y="0"/>
                </a:lnTo>
                <a:lnTo>
                  <a:pt x="5267" y="0"/>
                </a:lnTo>
                <a:lnTo>
                  <a:pt x="5278" y="0"/>
                </a:lnTo>
                <a:lnTo>
                  <a:pt x="5289" y="2"/>
                </a:lnTo>
                <a:lnTo>
                  <a:pt x="5309" y="9"/>
                </a:lnTo>
                <a:lnTo>
                  <a:pt x="5327" y="18"/>
                </a:lnTo>
                <a:lnTo>
                  <a:pt x="5344" y="32"/>
                </a:lnTo>
                <a:lnTo>
                  <a:pt x="5356" y="48"/>
                </a:lnTo>
                <a:lnTo>
                  <a:pt x="5367" y="65"/>
                </a:lnTo>
                <a:lnTo>
                  <a:pt x="5373" y="85"/>
                </a:lnTo>
                <a:lnTo>
                  <a:pt x="5375" y="96"/>
                </a:lnTo>
                <a:lnTo>
                  <a:pt x="5376" y="106"/>
                </a:lnTo>
                <a:lnTo>
                  <a:pt x="5376" y="34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1037" name="Freeform 10"/>
          <p:cNvSpPr/>
          <p:nvPr/>
        </p:nvSpPr>
        <p:spPr>
          <a:xfrm>
            <a:off x="4238640" y="6237360"/>
            <a:ext cx="1324080" cy="4572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fdb913"/>
          </a:solidFill>
          <a:ln w="1260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1038" name="TextBox 6"/>
          <p:cNvSpPr/>
          <p:nvPr/>
        </p:nvSpPr>
        <p:spPr>
          <a:xfrm>
            <a:off x="380880" y="6248520"/>
            <a:ext cx="853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3b27"/>
                </a:solidFill>
                <a:latin typeface="Calibri"/>
                <a:ea typeface="Arial"/>
              </a:rPr>
              <a:t>          </a:t>
            </a:r>
            <a:r>
              <a:rPr b="0" lang="en-US" sz="1600" spc="-1" strike="noStrike">
                <a:solidFill>
                  <a:srgbClr val="543b27"/>
                </a:solidFill>
                <a:latin typeface="Calibri"/>
                <a:ea typeface="Arial"/>
              </a:rPr>
              <a:t>Audience Analysis       |       Planning      |        </a:t>
            </a:r>
            <a:r>
              <a:rPr b="1" lang="en-US" sz="1600" spc="-1" strike="noStrike">
                <a:solidFill>
                  <a:srgbClr val="543b27"/>
                </a:solidFill>
                <a:latin typeface="Calibri"/>
                <a:ea typeface="Arial"/>
              </a:rPr>
              <a:t>Drafting</a:t>
            </a:r>
            <a:r>
              <a:rPr b="0" lang="en-US" sz="1600" spc="-1" strike="noStrike">
                <a:solidFill>
                  <a:srgbClr val="543b27"/>
                </a:solidFill>
                <a:latin typeface="Calibri"/>
                <a:ea typeface="Arial"/>
              </a:rPr>
              <a:t>       |       Revising       |       Proofreading</a:t>
            </a:r>
            <a:endParaRPr b="0" lang="en-US" sz="1600" spc="-1" strike="noStrike">
              <a:solidFill>
                <a:srgbClr val="672f70"/>
              </a:solidFill>
              <a:latin typeface="Arial"/>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Freeform 10"/>
          <p:cNvSpPr/>
          <p:nvPr/>
        </p:nvSpPr>
        <p:spPr>
          <a:xfrm>
            <a:off x="0" y="458640"/>
            <a:ext cx="9144000" cy="1592280"/>
          </a:xfrm>
          <a:custGeom>
            <a:avLst/>
            <a:gdLst/>
            <a:ahLst/>
            <a:rect l="l" t="t" r="r" b="b"/>
            <a:pathLst>
              <a:path w="5760" h="1003">
                <a:moveTo>
                  <a:pt x="0" y="0"/>
                </a:moveTo>
                <a:lnTo>
                  <a:pt x="0" y="865"/>
                </a:lnTo>
                <a:lnTo>
                  <a:pt x="0" y="865"/>
                </a:lnTo>
                <a:lnTo>
                  <a:pt x="13" y="857"/>
                </a:lnTo>
                <a:lnTo>
                  <a:pt x="51" y="840"/>
                </a:lnTo>
                <a:lnTo>
                  <a:pt x="76" y="829"/>
                </a:lnTo>
                <a:lnTo>
                  <a:pt x="107" y="818"/>
                </a:lnTo>
                <a:lnTo>
                  <a:pt x="142" y="808"/>
                </a:lnTo>
                <a:lnTo>
                  <a:pt x="178" y="799"/>
                </a:lnTo>
                <a:lnTo>
                  <a:pt x="220" y="792"/>
                </a:lnTo>
                <a:lnTo>
                  <a:pt x="264" y="788"/>
                </a:lnTo>
                <a:lnTo>
                  <a:pt x="307" y="788"/>
                </a:lnTo>
                <a:lnTo>
                  <a:pt x="331" y="788"/>
                </a:lnTo>
                <a:lnTo>
                  <a:pt x="354" y="792"/>
                </a:lnTo>
                <a:lnTo>
                  <a:pt x="378" y="795"/>
                </a:lnTo>
                <a:lnTo>
                  <a:pt x="402" y="801"/>
                </a:lnTo>
                <a:lnTo>
                  <a:pt x="425" y="806"/>
                </a:lnTo>
                <a:lnTo>
                  <a:pt x="449" y="815"/>
                </a:lnTo>
                <a:lnTo>
                  <a:pt x="473" y="826"/>
                </a:lnTo>
                <a:lnTo>
                  <a:pt x="496" y="836"/>
                </a:lnTo>
                <a:lnTo>
                  <a:pt x="518" y="850"/>
                </a:lnTo>
                <a:lnTo>
                  <a:pt x="542" y="865"/>
                </a:lnTo>
                <a:lnTo>
                  <a:pt x="542" y="865"/>
                </a:lnTo>
                <a:lnTo>
                  <a:pt x="556" y="873"/>
                </a:lnTo>
                <a:lnTo>
                  <a:pt x="576" y="886"/>
                </a:lnTo>
                <a:lnTo>
                  <a:pt x="603" y="900"/>
                </a:lnTo>
                <a:lnTo>
                  <a:pt x="638" y="916"/>
                </a:lnTo>
                <a:lnTo>
                  <a:pt x="676" y="932"/>
                </a:lnTo>
                <a:lnTo>
                  <a:pt x="720" y="950"/>
                </a:lnTo>
                <a:lnTo>
                  <a:pt x="769" y="964"/>
                </a:lnTo>
                <a:lnTo>
                  <a:pt x="822" y="978"/>
                </a:lnTo>
                <a:lnTo>
                  <a:pt x="876" y="990"/>
                </a:lnTo>
                <a:lnTo>
                  <a:pt x="936" y="997"/>
                </a:lnTo>
                <a:lnTo>
                  <a:pt x="965" y="1001"/>
                </a:lnTo>
                <a:lnTo>
                  <a:pt x="996" y="1003"/>
                </a:lnTo>
                <a:lnTo>
                  <a:pt x="1027" y="1003"/>
                </a:lnTo>
                <a:lnTo>
                  <a:pt x="1058" y="1001"/>
                </a:lnTo>
                <a:lnTo>
                  <a:pt x="1091" y="999"/>
                </a:lnTo>
                <a:lnTo>
                  <a:pt x="1121" y="996"/>
                </a:lnTo>
                <a:lnTo>
                  <a:pt x="1154" y="990"/>
                </a:lnTo>
                <a:lnTo>
                  <a:pt x="1187" y="983"/>
                </a:lnTo>
                <a:lnTo>
                  <a:pt x="1220" y="974"/>
                </a:lnTo>
                <a:lnTo>
                  <a:pt x="1251" y="962"/>
                </a:lnTo>
                <a:lnTo>
                  <a:pt x="1283" y="950"/>
                </a:lnTo>
                <a:lnTo>
                  <a:pt x="1316" y="935"/>
                </a:lnTo>
                <a:lnTo>
                  <a:pt x="1316" y="935"/>
                </a:lnTo>
                <a:lnTo>
                  <a:pt x="1336" y="925"/>
                </a:lnTo>
                <a:lnTo>
                  <a:pt x="1369" y="912"/>
                </a:lnTo>
                <a:lnTo>
                  <a:pt x="1409" y="898"/>
                </a:lnTo>
                <a:lnTo>
                  <a:pt x="1458" y="884"/>
                </a:lnTo>
                <a:lnTo>
                  <a:pt x="1514" y="868"/>
                </a:lnTo>
                <a:lnTo>
                  <a:pt x="1574" y="852"/>
                </a:lnTo>
                <a:lnTo>
                  <a:pt x="1639" y="836"/>
                </a:lnTo>
                <a:lnTo>
                  <a:pt x="1707" y="822"/>
                </a:lnTo>
                <a:lnTo>
                  <a:pt x="1776" y="811"/>
                </a:lnTo>
                <a:lnTo>
                  <a:pt x="1845" y="803"/>
                </a:lnTo>
                <a:lnTo>
                  <a:pt x="1914" y="797"/>
                </a:lnTo>
                <a:lnTo>
                  <a:pt x="1947" y="797"/>
                </a:lnTo>
                <a:lnTo>
                  <a:pt x="1979" y="797"/>
                </a:lnTo>
                <a:lnTo>
                  <a:pt x="2012" y="799"/>
                </a:lnTo>
                <a:lnTo>
                  <a:pt x="2043" y="803"/>
                </a:lnTo>
                <a:lnTo>
                  <a:pt x="2072" y="806"/>
                </a:lnTo>
                <a:lnTo>
                  <a:pt x="2099" y="811"/>
                </a:lnTo>
                <a:lnTo>
                  <a:pt x="2127" y="818"/>
                </a:lnTo>
                <a:lnTo>
                  <a:pt x="2150" y="829"/>
                </a:lnTo>
                <a:lnTo>
                  <a:pt x="2174" y="840"/>
                </a:lnTo>
                <a:lnTo>
                  <a:pt x="2196" y="852"/>
                </a:lnTo>
                <a:lnTo>
                  <a:pt x="2196" y="852"/>
                </a:lnTo>
                <a:lnTo>
                  <a:pt x="2223" y="872"/>
                </a:lnTo>
                <a:lnTo>
                  <a:pt x="2243" y="882"/>
                </a:lnTo>
                <a:lnTo>
                  <a:pt x="2268" y="896"/>
                </a:lnTo>
                <a:lnTo>
                  <a:pt x="2297" y="911"/>
                </a:lnTo>
                <a:lnTo>
                  <a:pt x="2330" y="923"/>
                </a:lnTo>
                <a:lnTo>
                  <a:pt x="2368" y="937"/>
                </a:lnTo>
                <a:lnTo>
                  <a:pt x="2412" y="948"/>
                </a:lnTo>
                <a:lnTo>
                  <a:pt x="2459" y="957"/>
                </a:lnTo>
                <a:lnTo>
                  <a:pt x="2512" y="964"/>
                </a:lnTo>
                <a:lnTo>
                  <a:pt x="2570" y="967"/>
                </a:lnTo>
                <a:lnTo>
                  <a:pt x="2636" y="967"/>
                </a:lnTo>
                <a:lnTo>
                  <a:pt x="2668" y="966"/>
                </a:lnTo>
                <a:lnTo>
                  <a:pt x="2705" y="962"/>
                </a:lnTo>
                <a:lnTo>
                  <a:pt x="2741" y="958"/>
                </a:lnTo>
                <a:lnTo>
                  <a:pt x="2779" y="953"/>
                </a:lnTo>
                <a:lnTo>
                  <a:pt x="2819" y="946"/>
                </a:lnTo>
                <a:lnTo>
                  <a:pt x="2861" y="937"/>
                </a:lnTo>
                <a:lnTo>
                  <a:pt x="2905" y="928"/>
                </a:lnTo>
                <a:lnTo>
                  <a:pt x="2948" y="916"/>
                </a:lnTo>
                <a:lnTo>
                  <a:pt x="2948" y="916"/>
                </a:lnTo>
                <a:lnTo>
                  <a:pt x="3010" y="896"/>
                </a:lnTo>
                <a:lnTo>
                  <a:pt x="3090" y="870"/>
                </a:lnTo>
                <a:lnTo>
                  <a:pt x="3137" y="854"/>
                </a:lnTo>
                <a:lnTo>
                  <a:pt x="3186" y="840"/>
                </a:lnTo>
                <a:lnTo>
                  <a:pt x="3239" y="826"/>
                </a:lnTo>
                <a:lnTo>
                  <a:pt x="3294" y="813"/>
                </a:lnTo>
                <a:lnTo>
                  <a:pt x="3350" y="803"/>
                </a:lnTo>
                <a:lnTo>
                  <a:pt x="3406" y="795"/>
                </a:lnTo>
                <a:lnTo>
                  <a:pt x="3464" y="792"/>
                </a:lnTo>
                <a:lnTo>
                  <a:pt x="3493" y="792"/>
                </a:lnTo>
                <a:lnTo>
                  <a:pt x="3523" y="792"/>
                </a:lnTo>
                <a:lnTo>
                  <a:pt x="3550" y="794"/>
                </a:lnTo>
                <a:lnTo>
                  <a:pt x="3579" y="797"/>
                </a:lnTo>
                <a:lnTo>
                  <a:pt x="3606" y="803"/>
                </a:lnTo>
                <a:lnTo>
                  <a:pt x="3633" y="808"/>
                </a:lnTo>
                <a:lnTo>
                  <a:pt x="3661" y="815"/>
                </a:lnTo>
                <a:lnTo>
                  <a:pt x="3686" y="826"/>
                </a:lnTo>
                <a:lnTo>
                  <a:pt x="3713" y="836"/>
                </a:lnTo>
                <a:lnTo>
                  <a:pt x="3737" y="849"/>
                </a:lnTo>
                <a:lnTo>
                  <a:pt x="3737" y="849"/>
                </a:lnTo>
                <a:lnTo>
                  <a:pt x="3761" y="861"/>
                </a:lnTo>
                <a:lnTo>
                  <a:pt x="3793" y="873"/>
                </a:lnTo>
                <a:lnTo>
                  <a:pt x="3835" y="888"/>
                </a:lnTo>
                <a:lnTo>
                  <a:pt x="3882" y="904"/>
                </a:lnTo>
                <a:lnTo>
                  <a:pt x="3937" y="918"/>
                </a:lnTo>
                <a:lnTo>
                  <a:pt x="3995" y="932"/>
                </a:lnTo>
                <a:lnTo>
                  <a:pt x="4059" y="944"/>
                </a:lnTo>
                <a:lnTo>
                  <a:pt x="4124" y="957"/>
                </a:lnTo>
                <a:lnTo>
                  <a:pt x="4191" y="966"/>
                </a:lnTo>
                <a:lnTo>
                  <a:pt x="4260" y="971"/>
                </a:lnTo>
                <a:lnTo>
                  <a:pt x="4330" y="974"/>
                </a:lnTo>
                <a:lnTo>
                  <a:pt x="4364" y="974"/>
                </a:lnTo>
                <a:lnTo>
                  <a:pt x="4397" y="973"/>
                </a:lnTo>
                <a:lnTo>
                  <a:pt x="4430" y="971"/>
                </a:lnTo>
                <a:lnTo>
                  <a:pt x="4462" y="967"/>
                </a:lnTo>
                <a:lnTo>
                  <a:pt x="4493" y="964"/>
                </a:lnTo>
                <a:lnTo>
                  <a:pt x="4524" y="957"/>
                </a:lnTo>
                <a:lnTo>
                  <a:pt x="4553" y="950"/>
                </a:lnTo>
                <a:lnTo>
                  <a:pt x="4580" y="941"/>
                </a:lnTo>
                <a:lnTo>
                  <a:pt x="4608" y="930"/>
                </a:lnTo>
                <a:lnTo>
                  <a:pt x="4633" y="919"/>
                </a:lnTo>
                <a:lnTo>
                  <a:pt x="4633" y="919"/>
                </a:lnTo>
                <a:lnTo>
                  <a:pt x="4660" y="907"/>
                </a:lnTo>
                <a:lnTo>
                  <a:pt x="4693" y="895"/>
                </a:lnTo>
                <a:lnTo>
                  <a:pt x="4733" y="880"/>
                </a:lnTo>
                <a:lnTo>
                  <a:pt x="4777" y="868"/>
                </a:lnTo>
                <a:lnTo>
                  <a:pt x="4826" y="854"/>
                </a:lnTo>
                <a:lnTo>
                  <a:pt x="4878" y="842"/>
                </a:lnTo>
                <a:lnTo>
                  <a:pt x="4935" y="831"/>
                </a:lnTo>
                <a:lnTo>
                  <a:pt x="4991" y="822"/>
                </a:lnTo>
                <a:lnTo>
                  <a:pt x="5049" y="813"/>
                </a:lnTo>
                <a:lnTo>
                  <a:pt x="5106" y="808"/>
                </a:lnTo>
                <a:lnTo>
                  <a:pt x="5162" y="804"/>
                </a:lnTo>
                <a:lnTo>
                  <a:pt x="5217" y="804"/>
                </a:lnTo>
                <a:lnTo>
                  <a:pt x="5269" y="808"/>
                </a:lnTo>
                <a:lnTo>
                  <a:pt x="5293" y="810"/>
                </a:lnTo>
                <a:lnTo>
                  <a:pt x="5317" y="815"/>
                </a:lnTo>
                <a:lnTo>
                  <a:pt x="5340" y="818"/>
                </a:lnTo>
                <a:lnTo>
                  <a:pt x="5360" y="826"/>
                </a:lnTo>
                <a:lnTo>
                  <a:pt x="5380" y="833"/>
                </a:lnTo>
                <a:lnTo>
                  <a:pt x="5398" y="840"/>
                </a:lnTo>
                <a:lnTo>
                  <a:pt x="5398" y="840"/>
                </a:lnTo>
                <a:lnTo>
                  <a:pt x="5416" y="849"/>
                </a:lnTo>
                <a:lnTo>
                  <a:pt x="5436" y="857"/>
                </a:lnTo>
                <a:lnTo>
                  <a:pt x="5476" y="870"/>
                </a:lnTo>
                <a:lnTo>
                  <a:pt x="5520" y="880"/>
                </a:lnTo>
                <a:lnTo>
                  <a:pt x="5566" y="889"/>
                </a:lnTo>
                <a:lnTo>
                  <a:pt x="5615" y="895"/>
                </a:lnTo>
                <a:lnTo>
                  <a:pt x="5662" y="900"/>
                </a:lnTo>
                <a:lnTo>
                  <a:pt x="5711" y="902"/>
                </a:lnTo>
                <a:lnTo>
                  <a:pt x="5760" y="902"/>
                </a:lnTo>
                <a:lnTo>
                  <a:pt x="5760" y="0"/>
                </a:lnTo>
                <a:lnTo>
                  <a:pt x="0" y="0"/>
                </a:lnTo>
                <a:close/>
              </a:path>
            </a:pathLst>
          </a:custGeom>
          <a:solidFill>
            <a:srgbClr val="ad7b51"/>
          </a:solidFill>
          <a:ln w="0">
            <a:noFill/>
          </a:ln>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1076" name="Freeform 11"/>
          <p:cNvSpPr/>
          <p:nvPr/>
        </p:nvSpPr>
        <p:spPr>
          <a:xfrm>
            <a:off x="3240" y="0"/>
            <a:ext cx="9140760" cy="1422360"/>
          </a:xfrm>
          <a:custGeom>
            <a:avLst/>
            <a:gdLst/>
            <a:ahLst/>
            <a:rect l="l" t="t" r="r" b="b"/>
            <a:pathLst>
              <a:path w="5758" h="896">
                <a:moveTo>
                  <a:pt x="0" y="0"/>
                </a:moveTo>
                <a:lnTo>
                  <a:pt x="0" y="758"/>
                </a:lnTo>
                <a:lnTo>
                  <a:pt x="0" y="758"/>
                </a:lnTo>
                <a:lnTo>
                  <a:pt x="25" y="763"/>
                </a:lnTo>
                <a:lnTo>
                  <a:pt x="93" y="772"/>
                </a:lnTo>
                <a:lnTo>
                  <a:pt x="194" y="783"/>
                </a:lnTo>
                <a:lnTo>
                  <a:pt x="256" y="788"/>
                </a:lnTo>
                <a:lnTo>
                  <a:pt x="320" y="792"/>
                </a:lnTo>
                <a:lnTo>
                  <a:pt x="389" y="795"/>
                </a:lnTo>
                <a:lnTo>
                  <a:pt x="458" y="795"/>
                </a:lnTo>
                <a:lnTo>
                  <a:pt x="529" y="793"/>
                </a:lnTo>
                <a:lnTo>
                  <a:pt x="598" y="790"/>
                </a:lnTo>
                <a:lnTo>
                  <a:pt x="667" y="781"/>
                </a:lnTo>
                <a:lnTo>
                  <a:pt x="700" y="776"/>
                </a:lnTo>
                <a:lnTo>
                  <a:pt x="730" y="770"/>
                </a:lnTo>
                <a:lnTo>
                  <a:pt x="761" y="763"/>
                </a:lnTo>
                <a:lnTo>
                  <a:pt x="790" y="754"/>
                </a:lnTo>
                <a:lnTo>
                  <a:pt x="820" y="746"/>
                </a:lnTo>
                <a:lnTo>
                  <a:pt x="845" y="733"/>
                </a:lnTo>
                <a:lnTo>
                  <a:pt x="845" y="733"/>
                </a:lnTo>
                <a:lnTo>
                  <a:pt x="867" y="726"/>
                </a:lnTo>
                <a:lnTo>
                  <a:pt x="889" y="719"/>
                </a:lnTo>
                <a:lnTo>
                  <a:pt x="912" y="712"/>
                </a:lnTo>
                <a:lnTo>
                  <a:pt x="938" y="708"/>
                </a:lnTo>
                <a:lnTo>
                  <a:pt x="963" y="705"/>
                </a:lnTo>
                <a:lnTo>
                  <a:pt x="990" y="701"/>
                </a:lnTo>
                <a:lnTo>
                  <a:pt x="1049" y="698"/>
                </a:lnTo>
                <a:lnTo>
                  <a:pt x="1110" y="698"/>
                </a:lnTo>
                <a:lnTo>
                  <a:pt x="1174" y="701"/>
                </a:lnTo>
                <a:lnTo>
                  <a:pt x="1239" y="707"/>
                </a:lnTo>
                <a:lnTo>
                  <a:pt x="1305" y="715"/>
                </a:lnTo>
                <a:lnTo>
                  <a:pt x="1368" y="724"/>
                </a:lnTo>
                <a:lnTo>
                  <a:pt x="1430" y="735"/>
                </a:lnTo>
                <a:lnTo>
                  <a:pt x="1490" y="747"/>
                </a:lnTo>
                <a:lnTo>
                  <a:pt x="1545" y="761"/>
                </a:lnTo>
                <a:lnTo>
                  <a:pt x="1596" y="774"/>
                </a:lnTo>
                <a:lnTo>
                  <a:pt x="1639" y="788"/>
                </a:lnTo>
                <a:lnTo>
                  <a:pt x="1677" y="800"/>
                </a:lnTo>
                <a:lnTo>
                  <a:pt x="1707" y="813"/>
                </a:lnTo>
                <a:lnTo>
                  <a:pt x="1707" y="813"/>
                </a:lnTo>
                <a:lnTo>
                  <a:pt x="1736" y="825"/>
                </a:lnTo>
                <a:lnTo>
                  <a:pt x="1765" y="834"/>
                </a:lnTo>
                <a:lnTo>
                  <a:pt x="1797" y="843"/>
                </a:lnTo>
                <a:lnTo>
                  <a:pt x="1830" y="850"/>
                </a:lnTo>
                <a:lnTo>
                  <a:pt x="1865" y="857"/>
                </a:lnTo>
                <a:lnTo>
                  <a:pt x="1899" y="861"/>
                </a:lnTo>
                <a:lnTo>
                  <a:pt x="1936" y="864"/>
                </a:lnTo>
                <a:lnTo>
                  <a:pt x="1974" y="868"/>
                </a:lnTo>
                <a:lnTo>
                  <a:pt x="2010" y="868"/>
                </a:lnTo>
                <a:lnTo>
                  <a:pt x="2048" y="868"/>
                </a:lnTo>
                <a:lnTo>
                  <a:pt x="2126" y="864"/>
                </a:lnTo>
                <a:lnTo>
                  <a:pt x="2203" y="859"/>
                </a:lnTo>
                <a:lnTo>
                  <a:pt x="2279" y="850"/>
                </a:lnTo>
                <a:lnTo>
                  <a:pt x="2354" y="838"/>
                </a:lnTo>
                <a:lnTo>
                  <a:pt x="2425" y="825"/>
                </a:lnTo>
                <a:lnTo>
                  <a:pt x="2490" y="811"/>
                </a:lnTo>
                <a:lnTo>
                  <a:pt x="2552" y="797"/>
                </a:lnTo>
                <a:lnTo>
                  <a:pt x="2606" y="781"/>
                </a:lnTo>
                <a:lnTo>
                  <a:pt x="2652" y="767"/>
                </a:lnTo>
                <a:lnTo>
                  <a:pt x="2688" y="754"/>
                </a:lnTo>
                <a:lnTo>
                  <a:pt x="2715" y="742"/>
                </a:lnTo>
                <a:lnTo>
                  <a:pt x="2715" y="742"/>
                </a:lnTo>
                <a:lnTo>
                  <a:pt x="2743" y="730"/>
                </a:lnTo>
                <a:lnTo>
                  <a:pt x="2772" y="719"/>
                </a:lnTo>
                <a:lnTo>
                  <a:pt x="2803" y="708"/>
                </a:lnTo>
                <a:lnTo>
                  <a:pt x="2832" y="701"/>
                </a:lnTo>
                <a:lnTo>
                  <a:pt x="2863" y="696"/>
                </a:lnTo>
                <a:lnTo>
                  <a:pt x="2893" y="691"/>
                </a:lnTo>
                <a:lnTo>
                  <a:pt x="2926" y="687"/>
                </a:lnTo>
                <a:lnTo>
                  <a:pt x="2957" y="685"/>
                </a:lnTo>
                <a:lnTo>
                  <a:pt x="2990" y="685"/>
                </a:lnTo>
                <a:lnTo>
                  <a:pt x="3022" y="685"/>
                </a:lnTo>
                <a:lnTo>
                  <a:pt x="3088" y="689"/>
                </a:lnTo>
                <a:lnTo>
                  <a:pt x="3152" y="696"/>
                </a:lnTo>
                <a:lnTo>
                  <a:pt x="3215" y="707"/>
                </a:lnTo>
                <a:lnTo>
                  <a:pt x="3277" y="719"/>
                </a:lnTo>
                <a:lnTo>
                  <a:pt x="3335" y="733"/>
                </a:lnTo>
                <a:lnTo>
                  <a:pt x="3391" y="747"/>
                </a:lnTo>
                <a:lnTo>
                  <a:pt x="3444" y="763"/>
                </a:lnTo>
                <a:lnTo>
                  <a:pt x="3535" y="790"/>
                </a:lnTo>
                <a:lnTo>
                  <a:pt x="3602" y="809"/>
                </a:lnTo>
                <a:lnTo>
                  <a:pt x="3602" y="809"/>
                </a:lnTo>
                <a:lnTo>
                  <a:pt x="3653" y="822"/>
                </a:lnTo>
                <a:lnTo>
                  <a:pt x="3702" y="831"/>
                </a:lnTo>
                <a:lnTo>
                  <a:pt x="3748" y="839"/>
                </a:lnTo>
                <a:lnTo>
                  <a:pt x="3793" y="847"/>
                </a:lnTo>
                <a:lnTo>
                  <a:pt x="3837" y="852"/>
                </a:lnTo>
                <a:lnTo>
                  <a:pt x="3879" y="855"/>
                </a:lnTo>
                <a:lnTo>
                  <a:pt x="3919" y="859"/>
                </a:lnTo>
                <a:lnTo>
                  <a:pt x="3957" y="861"/>
                </a:lnTo>
                <a:lnTo>
                  <a:pt x="4028" y="861"/>
                </a:lnTo>
                <a:lnTo>
                  <a:pt x="4093" y="857"/>
                </a:lnTo>
                <a:lnTo>
                  <a:pt x="4153" y="850"/>
                </a:lnTo>
                <a:lnTo>
                  <a:pt x="4208" y="841"/>
                </a:lnTo>
                <a:lnTo>
                  <a:pt x="4257" y="831"/>
                </a:lnTo>
                <a:lnTo>
                  <a:pt x="4298" y="816"/>
                </a:lnTo>
                <a:lnTo>
                  <a:pt x="4337" y="804"/>
                </a:lnTo>
                <a:lnTo>
                  <a:pt x="4369" y="790"/>
                </a:lnTo>
                <a:lnTo>
                  <a:pt x="4397" y="776"/>
                </a:lnTo>
                <a:lnTo>
                  <a:pt x="4420" y="765"/>
                </a:lnTo>
                <a:lnTo>
                  <a:pt x="4451" y="746"/>
                </a:lnTo>
                <a:lnTo>
                  <a:pt x="4451" y="746"/>
                </a:lnTo>
                <a:lnTo>
                  <a:pt x="4475" y="733"/>
                </a:lnTo>
                <a:lnTo>
                  <a:pt x="4500" y="723"/>
                </a:lnTo>
                <a:lnTo>
                  <a:pt x="4529" y="712"/>
                </a:lnTo>
                <a:lnTo>
                  <a:pt x="4558" y="705"/>
                </a:lnTo>
                <a:lnTo>
                  <a:pt x="4589" y="699"/>
                </a:lnTo>
                <a:lnTo>
                  <a:pt x="4624" y="696"/>
                </a:lnTo>
                <a:lnTo>
                  <a:pt x="4658" y="692"/>
                </a:lnTo>
                <a:lnTo>
                  <a:pt x="4693" y="691"/>
                </a:lnTo>
                <a:lnTo>
                  <a:pt x="4729" y="691"/>
                </a:lnTo>
                <a:lnTo>
                  <a:pt x="4767" y="692"/>
                </a:lnTo>
                <a:lnTo>
                  <a:pt x="4844" y="696"/>
                </a:lnTo>
                <a:lnTo>
                  <a:pt x="4922" y="705"/>
                </a:lnTo>
                <a:lnTo>
                  <a:pt x="5000" y="715"/>
                </a:lnTo>
                <a:lnTo>
                  <a:pt x="5076" y="730"/>
                </a:lnTo>
                <a:lnTo>
                  <a:pt x="5149" y="746"/>
                </a:lnTo>
                <a:lnTo>
                  <a:pt x="5218" y="761"/>
                </a:lnTo>
                <a:lnTo>
                  <a:pt x="5280" y="777"/>
                </a:lnTo>
                <a:lnTo>
                  <a:pt x="5334" y="792"/>
                </a:lnTo>
                <a:lnTo>
                  <a:pt x="5382" y="806"/>
                </a:lnTo>
                <a:lnTo>
                  <a:pt x="5416" y="818"/>
                </a:lnTo>
                <a:lnTo>
                  <a:pt x="5442" y="829"/>
                </a:lnTo>
                <a:lnTo>
                  <a:pt x="5442" y="829"/>
                </a:lnTo>
                <a:lnTo>
                  <a:pt x="5480" y="845"/>
                </a:lnTo>
                <a:lnTo>
                  <a:pt x="5520" y="859"/>
                </a:lnTo>
                <a:lnTo>
                  <a:pt x="5560" y="870"/>
                </a:lnTo>
                <a:lnTo>
                  <a:pt x="5600" y="878"/>
                </a:lnTo>
                <a:lnTo>
                  <a:pt x="5640" y="886"/>
                </a:lnTo>
                <a:lnTo>
                  <a:pt x="5680" y="891"/>
                </a:lnTo>
                <a:lnTo>
                  <a:pt x="5720" y="894"/>
                </a:lnTo>
                <a:lnTo>
                  <a:pt x="5758" y="896"/>
                </a:lnTo>
                <a:lnTo>
                  <a:pt x="5758" y="0"/>
                </a:lnTo>
                <a:lnTo>
                  <a:pt x="0" y="0"/>
                </a:lnTo>
                <a:close/>
              </a:path>
            </a:pathLst>
          </a:custGeom>
          <a:solidFill>
            <a:srgbClr val="543b27"/>
          </a:solidFill>
          <a:ln w="0">
            <a:noFill/>
          </a:ln>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1077" name="Text Box 12"/>
          <p:cNvSpPr/>
          <p:nvPr/>
        </p:nvSpPr>
        <p:spPr>
          <a:xfrm rot="16200000">
            <a:off x="-810000" y="5823720"/>
            <a:ext cx="1838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96c18"/>
                </a:solidFill>
                <a:latin typeface="Arial"/>
                <a:ea typeface="Arial"/>
              </a:rPr>
              <a:t>Copyright © 2012 Cengage Learning</a:t>
            </a:r>
            <a:endParaRPr b="0" lang="en-US" sz="800" spc="-1" strike="noStrike">
              <a:solidFill>
                <a:srgbClr val="672f70"/>
              </a:solidFill>
              <a:latin typeface="Arial"/>
            </a:endParaRPr>
          </a:p>
        </p:txBody>
      </p:sp>
      <p:sp>
        <p:nvSpPr>
          <p:cNvPr id="1078" name="Freeform 12"/>
          <p:cNvSpPr/>
          <p:nvPr/>
        </p:nvSpPr>
        <p:spPr>
          <a:xfrm>
            <a:off x="378000" y="1052640"/>
            <a:ext cx="8534160" cy="5043240"/>
          </a:xfrm>
          <a:custGeom>
            <a:avLst/>
            <a:gdLst/>
            <a:ahLst/>
            <a:rect l="l" t="t" r="r" b="b"/>
            <a:pathLst>
              <a:path w="5376" h="3530">
                <a:moveTo>
                  <a:pt x="5376" y="3423"/>
                </a:moveTo>
                <a:lnTo>
                  <a:pt x="5376" y="3423"/>
                </a:lnTo>
                <a:lnTo>
                  <a:pt x="5375" y="3434"/>
                </a:lnTo>
                <a:lnTo>
                  <a:pt x="5373" y="3445"/>
                </a:lnTo>
                <a:lnTo>
                  <a:pt x="5367" y="3464"/>
                </a:lnTo>
                <a:lnTo>
                  <a:pt x="5356" y="3482"/>
                </a:lnTo>
                <a:lnTo>
                  <a:pt x="5344" y="3498"/>
                </a:lnTo>
                <a:lnTo>
                  <a:pt x="5327" y="3512"/>
                </a:lnTo>
                <a:lnTo>
                  <a:pt x="5309" y="3521"/>
                </a:lnTo>
                <a:lnTo>
                  <a:pt x="5289" y="3528"/>
                </a:lnTo>
                <a:lnTo>
                  <a:pt x="5278" y="3530"/>
                </a:lnTo>
                <a:lnTo>
                  <a:pt x="5267" y="3530"/>
                </a:lnTo>
                <a:lnTo>
                  <a:pt x="109" y="3530"/>
                </a:lnTo>
                <a:lnTo>
                  <a:pt x="109" y="3530"/>
                </a:lnTo>
                <a:lnTo>
                  <a:pt x="98" y="3530"/>
                </a:lnTo>
                <a:lnTo>
                  <a:pt x="87" y="3528"/>
                </a:lnTo>
                <a:lnTo>
                  <a:pt x="67" y="3521"/>
                </a:lnTo>
                <a:lnTo>
                  <a:pt x="49" y="3512"/>
                </a:lnTo>
                <a:lnTo>
                  <a:pt x="33" y="3498"/>
                </a:lnTo>
                <a:lnTo>
                  <a:pt x="20" y="3482"/>
                </a:lnTo>
                <a:lnTo>
                  <a:pt x="9" y="3464"/>
                </a:lnTo>
                <a:lnTo>
                  <a:pt x="3" y="3445"/>
                </a:lnTo>
                <a:lnTo>
                  <a:pt x="2" y="3434"/>
                </a:lnTo>
                <a:lnTo>
                  <a:pt x="0" y="3423"/>
                </a:lnTo>
                <a:lnTo>
                  <a:pt x="0" y="106"/>
                </a:lnTo>
                <a:lnTo>
                  <a:pt x="0" y="106"/>
                </a:lnTo>
                <a:lnTo>
                  <a:pt x="2" y="96"/>
                </a:lnTo>
                <a:lnTo>
                  <a:pt x="3" y="85"/>
                </a:lnTo>
                <a:lnTo>
                  <a:pt x="9" y="65"/>
                </a:lnTo>
                <a:lnTo>
                  <a:pt x="20" y="48"/>
                </a:lnTo>
                <a:lnTo>
                  <a:pt x="33" y="32"/>
                </a:lnTo>
                <a:lnTo>
                  <a:pt x="49" y="18"/>
                </a:lnTo>
                <a:lnTo>
                  <a:pt x="67" y="9"/>
                </a:lnTo>
                <a:lnTo>
                  <a:pt x="87" y="2"/>
                </a:lnTo>
                <a:lnTo>
                  <a:pt x="98" y="0"/>
                </a:lnTo>
                <a:lnTo>
                  <a:pt x="109" y="0"/>
                </a:lnTo>
                <a:lnTo>
                  <a:pt x="5267" y="0"/>
                </a:lnTo>
                <a:lnTo>
                  <a:pt x="5267" y="0"/>
                </a:lnTo>
                <a:lnTo>
                  <a:pt x="5278" y="0"/>
                </a:lnTo>
                <a:lnTo>
                  <a:pt x="5289" y="2"/>
                </a:lnTo>
                <a:lnTo>
                  <a:pt x="5309" y="9"/>
                </a:lnTo>
                <a:lnTo>
                  <a:pt x="5327" y="18"/>
                </a:lnTo>
                <a:lnTo>
                  <a:pt x="5344" y="32"/>
                </a:lnTo>
                <a:lnTo>
                  <a:pt x="5356" y="48"/>
                </a:lnTo>
                <a:lnTo>
                  <a:pt x="5367" y="65"/>
                </a:lnTo>
                <a:lnTo>
                  <a:pt x="5373" y="85"/>
                </a:lnTo>
                <a:lnTo>
                  <a:pt x="5375" y="96"/>
                </a:lnTo>
                <a:lnTo>
                  <a:pt x="5376" y="106"/>
                </a:lnTo>
                <a:lnTo>
                  <a:pt x="5376" y="34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1079" name="Freeform 10"/>
          <p:cNvSpPr/>
          <p:nvPr/>
        </p:nvSpPr>
        <p:spPr>
          <a:xfrm>
            <a:off x="5675400" y="6237360"/>
            <a:ext cx="1279440" cy="4572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fdb913"/>
          </a:solidFill>
          <a:ln w="1260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1080" name="TextBox 6"/>
          <p:cNvSpPr/>
          <p:nvPr/>
        </p:nvSpPr>
        <p:spPr>
          <a:xfrm>
            <a:off x="380880" y="6248520"/>
            <a:ext cx="853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3b27"/>
                </a:solidFill>
                <a:latin typeface="Calibri"/>
                <a:ea typeface="Arial"/>
              </a:rPr>
              <a:t>          </a:t>
            </a:r>
            <a:r>
              <a:rPr b="0" lang="en-US" sz="1600" spc="-1" strike="noStrike">
                <a:solidFill>
                  <a:srgbClr val="543b27"/>
                </a:solidFill>
                <a:latin typeface="Calibri"/>
                <a:ea typeface="Arial"/>
              </a:rPr>
              <a:t>Audience Analysis       |       Planning      |        Drafting       |       </a:t>
            </a:r>
            <a:r>
              <a:rPr b="1" lang="en-US" sz="1600" spc="-1" strike="noStrike">
                <a:solidFill>
                  <a:srgbClr val="543b27"/>
                </a:solidFill>
                <a:latin typeface="Calibri"/>
                <a:ea typeface="Arial"/>
              </a:rPr>
              <a:t>Revising</a:t>
            </a:r>
            <a:r>
              <a:rPr b="0" lang="en-US" sz="1600" spc="-1" strike="noStrike">
                <a:solidFill>
                  <a:srgbClr val="543b27"/>
                </a:solidFill>
                <a:latin typeface="Calibri"/>
                <a:ea typeface="Arial"/>
              </a:rPr>
              <a:t>       |       Proofreading</a:t>
            </a:r>
            <a:endParaRPr b="0" lang="en-US" sz="1600" spc="-1" strike="noStrike">
              <a:solidFill>
                <a:srgbClr val="672f70"/>
              </a:solidFill>
              <a:latin typeface="Arial"/>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Freeform 10"/>
          <p:cNvSpPr/>
          <p:nvPr/>
        </p:nvSpPr>
        <p:spPr>
          <a:xfrm>
            <a:off x="0" y="458640"/>
            <a:ext cx="9144000" cy="1592280"/>
          </a:xfrm>
          <a:custGeom>
            <a:avLst/>
            <a:gdLst/>
            <a:ahLst/>
            <a:rect l="l" t="t" r="r" b="b"/>
            <a:pathLst>
              <a:path w="5760" h="1003">
                <a:moveTo>
                  <a:pt x="0" y="0"/>
                </a:moveTo>
                <a:lnTo>
                  <a:pt x="0" y="865"/>
                </a:lnTo>
                <a:lnTo>
                  <a:pt x="0" y="865"/>
                </a:lnTo>
                <a:lnTo>
                  <a:pt x="13" y="857"/>
                </a:lnTo>
                <a:lnTo>
                  <a:pt x="51" y="840"/>
                </a:lnTo>
                <a:lnTo>
                  <a:pt x="76" y="829"/>
                </a:lnTo>
                <a:lnTo>
                  <a:pt x="107" y="818"/>
                </a:lnTo>
                <a:lnTo>
                  <a:pt x="142" y="808"/>
                </a:lnTo>
                <a:lnTo>
                  <a:pt x="178" y="799"/>
                </a:lnTo>
                <a:lnTo>
                  <a:pt x="220" y="792"/>
                </a:lnTo>
                <a:lnTo>
                  <a:pt x="264" y="788"/>
                </a:lnTo>
                <a:lnTo>
                  <a:pt x="307" y="788"/>
                </a:lnTo>
                <a:lnTo>
                  <a:pt x="331" y="788"/>
                </a:lnTo>
                <a:lnTo>
                  <a:pt x="354" y="792"/>
                </a:lnTo>
                <a:lnTo>
                  <a:pt x="378" y="795"/>
                </a:lnTo>
                <a:lnTo>
                  <a:pt x="402" y="801"/>
                </a:lnTo>
                <a:lnTo>
                  <a:pt x="425" y="806"/>
                </a:lnTo>
                <a:lnTo>
                  <a:pt x="449" y="815"/>
                </a:lnTo>
                <a:lnTo>
                  <a:pt x="473" y="826"/>
                </a:lnTo>
                <a:lnTo>
                  <a:pt x="496" y="836"/>
                </a:lnTo>
                <a:lnTo>
                  <a:pt x="518" y="850"/>
                </a:lnTo>
                <a:lnTo>
                  <a:pt x="542" y="865"/>
                </a:lnTo>
                <a:lnTo>
                  <a:pt x="542" y="865"/>
                </a:lnTo>
                <a:lnTo>
                  <a:pt x="556" y="873"/>
                </a:lnTo>
                <a:lnTo>
                  <a:pt x="576" y="886"/>
                </a:lnTo>
                <a:lnTo>
                  <a:pt x="603" y="900"/>
                </a:lnTo>
                <a:lnTo>
                  <a:pt x="638" y="916"/>
                </a:lnTo>
                <a:lnTo>
                  <a:pt x="676" y="932"/>
                </a:lnTo>
                <a:lnTo>
                  <a:pt x="720" y="950"/>
                </a:lnTo>
                <a:lnTo>
                  <a:pt x="769" y="964"/>
                </a:lnTo>
                <a:lnTo>
                  <a:pt x="822" y="978"/>
                </a:lnTo>
                <a:lnTo>
                  <a:pt x="876" y="990"/>
                </a:lnTo>
                <a:lnTo>
                  <a:pt x="936" y="997"/>
                </a:lnTo>
                <a:lnTo>
                  <a:pt x="965" y="1001"/>
                </a:lnTo>
                <a:lnTo>
                  <a:pt x="996" y="1003"/>
                </a:lnTo>
                <a:lnTo>
                  <a:pt x="1027" y="1003"/>
                </a:lnTo>
                <a:lnTo>
                  <a:pt x="1058" y="1001"/>
                </a:lnTo>
                <a:lnTo>
                  <a:pt x="1091" y="999"/>
                </a:lnTo>
                <a:lnTo>
                  <a:pt x="1121" y="996"/>
                </a:lnTo>
                <a:lnTo>
                  <a:pt x="1154" y="990"/>
                </a:lnTo>
                <a:lnTo>
                  <a:pt x="1187" y="983"/>
                </a:lnTo>
                <a:lnTo>
                  <a:pt x="1220" y="974"/>
                </a:lnTo>
                <a:lnTo>
                  <a:pt x="1251" y="962"/>
                </a:lnTo>
                <a:lnTo>
                  <a:pt x="1283" y="950"/>
                </a:lnTo>
                <a:lnTo>
                  <a:pt x="1316" y="935"/>
                </a:lnTo>
                <a:lnTo>
                  <a:pt x="1316" y="935"/>
                </a:lnTo>
                <a:lnTo>
                  <a:pt x="1336" y="925"/>
                </a:lnTo>
                <a:lnTo>
                  <a:pt x="1369" y="912"/>
                </a:lnTo>
                <a:lnTo>
                  <a:pt x="1409" y="898"/>
                </a:lnTo>
                <a:lnTo>
                  <a:pt x="1458" y="884"/>
                </a:lnTo>
                <a:lnTo>
                  <a:pt x="1514" y="868"/>
                </a:lnTo>
                <a:lnTo>
                  <a:pt x="1574" y="852"/>
                </a:lnTo>
                <a:lnTo>
                  <a:pt x="1639" y="836"/>
                </a:lnTo>
                <a:lnTo>
                  <a:pt x="1707" y="822"/>
                </a:lnTo>
                <a:lnTo>
                  <a:pt x="1776" y="811"/>
                </a:lnTo>
                <a:lnTo>
                  <a:pt x="1845" y="803"/>
                </a:lnTo>
                <a:lnTo>
                  <a:pt x="1914" y="797"/>
                </a:lnTo>
                <a:lnTo>
                  <a:pt x="1947" y="797"/>
                </a:lnTo>
                <a:lnTo>
                  <a:pt x="1979" y="797"/>
                </a:lnTo>
                <a:lnTo>
                  <a:pt x="2012" y="799"/>
                </a:lnTo>
                <a:lnTo>
                  <a:pt x="2043" y="803"/>
                </a:lnTo>
                <a:lnTo>
                  <a:pt x="2072" y="806"/>
                </a:lnTo>
                <a:lnTo>
                  <a:pt x="2099" y="811"/>
                </a:lnTo>
                <a:lnTo>
                  <a:pt x="2127" y="818"/>
                </a:lnTo>
                <a:lnTo>
                  <a:pt x="2150" y="829"/>
                </a:lnTo>
                <a:lnTo>
                  <a:pt x="2174" y="840"/>
                </a:lnTo>
                <a:lnTo>
                  <a:pt x="2196" y="852"/>
                </a:lnTo>
                <a:lnTo>
                  <a:pt x="2196" y="852"/>
                </a:lnTo>
                <a:lnTo>
                  <a:pt x="2223" y="872"/>
                </a:lnTo>
                <a:lnTo>
                  <a:pt x="2243" y="882"/>
                </a:lnTo>
                <a:lnTo>
                  <a:pt x="2268" y="896"/>
                </a:lnTo>
                <a:lnTo>
                  <a:pt x="2297" y="911"/>
                </a:lnTo>
                <a:lnTo>
                  <a:pt x="2330" y="923"/>
                </a:lnTo>
                <a:lnTo>
                  <a:pt x="2368" y="937"/>
                </a:lnTo>
                <a:lnTo>
                  <a:pt x="2412" y="948"/>
                </a:lnTo>
                <a:lnTo>
                  <a:pt x="2459" y="957"/>
                </a:lnTo>
                <a:lnTo>
                  <a:pt x="2512" y="964"/>
                </a:lnTo>
                <a:lnTo>
                  <a:pt x="2570" y="967"/>
                </a:lnTo>
                <a:lnTo>
                  <a:pt x="2636" y="967"/>
                </a:lnTo>
                <a:lnTo>
                  <a:pt x="2668" y="966"/>
                </a:lnTo>
                <a:lnTo>
                  <a:pt x="2705" y="962"/>
                </a:lnTo>
                <a:lnTo>
                  <a:pt x="2741" y="958"/>
                </a:lnTo>
                <a:lnTo>
                  <a:pt x="2779" y="953"/>
                </a:lnTo>
                <a:lnTo>
                  <a:pt x="2819" y="946"/>
                </a:lnTo>
                <a:lnTo>
                  <a:pt x="2861" y="937"/>
                </a:lnTo>
                <a:lnTo>
                  <a:pt x="2905" y="928"/>
                </a:lnTo>
                <a:lnTo>
                  <a:pt x="2948" y="916"/>
                </a:lnTo>
                <a:lnTo>
                  <a:pt x="2948" y="916"/>
                </a:lnTo>
                <a:lnTo>
                  <a:pt x="3010" y="896"/>
                </a:lnTo>
                <a:lnTo>
                  <a:pt x="3090" y="870"/>
                </a:lnTo>
                <a:lnTo>
                  <a:pt x="3137" y="854"/>
                </a:lnTo>
                <a:lnTo>
                  <a:pt x="3186" y="840"/>
                </a:lnTo>
                <a:lnTo>
                  <a:pt x="3239" y="826"/>
                </a:lnTo>
                <a:lnTo>
                  <a:pt x="3294" y="813"/>
                </a:lnTo>
                <a:lnTo>
                  <a:pt x="3350" y="803"/>
                </a:lnTo>
                <a:lnTo>
                  <a:pt x="3406" y="795"/>
                </a:lnTo>
                <a:lnTo>
                  <a:pt x="3464" y="792"/>
                </a:lnTo>
                <a:lnTo>
                  <a:pt x="3493" y="792"/>
                </a:lnTo>
                <a:lnTo>
                  <a:pt x="3523" y="792"/>
                </a:lnTo>
                <a:lnTo>
                  <a:pt x="3550" y="794"/>
                </a:lnTo>
                <a:lnTo>
                  <a:pt x="3579" y="797"/>
                </a:lnTo>
                <a:lnTo>
                  <a:pt x="3606" y="803"/>
                </a:lnTo>
                <a:lnTo>
                  <a:pt x="3633" y="808"/>
                </a:lnTo>
                <a:lnTo>
                  <a:pt x="3661" y="815"/>
                </a:lnTo>
                <a:lnTo>
                  <a:pt x="3686" y="826"/>
                </a:lnTo>
                <a:lnTo>
                  <a:pt x="3713" y="836"/>
                </a:lnTo>
                <a:lnTo>
                  <a:pt x="3737" y="849"/>
                </a:lnTo>
                <a:lnTo>
                  <a:pt x="3737" y="849"/>
                </a:lnTo>
                <a:lnTo>
                  <a:pt x="3761" y="861"/>
                </a:lnTo>
                <a:lnTo>
                  <a:pt x="3793" y="873"/>
                </a:lnTo>
                <a:lnTo>
                  <a:pt x="3835" y="888"/>
                </a:lnTo>
                <a:lnTo>
                  <a:pt x="3882" y="904"/>
                </a:lnTo>
                <a:lnTo>
                  <a:pt x="3937" y="918"/>
                </a:lnTo>
                <a:lnTo>
                  <a:pt x="3995" y="932"/>
                </a:lnTo>
                <a:lnTo>
                  <a:pt x="4059" y="944"/>
                </a:lnTo>
                <a:lnTo>
                  <a:pt x="4124" y="957"/>
                </a:lnTo>
                <a:lnTo>
                  <a:pt x="4191" y="966"/>
                </a:lnTo>
                <a:lnTo>
                  <a:pt x="4260" y="971"/>
                </a:lnTo>
                <a:lnTo>
                  <a:pt x="4330" y="974"/>
                </a:lnTo>
                <a:lnTo>
                  <a:pt x="4364" y="974"/>
                </a:lnTo>
                <a:lnTo>
                  <a:pt x="4397" y="973"/>
                </a:lnTo>
                <a:lnTo>
                  <a:pt x="4430" y="971"/>
                </a:lnTo>
                <a:lnTo>
                  <a:pt x="4462" y="967"/>
                </a:lnTo>
                <a:lnTo>
                  <a:pt x="4493" y="964"/>
                </a:lnTo>
                <a:lnTo>
                  <a:pt x="4524" y="957"/>
                </a:lnTo>
                <a:lnTo>
                  <a:pt x="4553" y="950"/>
                </a:lnTo>
                <a:lnTo>
                  <a:pt x="4580" y="941"/>
                </a:lnTo>
                <a:lnTo>
                  <a:pt x="4608" y="930"/>
                </a:lnTo>
                <a:lnTo>
                  <a:pt x="4633" y="919"/>
                </a:lnTo>
                <a:lnTo>
                  <a:pt x="4633" y="919"/>
                </a:lnTo>
                <a:lnTo>
                  <a:pt x="4660" y="907"/>
                </a:lnTo>
                <a:lnTo>
                  <a:pt x="4693" y="895"/>
                </a:lnTo>
                <a:lnTo>
                  <a:pt x="4733" y="880"/>
                </a:lnTo>
                <a:lnTo>
                  <a:pt x="4777" y="868"/>
                </a:lnTo>
                <a:lnTo>
                  <a:pt x="4826" y="854"/>
                </a:lnTo>
                <a:lnTo>
                  <a:pt x="4878" y="842"/>
                </a:lnTo>
                <a:lnTo>
                  <a:pt x="4935" y="831"/>
                </a:lnTo>
                <a:lnTo>
                  <a:pt x="4991" y="822"/>
                </a:lnTo>
                <a:lnTo>
                  <a:pt x="5049" y="813"/>
                </a:lnTo>
                <a:lnTo>
                  <a:pt x="5106" y="808"/>
                </a:lnTo>
                <a:lnTo>
                  <a:pt x="5162" y="804"/>
                </a:lnTo>
                <a:lnTo>
                  <a:pt x="5217" y="804"/>
                </a:lnTo>
                <a:lnTo>
                  <a:pt x="5269" y="808"/>
                </a:lnTo>
                <a:lnTo>
                  <a:pt x="5293" y="810"/>
                </a:lnTo>
                <a:lnTo>
                  <a:pt x="5317" y="815"/>
                </a:lnTo>
                <a:lnTo>
                  <a:pt x="5340" y="818"/>
                </a:lnTo>
                <a:lnTo>
                  <a:pt x="5360" y="826"/>
                </a:lnTo>
                <a:lnTo>
                  <a:pt x="5380" y="833"/>
                </a:lnTo>
                <a:lnTo>
                  <a:pt x="5398" y="840"/>
                </a:lnTo>
                <a:lnTo>
                  <a:pt x="5398" y="840"/>
                </a:lnTo>
                <a:lnTo>
                  <a:pt x="5416" y="849"/>
                </a:lnTo>
                <a:lnTo>
                  <a:pt x="5436" y="857"/>
                </a:lnTo>
                <a:lnTo>
                  <a:pt x="5476" y="870"/>
                </a:lnTo>
                <a:lnTo>
                  <a:pt x="5520" y="880"/>
                </a:lnTo>
                <a:lnTo>
                  <a:pt x="5566" y="889"/>
                </a:lnTo>
                <a:lnTo>
                  <a:pt x="5615" y="895"/>
                </a:lnTo>
                <a:lnTo>
                  <a:pt x="5662" y="900"/>
                </a:lnTo>
                <a:lnTo>
                  <a:pt x="5711" y="902"/>
                </a:lnTo>
                <a:lnTo>
                  <a:pt x="5760" y="902"/>
                </a:lnTo>
                <a:lnTo>
                  <a:pt x="5760" y="0"/>
                </a:lnTo>
                <a:lnTo>
                  <a:pt x="0" y="0"/>
                </a:lnTo>
                <a:close/>
              </a:path>
            </a:pathLst>
          </a:custGeom>
          <a:solidFill>
            <a:srgbClr val="ad7b51"/>
          </a:solidFill>
          <a:ln w="0">
            <a:noFill/>
          </a:ln>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1118" name="Freeform 11"/>
          <p:cNvSpPr/>
          <p:nvPr/>
        </p:nvSpPr>
        <p:spPr>
          <a:xfrm>
            <a:off x="3240" y="0"/>
            <a:ext cx="9140760" cy="1422360"/>
          </a:xfrm>
          <a:custGeom>
            <a:avLst/>
            <a:gdLst/>
            <a:ahLst/>
            <a:rect l="l" t="t" r="r" b="b"/>
            <a:pathLst>
              <a:path w="5758" h="896">
                <a:moveTo>
                  <a:pt x="0" y="0"/>
                </a:moveTo>
                <a:lnTo>
                  <a:pt x="0" y="758"/>
                </a:lnTo>
                <a:lnTo>
                  <a:pt x="0" y="758"/>
                </a:lnTo>
                <a:lnTo>
                  <a:pt x="25" y="763"/>
                </a:lnTo>
                <a:lnTo>
                  <a:pt x="93" y="772"/>
                </a:lnTo>
                <a:lnTo>
                  <a:pt x="194" y="783"/>
                </a:lnTo>
                <a:lnTo>
                  <a:pt x="256" y="788"/>
                </a:lnTo>
                <a:lnTo>
                  <a:pt x="320" y="792"/>
                </a:lnTo>
                <a:lnTo>
                  <a:pt x="389" y="795"/>
                </a:lnTo>
                <a:lnTo>
                  <a:pt x="458" y="795"/>
                </a:lnTo>
                <a:lnTo>
                  <a:pt x="529" y="793"/>
                </a:lnTo>
                <a:lnTo>
                  <a:pt x="598" y="790"/>
                </a:lnTo>
                <a:lnTo>
                  <a:pt x="667" y="781"/>
                </a:lnTo>
                <a:lnTo>
                  <a:pt x="700" y="776"/>
                </a:lnTo>
                <a:lnTo>
                  <a:pt x="730" y="770"/>
                </a:lnTo>
                <a:lnTo>
                  <a:pt x="761" y="763"/>
                </a:lnTo>
                <a:lnTo>
                  <a:pt x="790" y="754"/>
                </a:lnTo>
                <a:lnTo>
                  <a:pt x="820" y="746"/>
                </a:lnTo>
                <a:lnTo>
                  <a:pt x="845" y="733"/>
                </a:lnTo>
                <a:lnTo>
                  <a:pt x="845" y="733"/>
                </a:lnTo>
                <a:lnTo>
                  <a:pt x="867" y="726"/>
                </a:lnTo>
                <a:lnTo>
                  <a:pt x="889" y="719"/>
                </a:lnTo>
                <a:lnTo>
                  <a:pt x="912" y="712"/>
                </a:lnTo>
                <a:lnTo>
                  <a:pt x="938" y="708"/>
                </a:lnTo>
                <a:lnTo>
                  <a:pt x="963" y="705"/>
                </a:lnTo>
                <a:lnTo>
                  <a:pt x="990" y="701"/>
                </a:lnTo>
                <a:lnTo>
                  <a:pt x="1049" y="698"/>
                </a:lnTo>
                <a:lnTo>
                  <a:pt x="1110" y="698"/>
                </a:lnTo>
                <a:lnTo>
                  <a:pt x="1174" y="701"/>
                </a:lnTo>
                <a:lnTo>
                  <a:pt x="1239" y="707"/>
                </a:lnTo>
                <a:lnTo>
                  <a:pt x="1305" y="715"/>
                </a:lnTo>
                <a:lnTo>
                  <a:pt x="1368" y="724"/>
                </a:lnTo>
                <a:lnTo>
                  <a:pt x="1430" y="735"/>
                </a:lnTo>
                <a:lnTo>
                  <a:pt x="1490" y="747"/>
                </a:lnTo>
                <a:lnTo>
                  <a:pt x="1545" y="761"/>
                </a:lnTo>
                <a:lnTo>
                  <a:pt x="1596" y="774"/>
                </a:lnTo>
                <a:lnTo>
                  <a:pt x="1639" y="788"/>
                </a:lnTo>
                <a:lnTo>
                  <a:pt x="1677" y="800"/>
                </a:lnTo>
                <a:lnTo>
                  <a:pt x="1707" y="813"/>
                </a:lnTo>
                <a:lnTo>
                  <a:pt x="1707" y="813"/>
                </a:lnTo>
                <a:lnTo>
                  <a:pt x="1736" y="825"/>
                </a:lnTo>
                <a:lnTo>
                  <a:pt x="1765" y="834"/>
                </a:lnTo>
                <a:lnTo>
                  <a:pt x="1797" y="843"/>
                </a:lnTo>
                <a:lnTo>
                  <a:pt x="1830" y="850"/>
                </a:lnTo>
                <a:lnTo>
                  <a:pt x="1865" y="857"/>
                </a:lnTo>
                <a:lnTo>
                  <a:pt x="1899" y="861"/>
                </a:lnTo>
                <a:lnTo>
                  <a:pt x="1936" y="864"/>
                </a:lnTo>
                <a:lnTo>
                  <a:pt x="1974" y="868"/>
                </a:lnTo>
                <a:lnTo>
                  <a:pt x="2010" y="868"/>
                </a:lnTo>
                <a:lnTo>
                  <a:pt x="2048" y="868"/>
                </a:lnTo>
                <a:lnTo>
                  <a:pt x="2126" y="864"/>
                </a:lnTo>
                <a:lnTo>
                  <a:pt x="2203" y="859"/>
                </a:lnTo>
                <a:lnTo>
                  <a:pt x="2279" y="850"/>
                </a:lnTo>
                <a:lnTo>
                  <a:pt x="2354" y="838"/>
                </a:lnTo>
                <a:lnTo>
                  <a:pt x="2425" y="825"/>
                </a:lnTo>
                <a:lnTo>
                  <a:pt x="2490" y="811"/>
                </a:lnTo>
                <a:lnTo>
                  <a:pt x="2552" y="797"/>
                </a:lnTo>
                <a:lnTo>
                  <a:pt x="2606" y="781"/>
                </a:lnTo>
                <a:lnTo>
                  <a:pt x="2652" y="767"/>
                </a:lnTo>
                <a:lnTo>
                  <a:pt x="2688" y="754"/>
                </a:lnTo>
                <a:lnTo>
                  <a:pt x="2715" y="742"/>
                </a:lnTo>
                <a:lnTo>
                  <a:pt x="2715" y="742"/>
                </a:lnTo>
                <a:lnTo>
                  <a:pt x="2743" y="730"/>
                </a:lnTo>
                <a:lnTo>
                  <a:pt x="2772" y="719"/>
                </a:lnTo>
                <a:lnTo>
                  <a:pt x="2803" y="708"/>
                </a:lnTo>
                <a:lnTo>
                  <a:pt x="2832" y="701"/>
                </a:lnTo>
                <a:lnTo>
                  <a:pt x="2863" y="696"/>
                </a:lnTo>
                <a:lnTo>
                  <a:pt x="2893" y="691"/>
                </a:lnTo>
                <a:lnTo>
                  <a:pt x="2926" y="687"/>
                </a:lnTo>
                <a:lnTo>
                  <a:pt x="2957" y="685"/>
                </a:lnTo>
                <a:lnTo>
                  <a:pt x="2990" y="685"/>
                </a:lnTo>
                <a:lnTo>
                  <a:pt x="3022" y="685"/>
                </a:lnTo>
                <a:lnTo>
                  <a:pt x="3088" y="689"/>
                </a:lnTo>
                <a:lnTo>
                  <a:pt x="3152" y="696"/>
                </a:lnTo>
                <a:lnTo>
                  <a:pt x="3215" y="707"/>
                </a:lnTo>
                <a:lnTo>
                  <a:pt x="3277" y="719"/>
                </a:lnTo>
                <a:lnTo>
                  <a:pt x="3335" y="733"/>
                </a:lnTo>
                <a:lnTo>
                  <a:pt x="3391" y="747"/>
                </a:lnTo>
                <a:lnTo>
                  <a:pt x="3444" y="763"/>
                </a:lnTo>
                <a:lnTo>
                  <a:pt x="3535" y="790"/>
                </a:lnTo>
                <a:lnTo>
                  <a:pt x="3602" y="809"/>
                </a:lnTo>
                <a:lnTo>
                  <a:pt x="3602" y="809"/>
                </a:lnTo>
                <a:lnTo>
                  <a:pt x="3653" y="822"/>
                </a:lnTo>
                <a:lnTo>
                  <a:pt x="3702" y="831"/>
                </a:lnTo>
                <a:lnTo>
                  <a:pt x="3748" y="839"/>
                </a:lnTo>
                <a:lnTo>
                  <a:pt x="3793" y="847"/>
                </a:lnTo>
                <a:lnTo>
                  <a:pt x="3837" y="852"/>
                </a:lnTo>
                <a:lnTo>
                  <a:pt x="3879" y="855"/>
                </a:lnTo>
                <a:lnTo>
                  <a:pt x="3919" y="859"/>
                </a:lnTo>
                <a:lnTo>
                  <a:pt x="3957" y="861"/>
                </a:lnTo>
                <a:lnTo>
                  <a:pt x="4028" y="861"/>
                </a:lnTo>
                <a:lnTo>
                  <a:pt x="4093" y="857"/>
                </a:lnTo>
                <a:lnTo>
                  <a:pt x="4153" y="850"/>
                </a:lnTo>
                <a:lnTo>
                  <a:pt x="4208" y="841"/>
                </a:lnTo>
                <a:lnTo>
                  <a:pt x="4257" y="831"/>
                </a:lnTo>
                <a:lnTo>
                  <a:pt x="4298" y="816"/>
                </a:lnTo>
                <a:lnTo>
                  <a:pt x="4337" y="804"/>
                </a:lnTo>
                <a:lnTo>
                  <a:pt x="4369" y="790"/>
                </a:lnTo>
                <a:lnTo>
                  <a:pt x="4397" y="776"/>
                </a:lnTo>
                <a:lnTo>
                  <a:pt x="4420" y="765"/>
                </a:lnTo>
                <a:lnTo>
                  <a:pt x="4451" y="746"/>
                </a:lnTo>
                <a:lnTo>
                  <a:pt x="4451" y="746"/>
                </a:lnTo>
                <a:lnTo>
                  <a:pt x="4475" y="733"/>
                </a:lnTo>
                <a:lnTo>
                  <a:pt x="4500" y="723"/>
                </a:lnTo>
                <a:lnTo>
                  <a:pt x="4529" y="712"/>
                </a:lnTo>
                <a:lnTo>
                  <a:pt x="4558" y="705"/>
                </a:lnTo>
                <a:lnTo>
                  <a:pt x="4589" y="699"/>
                </a:lnTo>
                <a:lnTo>
                  <a:pt x="4624" y="696"/>
                </a:lnTo>
                <a:lnTo>
                  <a:pt x="4658" y="692"/>
                </a:lnTo>
                <a:lnTo>
                  <a:pt x="4693" y="691"/>
                </a:lnTo>
                <a:lnTo>
                  <a:pt x="4729" y="691"/>
                </a:lnTo>
                <a:lnTo>
                  <a:pt x="4767" y="692"/>
                </a:lnTo>
                <a:lnTo>
                  <a:pt x="4844" y="696"/>
                </a:lnTo>
                <a:lnTo>
                  <a:pt x="4922" y="705"/>
                </a:lnTo>
                <a:lnTo>
                  <a:pt x="5000" y="715"/>
                </a:lnTo>
                <a:lnTo>
                  <a:pt x="5076" y="730"/>
                </a:lnTo>
                <a:lnTo>
                  <a:pt x="5149" y="746"/>
                </a:lnTo>
                <a:lnTo>
                  <a:pt x="5218" y="761"/>
                </a:lnTo>
                <a:lnTo>
                  <a:pt x="5280" y="777"/>
                </a:lnTo>
                <a:lnTo>
                  <a:pt x="5334" y="792"/>
                </a:lnTo>
                <a:lnTo>
                  <a:pt x="5382" y="806"/>
                </a:lnTo>
                <a:lnTo>
                  <a:pt x="5416" y="818"/>
                </a:lnTo>
                <a:lnTo>
                  <a:pt x="5442" y="829"/>
                </a:lnTo>
                <a:lnTo>
                  <a:pt x="5442" y="829"/>
                </a:lnTo>
                <a:lnTo>
                  <a:pt x="5480" y="845"/>
                </a:lnTo>
                <a:lnTo>
                  <a:pt x="5520" y="859"/>
                </a:lnTo>
                <a:lnTo>
                  <a:pt x="5560" y="870"/>
                </a:lnTo>
                <a:lnTo>
                  <a:pt x="5600" y="878"/>
                </a:lnTo>
                <a:lnTo>
                  <a:pt x="5640" y="886"/>
                </a:lnTo>
                <a:lnTo>
                  <a:pt x="5680" y="891"/>
                </a:lnTo>
                <a:lnTo>
                  <a:pt x="5720" y="894"/>
                </a:lnTo>
                <a:lnTo>
                  <a:pt x="5758" y="896"/>
                </a:lnTo>
                <a:lnTo>
                  <a:pt x="5758" y="0"/>
                </a:lnTo>
                <a:lnTo>
                  <a:pt x="0" y="0"/>
                </a:lnTo>
                <a:close/>
              </a:path>
            </a:pathLst>
          </a:custGeom>
          <a:solidFill>
            <a:srgbClr val="543b27"/>
          </a:solidFill>
          <a:ln w="0">
            <a:noFill/>
          </a:ln>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1119" name="Text Box 12"/>
          <p:cNvSpPr/>
          <p:nvPr/>
        </p:nvSpPr>
        <p:spPr>
          <a:xfrm rot="16200000">
            <a:off x="-810000" y="5823720"/>
            <a:ext cx="1838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96c18"/>
                </a:solidFill>
                <a:latin typeface="Arial"/>
                <a:ea typeface="Arial"/>
              </a:rPr>
              <a:t>Copyright © 2012 Cengage Learning</a:t>
            </a:r>
            <a:endParaRPr b="0" lang="en-US" sz="800" spc="-1" strike="noStrike">
              <a:solidFill>
                <a:srgbClr val="672f70"/>
              </a:solidFill>
              <a:latin typeface="Arial"/>
            </a:endParaRPr>
          </a:p>
        </p:txBody>
      </p:sp>
      <p:sp>
        <p:nvSpPr>
          <p:cNvPr id="1120" name="Freeform 12"/>
          <p:cNvSpPr/>
          <p:nvPr/>
        </p:nvSpPr>
        <p:spPr>
          <a:xfrm>
            <a:off x="378000" y="1052640"/>
            <a:ext cx="8534160" cy="5043240"/>
          </a:xfrm>
          <a:custGeom>
            <a:avLst/>
            <a:gdLst/>
            <a:ahLst/>
            <a:rect l="l" t="t" r="r" b="b"/>
            <a:pathLst>
              <a:path w="5376" h="3530">
                <a:moveTo>
                  <a:pt x="5376" y="3423"/>
                </a:moveTo>
                <a:lnTo>
                  <a:pt x="5376" y="3423"/>
                </a:lnTo>
                <a:lnTo>
                  <a:pt x="5375" y="3434"/>
                </a:lnTo>
                <a:lnTo>
                  <a:pt x="5373" y="3445"/>
                </a:lnTo>
                <a:lnTo>
                  <a:pt x="5367" y="3464"/>
                </a:lnTo>
                <a:lnTo>
                  <a:pt x="5356" y="3482"/>
                </a:lnTo>
                <a:lnTo>
                  <a:pt x="5344" y="3498"/>
                </a:lnTo>
                <a:lnTo>
                  <a:pt x="5327" y="3512"/>
                </a:lnTo>
                <a:lnTo>
                  <a:pt x="5309" y="3521"/>
                </a:lnTo>
                <a:lnTo>
                  <a:pt x="5289" y="3528"/>
                </a:lnTo>
                <a:lnTo>
                  <a:pt x="5278" y="3530"/>
                </a:lnTo>
                <a:lnTo>
                  <a:pt x="5267" y="3530"/>
                </a:lnTo>
                <a:lnTo>
                  <a:pt x="109" y="3530"/>
                </a:lnTo>
                <a:lnTo>
                  <a:pt x="109" y="3530"/>
                </a:lnTo>
                <a:lnTo>
                  <a:pt x="98" y="3530"/>
                </a:lnTo>
                <a:lnTo>
                  <a:pt x="87" y="3528"/>
                </a:lnTo>
                <a:lnTo>
                  <a:pt x="67" y="3521"/>
                </a:lnTo>
                <a:lnTo>
                  <a:pt x="49" y="3512"/>
                </a:lnTo>
                <a:lnTo>
                  <a:pt x="33" y="3498"/>
                </a:lnTo>
                <a:lnTo>
                  <a:pt x="20" y="3482"/>
                </a:lnTo>
                <a:lnTo>
                  <a:pt x="9" y="3464"/>
                </a:lnTo>
                <a:lnTo>
                  <a:pt x="3" y="3445"/>
                </a:lnTo>
                <a:lnTo>
                  <a:pt x="2" y="3434"/>
                </a:lnTo>
                <a:lnTo>
                  <a:pt x="0" y="3423"/>
                </a:lnTo>
                <a:lnTo>
                  <a:pt x="0" y="106"/>
                </a:lnTo>
                <a:lnTo>
                  <a:pt x="0" y="106"/>
                </a:lnTo>
                <a:lnTo>
                  <a:pt x="2" y="96"/>
                </a:lnTo>
                <a:lnTo>
                  <a:pt x="3" y="85"/>
                </a:lnTo>
                <a:lnTo>
                  <a:pt x="9" y="65"/>
                </a:lnTo>
                <a:lnTo>
                  <a:pt x="20" y="48"/>
                </a:lnTo>
                <a:lnTo>
                  <a:pt x="33" y="32"/>
                </a:lnTo>
                <a:lnTo>
                  <a:pt x="49" y="18"/>
                </a:lnTo>
                <a:lnTo>
                  <a:pt x="67" y="9"/>
                </a:lnTo>
                <a:lnTo>
                  <a:pt x="87" y="2"/>
                </a:lnTo>
                <a:lnTo>
                  <a:pt x="98" y="0"/>
                </a:lnTo>
                <a:lnTo>
                  <a:pt x="109" y="0"/>
                </a:lnTo>
                <a:lnTo>
                  <a:pt x="5267" y="0"/>
                </a:lnTo>
                <a:lnTo>
                  <a:pt x="5267" y="0"/>
                </a:lnTo>
                <a:lnTo>
                  <a:pt x="5278" y="0"/>
                </a:lnTo>
                <a:lnTo>
                  <a:pt x="5289" y="2"/>
                </a:lnTo>
                <a:lnTo>
                  <a:pt x="5309" y="9"/>
                </a:lnTo>
                <a:lnTo>
                  <a:pt x="5327" y="18"/>
                </a:lnTo>
                <a:lnTo>
                  <a:pt x="5344" y="32"/>
                </a:lnTo>
                <a:lnTo>
                  <a:pt x="5356" y="48"/>
                </a:lnTo>
                <a:lnTo>
                  <a:pt x="5367" y="65"/>
                </a:lnTo>
                <a:lnTo>
                  <a:pt x="5373" y="85"/>
                </a:lnTo>
                <a:lnTo>
                  <a:pt x="5375" y="96"/>
                </a:lnTo>
                <a:lnTo>
                  <a:pt x="5376" y="106"/>
                </a:lnTo>
                <a:lnTo>
                  <a:pt x="5376" y="34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1121" name="Freeform 10"/>
          <p:cNvSpPr/>
          <p:nvPr/>
        </p:nvSpPr>
        <p:spPr>
          <a:xfrm>
            <a:off x="7157880" y="6237360"/>
            <a:ext cx="1524240" cy="4572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fdb913"/>
          </a:solidFill>
          <a:ln w="1260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1122" name="TextBox 6"/>
          <p:cNvSpPr/>
          <p:nvPr/>
        </p:nvSpPr>
        <p:spPr>
          <a:xfrm>
            <a:off x="380880" y="6248520"/>
            <a:ext cx="853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3b27"/>
                </a:solidFill>
                <a:latin typeface="Calibri"/>
                <a:ea typeface="Arial"/>
              </a:rPr>
              <a:t>          </a:t>
            </a:r>
            <a:r>
              <a:rPr b="0" lang="en-US" sz="1600" spc="-1" strike="noStrike">
                <a:solidFill>
                  <a:srgbClr val="543b27"/>
                </a:solidFill>
                <a:latin typeface="Calibri"/>
                <a:ea typeface="Arial"/>
              </a:rPr>
              <a:t>Audience Analysis       |       Planning      |        Drafting       |       Revising       |       </a:t>
            </a:r>
            <a:r>
              <a:rPr b="1" lang="en-US" sz="1600" spc="-1" strike="noStrike">
                <a:solidFill>
                  <a:srgbClr val="543b27"/>
                </a:solidFill>
                <a:latin typeface="Calibri"/>
                <a:ea typeface="Arial"/>
              </a:rPr>
              <a:t>Proofreading</a:t>
            </a:r>
            <a:endParaRPr b="0" lang="en-US" sz="1600" spc="-1" strike="noStrike">
              <a:solidFill>
                <a:srgbClr val="672f70"/>
              </a:solidFill>
              <a:latin typeface="Arial"/>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Text Box 12"/>
          <p:cNvSpPr/>
          <p:nvPr/>
        </p:nvSpPr>
        <p:spPr>
          <a:xfrm rot="16200000">
            <a:off x="-810000" y="5823720"/>
            <a:ext cx="1838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96c18"/>
                </a:solidFill>
                <a:latin typeface="Arial"/>
                <a:ea typeface="Arial"/>
              </a:rPr>
              <a:t>Copyright © 2012 Cengage Learning</a:t>
            </a:r>
            <a:endParaRPr b="0" lang="en-US" sz="800" spc="-1" strike="noStrike">
              <a:solidFill>
                <a:srgbClr val="672f70"/>
              </a:solidFill>
              <a:latin typeface="Arial"/>
            </a:endParaRPr>
          </a:p>
        </p:txBody>
      </p:sp>
      <p:sp>
        <p:nvSpPr>
          <p:cNvPr id="1160" name="Rectangle 8"/>
          <p:cNvSpPr/>
          <p:nvPr/>
        </p:nvSpPr>
        <p:spPr>
          <a:xfrm>
            <a:off x="0" y="0"/>
            <a:ext cx="9144000" cy="666720"/>
          </a:xfrm>
          <a:prstGeom prst="rect">
            <a:avLst/>
          </a:prstGeom>
          <a:solidFill>
            <a:srgbClr val="543b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2f70"/>
              </a:solidFill>
              <a:latin typeface="Arial"/>
            </a:endParaRPr>
          </a:p>
        </p:txBody>
      </p:sp>
      <p:sp>
        <p:nvSpPr>
          <p:cNvPr id="1161" name="Rectangle 9"/>
          <p:cNvSpPr/>
          <p:nvPr/>
        </p:nvSpPr>
        <p:spPr>
          <a:xfrm>
            <a:off x="0" y="304920"/>
            <a:ext cx="9144000" cy="365040"/>
          </a:xfrm>
          <a:prstGeom prst="rect">
            <a:avLst/>
          </a:prstGeom>
          <a:solidFill>
            <a:srgbClr val="ad7b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2f70"/>
              </a:solidFill>
              <a:latin typeface="Arial"/>
            </a:endParaRPr>
          </a:p>
        </p:txBody>
      </p:sp>
      <p:sp>
        <p:nvSpPr>
          <p:cNvPr id="1162" name="Freeform 10"/>
          <p:cNvSpPr/>
          <p:nvPr/>
        </p:nvSpPr>
        <p:spPr>
          <a:xfrm>
            <a:off x="844560" y="6237360"/>
            <a:ext cx="1738440" cy="4572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fdb913"/>
          </a:solidFill>
          <a:ln w="1260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1163" name="TextBox 7"/>
          <p:cNvSpPr/>
          <p:nvPr/>
        </p:nvSpPr>
        <p:spPr>
          <a:xfrm>
            <a:off x="380880" y="6248520"/>
            <a:ext cx="853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3b27"/>
                </a:solidFill>
                <a:latin typeface="Calibri"/>
                <a:ea typeface="Arial"/>
              </a:rPr>
              <a:t>          </a:t>
            </a:r>
            <a:r>
              <a:rPr b="1" lang="en-US" sz="1600" spc="-1" strike="noStrike">
                <a:solidFill>
                  <a:srgbClr val="543b27"/>
                </a:solidFill>
                <a:latin typeface="Calibri"/>
                <a:ea typeface="Arial"/>
              </a:rPr>
              <a:t>Audience Analysis</a:t>
            </a:r>
            <a:r>
              <a:rPr b="0" lang="en-US" sz="1600" spc="-1" strike="noStrike">
                <a:solidFill>
                  <a:srgbClr val="543b27"/>
                </a:solidFill>
                <a:latin typeface="Calibri"/>
                <a:ea typeface="Arial"/>
              </a:rPr>
              <a:t>       |       Planning      |        Drafting       |       Revising       |       Proofreading</a:t>
            </a:r>
            <a:endParaRPr b="0" lang="en-US" sz="1600" spc="-1" strike="noStrike">
              <a:solidFill>
                <a:srgbClr val="672f70"/>
              </a:solidFill>
              <a:latin typeface="Arial"/>
            </a:endParaRPr>
          </a:p>
        </p:txBody>
      </p:sp>
      <p:sp>
        <p:nvSpPr>
          <p:cNvPr id="1164" name="PlaceHolder 1"/>
          <p:cNvSpPr>
            <a:spLocks noGrp="1"/>
          </p:cNvSpPr>
          <p:nvPr>
            <p:ph type="title"/>
          </p:nvPr>
        </p:nvSpPr>
        <p:spPr>
          <a:xfrm>
            <a:off x="304920" y="-360"/>
            <a:ext cx="8534160" cy="587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title text format</a:t>
            </a:r>
            <a:endParaRPr b="0" lang="en-US" sz="36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Freeform 10"/>
          <p:cNvSpPr/>
          <p:nvPr/>
        </p:nvSpPr>
        <p:spPr>
          <a:xfrm>
            <a:off x="152280" y="152280"/>
            <a:ext cx="8839440" cy="15876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543b27"/>
          </a:solidFill>
          <a:ln w="5076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81" name="Title 1"/>
          <p:cNvSpPr/>
          <p:nvPr/>
        </p:nvSpPr>
        <p:spPr>
          <a:xfrm>
            <a:off x="457200" y="3808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913"/>
                </a:solidFill>
                <a:latin typeface="Trebuchet MS"/>
              </a:rPr>
              <a:t>[Click to edit Master title style]</a:t>
            </a:r>
            <a:endParaRPr b="0" lang="en-US" sz="4400" spc="-1" strike="noStrike">
              <a:solidFill>
                <a:srgbClr val="672f70"/>
              </a:solidFill>
              <a:latin typeface="Arial"/>
            </a:endParaRPr>
          </a:p>
        </p:txBody>
      </p:sp>
      <p:sp>
        <p:nvSpPr>
          <p:cNvPr id="82" name="Text Box 12"/>
          <p:cNvSpPr/>
          <p:nvPr/>
        </p:nvSpPr>
        <p:spPr>
          <a:xfrm rot="16200000">
            <a:off x="-810000" y="5823720"/>
            <a:ext cx="1838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96c18"/>
                </a:solidFill>
                <a:latin typeface="Arial"/>
              </a:rPr>
              <a:t>Copyright © 2012 Cengage Learning</a:t>
            </a:r>
            <a:endParaRPr b="0" lang="en-US" sz="800" spc="-1" strike="noStrike">
              <a:solidFill>
                <a:srgbClr val="672f7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1" name="Text Box 12"/>
          <p:cNvSpPr/>
          <p:nvPr/>
        </p:nvSpPr>
        <p:spPr>
          <a:xfrm rot="16200000">
            <a:off x="-810000" y="5823720"/>
            <a:ext cx="1838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96c18"/>
                </a:solidFill>
                <a:latin typeface="Arial"/>
                <a:ea typeface="Arial"/>
              </a:rPr>
              <a:t>Copyright © 2012 Cengage Learning</a:t>
            </a:r>
            <a:endParaRPr b="0" lang="en-US" sz="800" spc="-1" strike="noStrike">
              <a:solidFill>
                <a:srgbClr val="672f70"/>
              </a:solidFill>
              <a:latin typeface="Arial"/>
            </a:endParaRPr>
          </a:p>
        </p:txBody>
      </p:sp>
      <p:sp>
        <p:nvSpPr>
          <p:cNvPr id="1202" name="Rectangle 8"/>
          <p:cNvSpPr/>
          <p:nvPr/>
        </p:nvSpPr>
        <p:spPr>
          <a:xfrm>
            <a:off x="0" y="0"/>
            <a:ext cx="9144000" cy="666720"/>
          </a:xfrm>
          <a:prstGeom prst="rect">
            <a:avLst/>
          </a:prstGeom>
          <a:solidFill>
            <a:srgbClr val="543b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2f70"/>
              </a:solidFill>
              <a:latin typeface="Arial"/>
            </a:endParaRPr>
          </a:p>
        </p:txBody>
      </p:sp>
      <p:sp>
        <p:nvSpPr>
          <p:cNvPr id="1203" name="Rectangle 9"/>
          <p:cNvSpPr/>
          <p:nvPr/>
        </p:nvSpPr>
        <p:spPr>
          <a:xfrm>
            <a:off x="0" y="304920"/>
            <a:ext cx="9144000" cy="365040"/>
          </a:xfrm>
          <a:prstGeom prst="rect">
            <a:avLst/>
          </a:prstGeom>
          <a:solidFill>
            <a:srgbClr val="ad7b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2f70"/>
              </a:solidFill>
              <a:latin typeface="Arial"/>
            </a:endParaRPr>
          </a:p>
        </p:txBody>
      </p:sp>
      <p:sp>
        <p:nvSpPr>
          <p:cNvPr id="1204" name="Freeform 10"/>
          <p:cNvSpPr/>
          <p:nvPr/>
        </p:nvSpPr>
        <p:spPr>
          <a:xfrm>
            <a:off x="4238640" y="6237360"/>
            <a:ext cx="1324080" cy="4572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fdb913"/>
          </a:solidFill>
          <a:ln w="1260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1205" name="TextBox 7"/>
          <p:cNvSpPr/>
          <p:nvPr/>
        </p:nvSpPr>
        <p:spPr>
          <a:xfrm>
            <a:off x="380880" y="6248520"/>
            <a:ext cx="853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3b27"/>
                </a:solidFill>
                <a:latin typeface="Calibri"/>
                <a:ea typeface="Arial"/>
              </a:rPr>
              <a:t>          </a:t>
            </a:r>
            <a:r>
              <a:rPr b="0" lang="en-US" sz="1600" spc="-1" strike="noStrike">
                <a:solidFill>
                  <a:srgbClr val="543b27"/>
                </a:solidFill>
                <a:latin typeface="Calibri"/>
                <a:ea typeface="Arial"/>
              </a:rPr>
              <a:t>Audience Analysis       |       Planning      |        </a:t>
            </a:r>
            <a:r>
              <a:rPr b="1" lang="en-US" sz="1600" spc="-1" strike="noStrike">
                <a:solidFill>
                  <a:srgbClr val="543b27"/>
                </a:solidFill>
                <a:latin typeface="Calibri"/>
                <a:ea typeface="Arial"/>
              </a:rPr>
              <a:t>Drafting</a:t>
            </a:r>
            <a:r>
              <a:rPr b="0" lang="en-US" sz="1600" spc="-1" strike="noStrike">
                <a:solidFill>
                  <a:srgbClr val="543b27"/>
                </a:solidFill>
                <a:latin typeface="Calibri"/>
                <a:ea typeface="Arial"/>
              </a:rPr>
              <a:t>       |       Revising       |       Proofreading</a:t>
            </a:r>
            <a:endParaRPr b="0" lang="en-US" sz="1600" spc="-1" strike="noStrike">
              <a:solidFill>
                <a:srgbClr val="672f70"/>
              </a:solidFill>
              <a:latin typeface="Arial"/>
            </a:endParaRPr>
          </a:p>
        </p:txBody>
      </p:sp>
      <p:sp>
        <p:nvSpPr>
          <p:cNvPr id="1206" name="PlaceHolder 1"/>
          <p:cNvSpPr>
            <a:spLocks noGrp="1"/>
          </p:cNvSpPr>
          <p:nvPr>
            <p:ph type="title"/>
          </p:nvPr>
        </p:nvSpPr>
        <p:spPr>
          <a:xfrm>
            <a:off x="304920" y="-360"/>
            <a:ext cx="8534160" cy="587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title text format</a:t>
            </a:r>
            <a:endParaRPr b="0" lang="en-US" sz="36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a08ea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08ea4"/>
                </a:solidFill>
                <a:latin typeface="Calibri"/>
              </a:rPr>
              <a:t>&lt;date/time&gt;</a:t>
            </a:r>
            <a:endParaRPr b="0" lang="en-US" sz="1200" spc="-1" strike="noStrike">
              <a:solidFill>
                <a:srgbClr val="000000"/>
              </a:solidFill>
              <a:latin typeface="Arial"/>
            </a:endParaRPr>
          </a:p>
        </p:txBody>
      </p:sp>
      <p:sp>
        <p:nvSpPr>
          <p:cNvPr id="120"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2f70"/>
              </a:solidFill>
              <a:latin typeface="Arial"/>
            </a:endParaRPr>
          </a:p>
        </p:txBody>
      </p:sp>
      <p:sp>
        <p:nvSpPr>
          <p:cNvPr id="121" name="PlaceHolder 3"/>
          <p:cNvSpPr>
            <a:spLocks noGrp="1"/>
          </p:cNvSpPr>
          <p:nvPr>
            <p:ph type="sldNum" idx="3"/>
          </p:nvPr>
        </p:nvSpPr>
        <p:spPr>
          <a:xfrm>
            <a:off x="70099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43b27"/>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17034-AFE3-421C-A15E-69FE357E9828}" type="slidenum">
              <a:rPr b="0" lang="en-US" sz="1200" spc="-1" strike="noStrike">
                <a:solidFill>
                  <a:srgbClr val="543b27"/>
                </a:solidFill>
                <a:latin typeface="Calibri"/>
              </a:rPr>
              <a:t>&lt;number&gt;</a:t>
            </a:fld>
            <a:endParaRPr b="0" lang="en-US" sz="1200" spc="-1" strike="noStrike">
              <a:solidFill>
                <a:srgbClr val="000000"/>
              </a:solidFill>
              <a:latin typeface="Arial"/>
            </a:endParaRPr>
          </a:p>
        </p:txBody>
      </p:sp>
      <p:sp>
        <p:nvSpPr>
          <p:cNvPr id="122" name="Rectangle 6"/>
          <p:cNvSpPr/>
          <p:nvPr/>
        </p:nvSpPr>
        <p:spPr>
          <a:xfrm>
            <a:off x="0" y="0"/>
            <a:ext cx="9144000" cy="6858000"/>
          </a:xfrm>
          <a:prstGeom prst="rect">
            <a:avLst/>
          </a:prstGeom>
          <a:solidFill>
            <a:srgbClr val="543b2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2f70"/>
              </a:solidFill>
              <a:latin typeface="Arial"/>
            </a:endParaRPr>
          </a:p>
        </p:txBody>
      </p:sp>
      <p:sp>
        <p:nvSpPr>
          <p:cNvPr id="123" name="PlaceHolder 4"/>
          <p:cNvSpPr>
            <a:spLocks noGrp="1"/>
          </p:cNvSpPr>
          <p:nvPr>
            <p:ph type="title"/>
          </p:nvPr>
        </p:nvSpPr>
        <p:spPr>
          <a:xfrm>
            <a:off x="3352680" y="120600"/>
            <a:ext cx="5562720" cy="641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b913"/>
                </a:solidFill>
                <a:latin typeface="Calibri"/>
              </a:rPr>
              <a:t>Click to edit the title text format</a:t>
            </a:r>
            <a:endParaRPr b="0" lang="en-US" sz="3600" spc="-1" strike="noStrike">
              <a:solidFill>
                <a:srgbClr val="fdb913"/>
              </a:solidFill>
              <a:latin typeface="Calibri"/>
            </a:endParaRPr>
          </a:p>
        </p:txBody>
      </p:sp>
      <p:sp>
        <p:nvSpPr>
          <p:cNvPr id="124" name="Freeform 8"/>
          <p:cNvSpPr/>
          <p:nvPr/>
        </p:nvSpPr>
        <p:spPr>
          <a:xfrm>
            <a:off x="228600" y="0"/>
            <a:ext cx="2971800" cy="895320"/>
          </a:xfrm>
          <a:custGeom>
            <a:avLst/>
            <a:gdLst/>
            <a:ahLst/>
            <a:rect l="l" t="t" r="r" b="b"/>
            <a:pathLst>
              <a:path w="1632" h="492">
                <a:moveTo>
                  <a:pt x="1632" y="0"/>
                </a:moveTo>
                <a:lnTo>
                  <a:pt x="1632" y="372"/>
                </a:lnTo>
                <a:lnTo>
                  <a:pt x="1632" y="372"/>
                </a:lnTo>
                <a:lnTo>
                  <a:pt x="1630" y="384"/>
                </a:lnTo>
                <a:lnTo>
                  <a:pt x="1628" y="396"/>
                </a:lnTo>
                <a:lnTo>
                  <a:pt x="1622" y="420"/>
                </a:lnTo>
                <a:lnTo>
                  <a:pt x="1610" y="440"/>
                </a:lnTo>
                <a:lnTo>
                  <a:pt x="1596" y="458"/>
                </a:lnTo>
                <a:lnTo>
                  <a:pt x="1578" y="472"/>
                </a:lnTo>
                <a:lnTo>
                  <a:pt x="1558" y="484"/>
                </a:lnTo>
                <a:lnTo>
                  <a:pt x="1536" y="490"/>
                </a:lnTo>
                <a:lnTo>
                  <a:pt x="1524" y="492"/>
                </a:lnTo>
                <a:lnTo>
                  <a:pt x="1512" y="492"/>
                </a:lnTo>
                <a:lnTo>
                  <a:pt x="120" y="492"/>
                </a:lnTo>
                <a:lnTo>
                  <a:pt x="120" y="492"/>
                </a:lnTo>
                <a:lnTo>
                  <a:pt x="108" y="492"/>
                </a:lnTo>
                <a:lnTo>
                  <a:pt x="96" y="490"/>
                </a:lnTo>
                <a:lnTo>
                  <a:pt x="72" y="484"/>
                </a:lnTo>
                <a:lnTo>
                  <a:pt x="52" y="472"/>
                </a:lnTo>
                <a:lnTo>
                  <a:pt x="34" y="458"/>
                </a:lnTo>
                <a:lnTo>
                  <a:pt x="20" y="440"/>
                </a:lnTo>
                <a:lnTo>
                  <a:pt x="8" y="420"/>
                </a:lnTo>
                <a:lnTo>
                  <a:pt x="2" y="396"/>
                </a:lnTo>
                <a:lnTo>
                  <a:pt x="0" y="384"/>
                </a:lnTo>
                <a:lnTo>
                  <a:pt x="0" y="372"/>
                </a:lnTo>
                <a:lnTo>
                  <a:pt x="0" y="0"/>
                </a:lnTo>
                <a:lnTo>
                  <a:pt x="1632" y="0"/>
                </a:lnTo>
                <a:close/>
              </a:path>
            </a:pathLst>
          </a:custGeom>
          <a:solidFill>
            <a:srgbClr val="fdb913"/>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125" name="Text Placeholder 6"/>
          <p:cNvSpPr/>
          <p:nvPr/>
        </p:nvSpPr>
        <p:spPr>
          <a:xfrm>
            <a:off x="336600" y="165240"/>
            <a:ext cx="2819520" cy="838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3b27"/>
                </a:solidFill>
                <a:latin typeface="Tempus Sans ITC"/>
                <a:ea typeface="JasmineUPC"/>
              </a:rPr>
              <a:t>Video Example</a:t>
            </a:r>
            <a:endParaRPr b="0" lang="en-US" sz="3200" spc="-1" strike="noStrike">
              <a:solidFill>
                <a:srgbClr val="672f70"/>
              </a:solidFill>
              <a:latin typeface="Arial"/>
            </a:endParaRPr>
          </a:p>
        </p:txBody>
      </p:sp>
      <p:sp>
        <p:nvSpPr>
          <p:cNvPr id="126" name="Text Box 12"/>
          <p:cNvSpPr/>
          <p:nvPr/>
        </p:nvSpPr>
        <p:spPr>
          <a:xfrm rot="16200000">
            <a:off x="-810000" y="5823720"/>
            <a:ext cx="1838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96c18"/>
                </a:solidFill>
                <a:latin typeface="Arial"/>
              </a:rPr>
              <a:t>Copyright © 2012 Cengage Learning</a:t>
            </a:r>
            <a:endParaRPr b="0" lang="en-US" sz="800" spc="-1" strike="noStrike">
              <a:solidFill>
                <a:srgbClr val="672f7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Freeform 10"/>
          <p:cNvSpPr/>
          <p:nvPr/>
        </p:nvSpPr>
        <p:spPr>
          <a:xfrm>
            <a:off x="0" y="458640"/>
            <a:ext cx="9144000" cy="1592280"/>
          </a:xfrm>
          <a:custGeom>
            <a:avLst/>
            <a:gdLst/>
            <a:ahLst/>
            <a:rect l="l" t="t" r="r" b="b"/>
            <a:pathLst>
              <a:path w="5760" h="1003">
                <a:moveTo>
                  <a:pt x="0" y="0"/>
                </a:moveTo>
                <a:lnTo>
                  <a:pt x="0" y="865"/>
                </a:lnTo>
                <a:lnTo>
                  <a:pt x="0" y="865"/>
                </a:lnTo>
                <a:lnTo>
                  <a:pt x="13" y="857"/>
                </a:lnTo>
                <a:lnTo>
                  <a:pt x="51" y="840"/>
                </a:lnTo>
                <a:lnTo>
                  <a:pt x="76" y="829"/>
                </a:lnTo>
                <a:lnTo>
                  <a:pt x="107" y="818"/>
                </a:lnTo>
                <a:lnTo>
                  <a:pt x="142" y="808"/>
                </a:lnTo>
                <a:lnTo>
                  <a:pt x="178" y="799"/>
                </a:lnTo>
                <a:lnTo>
                  <a:pt x="220" y="792"/>
                </a:lnTo>
                <a:lnTo>
                  <a:pt x="264" y="788"/>
                </a:lnTo>
                <a:lnTo>
                  <a:pt x="307" y="788"/>
                </a:lnTo>
                <a:lnTo>
                  <a:pt x="331" y="788"/>
                </a:lnTo>
                <a:lnTo>
                  <a:pt x="354" y="792"/>
                </a:lnTo>
                <a:lnTo>
                  <a:pt x="378" y="795"/>
                </a:lnTo>
                <a:lnTo>
                  <a:pt x="402" y="801"/>
                </a:lnTo>
                <a:lnTo>
                  <a:pt x="425" y="806"/>
                </a:lnTo>
                <a:lnTo>
                  <a:pt x="449" y="815"/>
                </a:lnTo>
                <a:lnTo>
                  <a:pt x="473" y="826"/>
                </a:lnTo>
                <a:lnTo>
                  <a:pt x="496" y="836"/>
                </a:lnTo>
                <a:lnTo>
                  <a:pt x="518" y="850"/>
                </a:lnTo>
                <a:lnTo>
                  <a:pt x="542" y="865"/>
                </a:lnTo>
                <a:lnTo>
                  <a:pt x="542" y="865"/>
                </a:lnTo>
                <a:lnTo>
                  <a:pt x="556" y="873"/>
                </a:lnTo>
                <a:lnTo>
                  <a:pt x="576" y="886"/>
                </a:lnTo>
                <a:lnTo>
                  <a:pt x="603" y="900"/>
                </a:lnTo>
                <a:lnTo>
                  <a:pt x="638" y="916"/>
                </a:lnTo>
                <a:lnTo>
                  <a:pt x="676" y="932"/>
                </a:lnTo>
                <a:lnTo>
                  <a:pt x="720" y="950"/>
                </a:lnTo>
                <a:lnTo>
                  <a:pt x="769" y="964"/>
                </a:lnTo>
                <a:lnTo>
                  <a:pt x="822" y="978"/>
                </a:lnTo>
                <a:lnTo>
                  <a:pt x="876" y="990"/>
                </a:lnTo>
                <a:lnTo>
                  <a:pt x="936" y="997"/>
                </a:lnTo>
                <a:lnTo>
                  <a:pt x="965" y="1001"/>
                </a:lnTo>
                <a:lnTo>
                  <a:pt x="996" y="1003"/>
                </a:lnTo>
                <a:lnTo>
                  <a:pt x="1027" y="1003"/>
                </a:lnTo>
                <a:lnTo>
                  <a:pt x="1058" y="1001"/>
                </a:lnTo>
                <a:lnTo>
                  <a:pt x="1091" y="999"/>
                </a:lnTo>
                <a:lnTo>
                  <a:pt x="1121" y="996"/>
                </a:lnTo>
                <a:lnTo>
                  <a:pt x="1154" y="990"/>
                </a:lnTo>
                <a:lnTo>
                  <a:pt x="1187" y="983"/>
                </a:lnTo>
                <a:lnTo>
                  <a:pt x="1220" y="974"/>
                </a:lnTo>
                <a:lnTo>
                  <a:pt x="1251" y="962"/>
                </a:lnTo>
                <a:lnTo>
                  <a:pt x="1283" y="950"/>
                </a:lnTo>
                <a:lnTo>
                  <a:pt x="1316" y="935"/>
                </a:lnTo>
                <a:lnTo>
                  <a:pt x="1316" y="935"/>
                </a:lnTo>
                <a:lnTo>
                  <a:pt x="1336" y="925"/>
                </a:lnTo>
                <a:lnTo>
                  <a:pt x="1369" y="912"/>
                </a:lnTo>
                <a:lnTo>
                  <a:pt x="1409" y="898"/>
                </a:lnTo>
                <a:lnTo>
                  <a:pt x="1458" y="884"/>
                </a:lnTo>
                <a:lnTo>
                  <a:pt x="1514" y="868"/>
                </a:lnTo>
                <a:lnTo>
                  <a:pt x="1574" y="852"/>
                </a:lnTo>
                <a:lnTo>
                  <a:pt x="1639" y="836"/>
                </a:lnTo>
                <a:lnTo>
                  <a:pt x="1707" y="822"/>
                </a:lnTo>
                <a:lnTo>
                  <a:pt x="1776" y="811"/>
                </a:lnTo>
                <a:lnTo>
                  <a:pt x="1845" y="803"/>
                </a:lnTo>
                <a:lnTo>
                  <a:pt x="1914" y="797"/>
                </a:lnTo>
                <a:lnTo>
                  <a:pt x="1947" y="797"/>
                </a:lnTo>
                <a:lnTo>
                  <a:pt x="1979" y="797"/>
                </a:lnTo>
                <a:lnTo>
                  <a:pt x="2012" y="799"/>
                </a:lnTo>
                <a:lnTo>
                  <a:pt x="2043" y="803"/>
                </a:lnTo>
                <a:lnTo>
                  <a:pt x="2072" y="806"/>
                </a:lnTo>
                <a:lnTo>
                  <a:pt x="2099" y="811"/>
                </a:lnTo>
                <a:lnTo>
                  <a:pt x="2127" y="818"/>
                </a:lnTo>
                <a:lnTo>
                  <a:pt x="2150" y="829"/>
                </a:lnTo>
                <a:lnTo>
                  <a:pt x="2174" y="840"/>
                </a:lnTo>
                <a:lnTo>
                  <a:pt x="2196" y="852"/>
                </a:lnTo>
                <a:lnTo>
                  <a:pt x="2196" y="852"/>
                </a:lnTo>
                <a:lnTo>
                  <a:pt x="2223" y="872"/>
                </a:lnTo>
                <a:lnTo>
                  <a:pt x="2243" y="882"/>
                </a:lnTo>
                <a:lnTo>
                  <a:pt x="2268" y="896"/>
                </a:lnTo>
                <a:lnTo>
                  <a:pt x="2297" y="911"/>
                </a:lnTo>
                <a:lnTo>
                  <a:pt x="2330" y="923"/>
                </a:lnTo>
                <a:lnTo>
                  <a:pt x="2368" y="937"/>
                </a:lnTo>
                <a:lnTo>
                  <a:pt x="2412" y="948"/>
                </a:lnTo>
                <a:lnTo>
                  <a:pt x="2459" y="957"/>
                </a:lnTo>
                <a:lnTo>
                  <a:pt x="2512" y="964"/>
                </a:lnTo>
                <a:lnTo>
                  <a:pt x="2570" y="967"/>
                </a:lnTo>
                <a:lnTo>
                  <a:pt x="2636" y="967"/>
                </a:lnTo>
                <a:lnTo>
                  <a:pt x="2668" y="966"/>
                </a:lnTo>
                <a:lnTo>
                  <a:pt x="2705" y="962"/>
                </a:lnTo>
                <a:lnTo>
                  <a:pt x="2741" y="958"/>
                </a:lnTo>
                <a:lnTo>
                  <a:pt x="2779" y="953"/>
                </a:lnTo>
                <a:lnTo>
                  <a:pt x="2819" y="946"/>
                </a:lnTo>
                <a:lnTo>
                  <a:pt x="2861" y="937"/>
                </a:lnTo>
                <a:lnTo>
                  <a:pt x="2905" y="928"/>
                </a:lnTo>
                <a:lnTo>
                  <a:pt x="2948" y="916"/>
                </a:lnTo>
                <a:lnTo>
                  <a:pt x="2948" y="916"/>
                </a:lnTo>
                <a:lnTo>
                  <a:pt x="3010" y="896"/>
                </a:lnTo>
                <a:lnTo>
                  <a:pt x="3090" y="870"/>
                </a:lnTo>
                <a:lnTo>
                  <a:pt x="3137" y="854"/>
                </a:lnTo>
                <a:lnTo>
                  <a:pt x="3186" y="840"/>
                </a:lnTo>
                <a:lnTo>
                  <a:pt x="3239" y="826"/>
                </a:lnTo>
                <a:lnTo>
                  <a:pt x="3294" y="813"/>
                </a:lnTo>
                <a:lnTo>
                  <a:pt x="3350" y="803"/>
                </a:lnTo>
                <a:lnTo>
                  <a:pt x="3406" y="795"/>
                </a:lnTo>
                <a:lnTo>
                  <a:pt x="3464" y="792"/>
                </a:lnTo>
                <a:lnTo>
                  <a:pt x="3493" y="792"/>
                </a:lnTo>
                <a:lnTo>
                  <a:pt x="3523" y="792"/>
                </a:lnTo>
                <a:lnTo>
                  <a:pt x="3550" y="794"/>
                </a:lnTo>
                <a:lnTo>
                  <a:pt x="3579" y="797"/>
                </a:lnTo>
                <a:lnTo>
                  <a:pt x="3606" y="803"/>
                </a:lnTo>
                <a:lnTo>
                  <a:pt x="3633" y="808"/>
                </a:lnTo>
                <a:lnTo>
                  <a:pt x="3661" y="815"/>
                </a:lnTo>
                <a:lnTo>
                  <a:pt x="3686" y="826"/>
                </a:lnTo>
                <a:lnTo>
                  <a:pt x="3713" y="836"/>
                </a:lnTo>
                <a:lnTo>
                  <a:pt x="3737" y="849"/>
                </a:lnTo>
                <a:lnTo>
                  <a:pt x="3737" y="849"/>
                </a:lnTo>
                <a:lnTo>
                  <a:pt x="3761" y="861"/>
                </a:lnTo>
                <a:lnTo>
                  <a:pt x="3793" y="873"/>
                </a:lnTo>
                <a:lnTo>
                  <a:pt x="3835" y="888"/>
                </a:lnTo>
                <a:lnTo>
                  <a:pt x="3882" y="904"/>
                </a:lnTo>
                <a:lnTo>
                  <a:pt x="3937" y="918"/>
                </a:lnTo>
                <a:lnTo>
                  <a:pt x="3995" y="932"/>
                </a:lnTo>
                <a:lnTo>
                  <a:pt x="4059" y="944"/>
                </a:lnTo>
                <a:lnTo>
                  <a:pt x="4124" y="957"/>
                </a:lnTo>
                <a:lnTo>
                  <a:pt x="4191" y="966"/>
                </a:lnTo>
                <a:lnTo>
                  <a:pt x="4260" y="971"/>
                </a:lnTo>
                <a:lnTo>
                  <a:pt x="4330" y="974"/>
                </a:lnTo>
                <a:lnTo>
                  <a:pt x="4364" y="974"/>
                </a:lnTo>
                <a:lnTo>
                  <a:pt x="4397" y="973"/>
                </a:lnTo>
                <a:lnTo>
                  <a:pt x="4430" y="971"/>
                </a:lnTo>
                <a:lnTo>
                  <a:pt x="4462" y="967"/>
                </a:lnTo>
                <a:lnTo>
                  <a:pt x="4493" y="964"/>
                </a:lnTo>
                <a:lnTo>
                  <a:pt x="4524" y="957"/>
                </a:lnTo>
                <a:lnTo>
                  <a:pt x="4553" y="950"/>
                </a:lnTo>
                <a:lnTo>
                  <a:pt x="4580" y="941"/>
                </a:lnTo>
                <a:lnTo>
                  <a:pt x="4608" y="930"/>
                </a:lnTo>
                <a:lnTo>
                  <a:pt x="4633" y="919"/>
                </a:lnTo>
                <a:lnTo>
                  <a:pt x="4633" y="919"/>
                </a:lnTo>
                <a:lnTo>
                  <a:pt x="4660" y="907"/>
                </a:lnTo>
                <a:lnTo>
                  <a:pt x="4693" y="895"/>
                </a:lnTo>
                <a:lnTo>
                  <a:pt x="4733" y="880"/>
                </a:lnTo>
                <a:lnTo>
                  <a:pt x="4777" y="868"/>
                </a:lnTo>
                <a:lnTo>
                  <a:pt x="4826" y="854"/>
                </a:lnTo>
                <a:lnTo>
                  <a:pt x="4878" y="842"/>
                </a:lnTo>
                <a:lnTo>
                  <a:pt x="4935" y="831"/>
                </a:lnTo>
                <a:lnTo>
                  <a:pt x="4991" y="822"/>
                </a:lnTo>
                <a:lnTo>
                  <a:pt x="5049" y="813"/>
                </a:lnTo>
                <a:lnTo>
                  <a:pt x="5106" y="808"/>
                </a:lnTo>
                <a:lnTo>
                  <a:pt x="5162" y="804"/>
                </a:lnTo>
                <a:lnTo>
                  <a:pt x="5217" y="804"/>
                </a:lnTo>
                <a:lnTo>
                  <a:pt x="5269" y="808"/>
                </a:lnTo>
                <a:lnTo>
                  <a:pt x="5293" y="810"/>
                </a:lnTo>
                <a:lnTo>
                  <a:pt x="5317" y="815"/>
                </a:lnTo>
                <a:lnTo>
                  <a:pt x="5340" y="818"/>
                </a:lnTo>
                <a:lnTo>
                  <a:pt x="5360" y="826"/>
                </a:lnTo>
                <a:lnTo>
                  <a:pt x="5380" y="833"/>
                </a:lnTo>
                <a:lnTo>
                  <a:pt x="5398" y="840"/>
                </a:lnTo>
                <a:lnTo>
                  <a:pt x="5398" y="840"/>
                </a:lnTo>
                <a:lnTo>
                  <a:pt x="5416" y="849"/>
                </a:lnTo>
                <a:lnTo>
                  <a:pt x="5436" y="857"/>
                </a:lnTo>
                <a:lnTo>
                  <a:pt x="5476" y="870"/>
                </a:lnTo>
                <a:lnTo>
                  <a:pt x="5520" y="880"/>
                </a:lnTo>
                <a:lnTo>
                  <a:pt x="5566" y="889"/>
                </a:lnTo>
                <a:lnTo>
                  <a:pt x="5615" y="895"/>
                </a:lnTo>
                <a:lnTo>
                  <a:pt x="5662" y="900"/>
                </a:lnTo>
                <a:lnTo>
                  <a:pt x="5711" y="902"/>
                </a:lnTo>
                <a:lnTo>
                  <a:pt x="5760" y="902"/>
                </a:lnTo>
                <a:lnTo>
                  <a:pt x="5760" y="0"/>
                </a:lnTo>
                <a:lnTo>
                  <a:pt x="0" y="0"/>
                </a:lnTo>
                <a:close/>
              </a:path>
            </a:pathLst>
          </a:custGeom>
          <a:solidFill>
            <a:srgbClr val="ad7b51"/>
          </a:solidFill>
          <a:ln w="0">
            <a:noFill/>
          </a:ln>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164" name="Freeform 11"/>
          <p:cNvSpPr/>
          <p:nvPr/>
        </p:nvSpPr>
        <p:spPr>
          <a:xfrm>
            <a:off x="3240" y="0"/>
            <a:ext cx="9140760" cy="1422360"/>
          </a:xfrm>
          <a:custGeom>
            <a:avLst/>
            <a:gdLst/>
            <a:ahLst/>
            <a:rect l="l" t="t" r="r" b="b"/>
            <a:pathLst>
              <a:path w="5758" h="896">
                <a:moveTo>
                  <a:pt x="0" y="0"/>
                </a:moveTo>
                <a:lnTo>
                  <a:pt x="0" y="758"/>
                </a:lnTo>
                <a:lnTo>
                  <a:pt x="0" y="758"/>
                </a:lnTo>
                <a:lnTo>
                  <a:pt x="25" y="763"/>
                </a:lnTo>
                <a:lnTo>
                  <a:pt x="93" y="772"/>
                </a:lnTo>
                <a:lnTo>
                  <a:pt x="194" y="783"/>
                </a:lnTo>
                <a:lnTo>
                  <a:pt x="256" y="788"/>
                </a:lnTo>
                <a:lnTo>
                  <a:pt x="320" y="792"/>
                </a:lnTo>
                <a:lnTo>
                  <a:pt x="389" y="795"/>
                </a:lnTo>
                <a:lnTo>
                  <a:pt x="458" y="795"/>
                </a:lnTo>
                <a:lnTo>
                  <a:pt x="529" y="793"/>
                </a:lnTo>
                <a:lnTo>
                  <a:pt x="598" y="790"/>
                </a:lnTo>
                <a:lnTo>
                  <a:pt x="667" y="781"/>
                </a:lnTo>
                <a:lnTo>
                  <a:pt x="700" y="776"/>
                </a:lnTo>
                <a:lnTo>
                  <a:pt x="730" y="770"/>
                </a:lnTo>
                <a:lnTo>
                  <a:pt x="761" y="763"/>
                </a:lnTo>
                <a:lnTo>
                  <a:pt x="790" y="754"/>
                </a:lnTo>
                <a:lnTo>
                  <a:pt x="820" y="746"/>
                </a:lnTo>
                <a:lnTo>
                  <a:pt x="845" y="733"/>
                </a:lnTo>
                <a:lnTo>
                  <a:pt x="845" y="733"/>
                </a:lnTo>
                <a:lnTo>
                  <a:pt x="867" y="726"/>
                </a:lnTo>
                <a:lnTo>
                  <a:pt x="889" y="719"/>
                </a:lnTo>
                <a:lnTo>
                  <a:pt x="912" y="712"/>
                </a:lnTo>
                <a:lnTo>
                  <a:pt x="938" y="708"/>
                </a:lnTo>
                <a:lnTo>
                  <a:pt x="963" y="705"/>
                </a:lnTo>
                <a:lnTo>
                  <a:pt x="990" y="701"/>
                </a:lnTo>
                <a:lnTo>
                  <a:pt x="1049" y="698"/>
                </a:lnTo>
                <a:lnTo>
                  <a:pt x="1110" y="698"/>
                </a:lnTo>
                <a:lnTo>
                  <a:pt x="1174" y="701"/>
                </a:lnTo>
                <a:lnTo>
                  <a:pt x="1239" y="707"/>
                </a:lnTo>
                <a:lnTo>
                  <a:pt x="1305" y="715"/>
                </a:lnTo>
                <a:lnTo>
                  <a:pt x="1368" y="724"/>
                </a:lnTo>
                <a:lnTo>
                  <a:pt x="1430" y="735"/>
                </a:lnTo>
                <a:lnTo>
                  <a:pt x="1490" y="747"/>
                </a:lnTo>
                <a:lnTo>
                  <a:pt x="1545" y="761"/>
                </a:lnTo>
                <a:lnTo>
                  <a:pt x="1596" y="774"/>
                </a:lnTo>
                <a:lnTo>
                  <a:pt x="1639" y="788"/>
                </a:lnTo>
                <a:lnTo>
                  <a:pt x="1677" y="800"/>
                </a:lnTo>
                <a:lnTo>
                  <a:pt x="1707" y="813"/>
                </a:lnTo>
                <a:lnTo>
                  <a:pt x="1707" y="813"/>
                </a:lnTo>
                <a:lnTo>
                  <a:pt x="1736" y="825"/>
                </a:lnTo>
                <a:lnTo>
                  <a:pt x="1765" y="834"/>
                </a:lnTo>
                <a:lnTo>
                  <a:pt x="1797" y="843"/>
                </a:lnTo>
                <a:lnTo>
                  <a:pt x="1830" y="850"/>
                </a:lnTo>
                <a:lnTo>
                  <a:pt x="1865" y="857"/>
                </a:lnTo>
                <a:lnTo>
                  <a:pt x="1899" y="861"/>
                </a:lnTo>
                <a:lnTo>
                  <a:pt x="1936" y="864"/>
                </a:lnTo>
                <a:lnTo>
                  <a:pt x="1974" y="868"/>
                </a:lnTo>
                <a:lnTo>
                  <a:pt x="2010" y="868"/>
                </a:lnTo>
                <a:lnTo>
                  <a:pt x="2048" y="868"/>
                </a:lnTo>
                <a:lnTo>
                  <a:pt x="2126" y="864"/>
                </a:lnTo>
                <a:lnTo>
                  <a:pt x="2203" y="859"/>
                </a:lnTo>
                <a:lnTo>
                  <a:pt x="2279" y="850"/>
                </a:lnTo>
                <a:lnTo>
                  <a:pt x="2354" y="838"/>
                </a:lnTo>
                <a:lnTo>
                  <a:pt x="2425" y="825"/>
                </a:lnTo>
                <a:lnTo>
                  <a:pt x="2490" y="811"/>
                </a:lnTo>
                <a:lnTo>
                  <a:pt x="2552" y="797"/>
                </a:lnTo>
                <a:lnTo>
                  <a:pt x="2606" y="781"/>
                </a:lnTo>
                <a:lnTo>
                  <a:pt x="2652" y="767"/>
                </a:lnTo>
                <a:lnTo>
                  <a:pt x="2688" y="754"/>
                </a:lnTo>
                <a:lnTo>
                  <a:pt x="2715" y="742"/>
                </a:lnTo>
                <a:lnTo>
                  <a:pt x="2715" y="742"/>
                </a:lnTo>
                <a:lnTo>
                  <a:pt x="2743" y="730"/>
                </a:lnTo>
                <a:lnTo>
                  <a:pt x="2772" y="719"/>
                </a:lnTo>
                <a:lnTo>
                  <a:pt x="2803" y="708"/>
                </a:lnTo>
                <a:lnTo>
                  <a:pt x="2832" y="701"/>
                </a:lnTo>
                <a:lnTo>
                  <a:pt x="2863" y="696"/>
                </a:lnTo>
                <a:lnTo>
                  <a:pt x="2893" y="691"/>
                </a:lnTo>
                <a:lnTo>
                  <a:pt x="2926" y="687"/>
                </a:lnTo>
                <a:lnTo>
                  <a:pt x="2957" y="685"/>
                </a:lnTo>
                <a:lnTo>
                  <a:pt x="2990" y="685"/>
                </a:lnTo>
                <a:lnTo>
                  <a:pt x="3022" y="685"/>
                </a:lnTo>
                <a:lnTo>
                  <a:pt x="3088" y="689"/>
                </a:lnTo>
                <a:lnTo>
                  <a:pt x="3152" y="696"/>
                </a:lnTo>
                <a:lnTo>
                  <a:pt x="3215" y="707"/>
                </a:lnTo>
                <a:lnTo>
                  <a:pt x="3277" y="719"/>
                </a:lnTo>
                <a:lnTo>
                  <a:pt x="3335" y="733"/>
                </a:lnTo>
                <a:lnTo>
                  <a:pt x="3391" y="747"/>
                </a:lnTo>
                <a:lnTo>
                  <a:pt x="3444" y="763"/>
                </a:lnTo>
                <a:lnTo>
                  <a:pt x="3535" y="790"/>
                </a:lnTo>
                <a:lnTo>
                  <a:pt x="3602" y="809"/>
                </a:lnTo>
                <a:lnTo>
                  <a:pt x="3602" y="809"/>
                </a:lnTo>
                <a:lnTo>
                  <a:pt x="3653" y="822"/>
                </a:lnTo>
                <a:lnTo>
                  <a:pt x="3702" y="831"/>
                </a:lnTo>
                <a:lnTo>
                  <a:pt x="3748" y="839"/>
                </a:lnTo>
                <a:lnTo>
                  <a:pt x="3793" y="847"/>
                </a:lnTo>
                <a:lnTo>
                  <a:pt x="3837" y="852"/>
                </a:lnTo>
                <a:lnTo>
                  <a:pt x="3879" y="855"/>
                </a:lnTo>
                <a:lnTo>
                  <a:pt x="3919" y="859"/>
                </a:lnTo>
                <a:lnTo>
                  <a:pt x="3957" y="861"/>
                </a:lnTo>
                <a:lnTo>
                  <a:pt x="4028" y="861"/>
                </a:lnTo>
                <a:lnTo>
                  <a:pt x="4093" y="857"/>
                </a:lnTo>
                <a:lnTo>
                  <a:pt x="4153" y="850"/>
                </a:lnTo>
                <a:lnTo>
                  <a:pt x="4208" y="841"/>
                </a:lnTo>
                <a:lnTo>
                  <a:pt x="4257" y="831"/>
                </a:lnTo>
                <a:lnTo>
                  <a:pt x="4298" y="816"/>
                </a:lnTo>
                <a:lnTo>
                  <a:pt x="4337" y="804"/>
                </a:lnTo>
                <a:lnTo>
                  <a:pt x="4369" y="790"/>
                </a:lnTo>
                <a:lnTo>
                  <a:pt x="4397" y="776"/>
                </a:lnTo>
                <a:lnTo>
                  <a:pt x="4420" y="765"/>
                </a:lnTo>
                <a:lnTo>
                  <a:pt x="4451" y="746"/>
                </a:lnTo>
                <a:lnTo>
                  <a:pt x="4451" y="746"/>
                </a:lnTo>
                <a:lnTo>
                  <a:pt x="4475" y="733"/>
                </a:lnTo>
                <a:lnTo>
                  <a:pt x="4500" y="723"/>
                </a:lnTo>
                <a:lnTo>
                  <a:pt x="4529" y="712"/>
                </a:lnTo>
                <a:lnTo>
                  <a:pt x="4558" y="705"/>
                </a:lnTo>
                <a:lnTo>
                  <a:pt x="4589" y="699"/>
                </a:lnTo>
                <a:lnTo>
                  <a:pt x="4624" y="696"/>
                </a:lnTo>
                <a:lnTo>
                  <a:pt x="4658" y="692"/>
                </a:lnTo>
                <a:lnTo>
                  <a:pt x="4693" y="691"/>
                </a:lnTo>
                <a:lnTo>
                  <a:pt x="4729" y="691"/>
                </a:lnTo>
                <a:lnTo>
                  <a:pt x="4767" y="692"/>
                </a:lnTo>
                <a:lnTo>
                  <a:pt x="4844" y="696"/>
                </a:lnTo>
                <a:lnTo>
                  <a:pt x="4922" y="705"/>
                </a:lnTo>
                <a:lnTo>
                  <a:pt x="5000" y="715"/>
                </a:lnTo>
                <a:lnTo>
                  <a:pt x="5076" y="730"/>
                </a:lnTo>
                <a:lnTo>
                  <a:pt x="5149" y="746"/>
                </a:lnTo>
                <a:lnTo>
                  <a:pt x="5218" y="761"/>
                </a:lnTo>
                <a:lnTo>
                  <a:pt x="5280" y="777"/>
                </a:lnTo>
                <a:lnTo>
                  <a:pt x="5334" y="792"/>
                </a:lnTo>
                <a:lnTo>
                  <a:pt x="5382" y="806"/>
                </a:lnTo>
                <a:lnTo>
                  <a:pt x="5416" y="818"/>
                </a:lnTo>
                <a:lnTo>
                  <a:pt x="5442" y="829"/>
                </a:lnTo>
                <a:lnTo>
                  <a:pt x="5442" y="829"/>
                </a:lnTo>
                <a:lnTo>
                  <a:pt x="5480" y="845"/>
                </a:lnTo>
                <a:lnTo>
                  <a:pt x="5520" y="859"/>
                </a:lnTo>
                <a:lnTo>
                  <a:pt x="5560" y="870"/>
                </a:lnTo>
                <a:lnTo>
                  <a:pt x="5600" y="878"/>
                </a:lnTo>
                <a:lnTo>
                  <a:pt x="5640" y="886"/>
                </a:lnTo>
                <a:lnTo>
                  <a:pt x="5680" y="891"/>
                </a:lnTo>
                <a:lnTo>
                  <a:pt x="5720" y="894"/>
                </a:lnTo>
                <a:lnTo>
                  <a:pt x="5758" y="896"/>
                </a:lnTo>
                <a:lnTo>
                  <a:pt x="5758" y="0"/>
                </a:lnTo>
                <a:lnTo>
                  <a:pt x="0" y="0"/>
                </a:lnTo>
                <a:close/>
              </a:path>
            </a:pathLst>
          </a:custGeom>
          <a:solidFill>
            <a:srgbClr val="543b27"/>
          </a:solidFill>
          <a:ln w="0">
            <a:noFill/>
          </a:ln>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165" name="Text Box 12"/>
          <p:cNvSpPr/>
          <p:nvPr/>
        </p:nvSpPr>
        <p:spPr>
          <a:xfrm rot="16200000">
            <a:off x="-810000" y="5823720"/>
            <a:ext cx="1838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96c18"/>
                </a:solidFill>
                <a:latin typeface="Arial"/>
                <a:ea typeface="Arial"/>
              </a:rPr>
              <a:t>Copyright © 2012 Cengage Learning</a:t>
            </a:r>
            <a:endParaRPr b="0" lang="en-US" sz="800" spc="-1" strike="noStrike">
              <a:solidFill>
                <a:srgbClr val="672f70"/>
              </a:solidFill>
              <a:latin typeface="Arial"/>
            </a:endParaRPr>
          </a:p>
        </p:txBody>
      </p:sp>
      <p:sp>
        <p:nvSpPr>
          <p:cNvPr id="166" name="Freeform 12"/>
          <p:cNvSpPr/>
          <p:nvPr/>
        </p:nvSpPr>
        <p:spPr>
          <a:xfrm>
            <a:off x="304920" y="1066680"/>
            <a:ext cx="8534160" cy="5232600"/>
          </a:xfrm>
          <a:custGeom>
            <a:avLst/>
            <a:gdLst/>
            <a:ahLst/>
            <a:rect l="l" t="t" r="r" b="b"/>
            <a:pathLst>
              <a:path w="5376" h="3530">
                <a:moveTo>
                  <a:pt x="5376" y="3423"/>
                </a:moveTo>
                <a:lnTo>
                  <a:pt x="5376" y="3423"/>
                </a:lnTo>
                <a:lnTo>
                  <a:pt x="5375" y="3434"/>
                </a:lnTo>
                <a:lnTo>
                  <a:pt x="5373" y="3445"/>
                </a:lnTo>
                <a:lnTo>
                  <a:pt x="5367" y="3464"/>
                </a:lnTo>
                <a:lnTo>
                  <a:pt x="5356" y="3482"/>
                </a:lnTo>
                <a:lnTo>
                  <a:pt x="5344" y="3498"/>
                </a:lnTo>
                <a:lnTo>
                  <a:pt x="5327" y="3512"/>
                </a:lnTo>
                <a:lnTo>
                  <a:pt x="5309" y="3521"/>
                </a:lnTo>
                <a:lnTo>
                  <a:pt x="5289" y="3528"/>
                </a:lnTo>
                <a:lnTo>
                  <a:pt x="5278" y="3530"/>
                </a:lnTo>
                <a:lnTo>
                  <a:pt x="5267" y="3530"/>
                </a:lnTo>
                <a:lnTo>
                  <a:pt x="109" y="3530"/>
                </a:lnTo>
                <a:lnTo>
                  <a:pt x="109" y="3530"/>
                </a:lnTo>
                <a:lnTo>
                  <a:pt x="98" y="3530"/>
                </a:lnTo>
                <a:lnTo>
                  <a:pt x="87" y="3528"/>
                </a:lnTo>
                <a:lnTo>
                  <a:pt x="67" y="3521"/>
                </a:lnTo>
                <a:lnTo>
                  <a:pt x="49" y="3512"/>
                </a:lnTo>
                <a:lnTo>
                  <a:pt x="33" y="3498"/>
                </a:lnTo>
                <a:lnTo>
                  <a:pt x="20" y="3482"/>
                </a:lnTo>
                <a:lnTo>
                  <a:pt x="9" y="3464"/>
                </a:lnTo>
                <a:lnTo>
                  <a:pt x="3" y="3445"/>
                </a:lnTo>
                <a:lnTo>
                  <a:pt x="2" y="3434"/>
                </a:lnTo>
                <a:lnTo>
                  <a:pt x="0" y="3423"/>
                </a:lnTo>
                <a:lnTo>
                  <a:pt x="0" y="106"/>
                </a:lnTo>
                <a:lnTo>
                  <a:pt x="0" y="106"/>
                </a:lnTo>
                <a:lnTo>
                  <a:pt x="2" y="96"/>
                </a:lnTo>
                <a:lnTo>
                  <a:pt x="3" y="85"/>
                </a:lnTo>
                <a:lnTo>
                  <a:pt x="9" y="65"/>
                </a:lnTo>
                <a:lnTo>
                  <a:pt x="20" y="48"/>
                </a:lnTo>
                <a:lnTo>
                  <a:pt x="33" y="32"/>
                </a:lnTo>
                <a:lnTo>
                  <a:pt x="49" y="18"/>
                </a:lnTo>
                <a:lnTo>
                  <a:pt x="67" y="9"/>
                </a:lnTo>
                <a:lnTo>
                  <a:pt x="87" y="2"/>
                </a:lnTo>
                <a:lnTo>
                  <a:pt x="98" y="0"/>
                </a:lnTo>
                <a:lnTo>
                  <a:pt x="109" y="0"/>
                </a:lnTo>
                <a:lnTo>
                  <a:pt x="5267" y="0"/>
                </a:lnTo>
                <a:lnTo>
                  <a:pt x="5267" y="0"/>
                </a:lnTo>
                <a:lnTo>
                  <a:pt x="5278" y="0"/>
                </a:lnTo>
                <a:lnTo>
                  <a:pt x="5289" y="2"/>
                </a:lnTo>
                <a:lnTo>
                  <a:pt x="5309" y="9"/>
                </a:lnTo>
                <a:lnTo>
                  <a:pt x="5327" y="18"/>
                </a:lnTo>
                <a:lnTo>
                  <a:pt x="5344" y="32"/>
                </a:lnTo>
                <a:lnTo>
                  <a:pt x="5356" y="48"/>
                </a:lnTo>
                <a:lnTo>
                  <a:pt x="5367" y="65"/>
                </a:lnTo>
                <a:lnTo>
                  <a:pt x="5373" y="85"/>
                </a:lnTo>
                <a:lnTo>
                  <a:pt x="5375" y="96"/>
                </a:lnTo>
                <a:lnTo>
                  <a:pt x="5376" y="106"/>
                </a:lnTo>
                <a:lnTo>
                  <a:pt x="5376" y="34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Freeform 10"/>
          <p:cNvSpPr/>
          <p:nvPr/>
        </p:nvSpPr>
        <p:spPr>
          <a:xfrm>
            <a:off x="0" y="458640"/>
            <a:ext cx="9144000" cy="1592280"/>
          </a:xfrm>
          <a:custGeom>
            <a:avLst/>
            <a:gdLst/>
            <a:ahLst/>
            <a:rect l="l" t="t" r="r" b="b"/>
            <a:pathLst>
              <a:path w="5760" h="1003">
                <a:moveTo>
                  <a:pt x="0" y="0"/>
                </a:moveTo>
                <a:lnTo>
                  <a:pt x="0" y="865"/>
                </a:lnTo>
                <a:lnTo>
                  <a:pt x="0" y="865"/>
                </a:lnTo>
                <a:lnTo>
                  <a:pt x="13" y="857"/>
                </a:lnTo>
                <a:lnTo>
                  <a:pt x="51" y="840"/>
                </a:lnTo>
                <a:lnTo>
                  <a:pt x="76" y="829"/>
                </a:lnTo>
                <a:lnTo>
                  <a:pt x="107" y="818"/>
                </a:lnTo>
                <a:lnTo>
                  <a:pt x="142" y="808"/>
                </a:lnTo>
                <a:lnTo>
                  <a:pt x="178" y="799"/>
                </a:lnTo>
                <a:lnTo>
                  <a:pt x="220" y="792"/>
                </a:lnTo>
                <a:lnTo>
                  <a:pt x="264" y="788"/>
                </a:lnTo>
                <a:lnTo>
                  <a:pt x="307" y="788"/>
                </a:lnTo>
                <a:lnTo>
                  <a:pt x="331" y="788"/>
                </a:lnTo>
                <a:lnTo>
                  <a:pt x="354" y="792"/>
                </a:lnTo>
                <a:lnTo>
                  <a:pt x="378" y="795"/>
                </a:lnTo>
                <a:lnTo>
                  <a:pt x="402" y="801"/>
                </a:lnTo>
                <a:lnTo>
                  <a:pt x="425" y="806"/>
                </a:lnTo>
                <a:lnTo>
                  <a:pt x="449" y="815"/>
                </a:lnTo>
                <a:lnTo>
                  <a:pt x="473" y="826"/>
                </a:lnTo>
                <a:lnTo>
                  <a:pt x="496" y="836"/>
                </a:lnTo>
                <a:lnTo>
                  <a:pt x="518" y="850"/>
                </a:lnTo>
                <a:lnTo>
                  <a:pt x="542" y="865"/>
                </a:lnTo>
                <a:lnTo>
                  <a:pt x="542" y="865"/>
                </a:lnTo>
                <a:lnTo>
                  <a:pt x="556" y="873"/>
                </a:lnTo>
                <a:lnTo>
                  <a:pt x="576" y="886"/>
                </a:lnTo>
                <a:lnTo>
                  <a:pt x="603" y="900"/>
                </a:lnTo>
                <a:lnTo>
                  <a:pt x="638" y="916"/>
                </a:lnTo>
                <a:lnTo>
                  <a:pt x="676" y="932"/>
                </a:lnTo>
                <a:lnTo>
                  <a:pt x="720" y="950"/>
                </a:lnTo>
                <a:lnTo>
                  <a:pt x="769" y="964"/>
                </a:lnTo>
                <a:lnTo>
                  <a:pt x="822" y="978"/>
                </a:lnTo>
                <a:lnTo>
                  <a:pt x="876" y="990"/>
                </a:lnTo>
                <a:lnTo>
                  <a:pt x="936" y="997"/>
                </a:lnTo>
                <a:lnTo>
                  <a:pt x="965" y="1001"/>
                </a:lnTo>
                <a:lnTo>
                  <a:pt x="996" y="1003"/>
                </a:lnTo>
                <a:lnTo>
                  <a:pt x="1027" y="1003"/>
                </a:lnTo>
                <a:lnTo>
                  <a:pt x="1058" y="1001"/>
                </a:lnTo>
                <a:lnTo>
                  <a:pt x="1091" y="999"/>
                </a:lnTo>
                <a:lnTo>
                  <a:pt x="1121" y="996"/>
                </a:lnTo>
                <a:lnTo>
                  <a:pt x="1154" y="990"/>
                </a:lnTo>
                <a:lnTo>
                  <a:pt x="1187" y="983"/>
                </a:lnTo>
                <a:lnTo>
                  <a:pt x="1220" y="974"/>
                </a:lnTo>
                <a:lnTo>
                  <a:pt x="1251" y="962"/>
                </a:lnTo>
                <a:lnTo>
                  <a:pt x="1283" y="950"/>
                </a:lnTo>
                <a:lnTo>
                  <a:pt x="1316" y="935"/>
                </a:lnTo>
                <a:lnTo>
                  <a:pt x="1316" y="935"/>
                </a:lnTo>
                <a:lnTo>
                  <a:pt x="1336" y="925"/>
                </a:lnTo>
                <a:lnTo>
                  <a:pt x="1369" y="912"/>
                </a:lnTo>
                <a:lnTo>
                  <a:pt x="1409" y="898"/>
                </a:lnTo>
                <a:lnTo>
                  <a:pt x="1458" y="884"/>
                </a:lnTo>
                <a:lnTo>
                  <a:pt x="1514" y="868"/>
                </a:lnTo>
                <a:lnTo>
                  <a:pt x="1574" y="852"/>
                </a:lnTo>
                <a:lnTo>
                  <a:pt x="1639" y="836"/>
                </a:lnTo>
                <a:lnTo>
                  <a:pt x="1707" y="822"/>
                </a:lnTo>
                <a:lnTo>
                  <a:pt x="1776" y="811"/>
                </a:lnTo>
                <a:lnTo>
                  <a:pt x="1845" y="803"/>
                </a:lnTo>
                <a:lnTo>
                  <a:pt x="1914" y="797"/>
                </a:lnTo>
                <a:lnTo>
                  <a:pt x="1947" y="797"/>
                </a:lnTo>
                <a:lnTo>
                  <a:pt x="1979" y="797"/>
                </a:lnTo>
                <a:lnTo>
                  <a:pt x="2012" y="799"/>
                </a:lnTo>
                <a:lnTo>
                  <a:pt x="2043" y="803"/>
                </a:lnTo>
                <a:lnTo>
                  <a:pt x="2072" y="806"/>
                </a:lnTo>
                <a:lnTo>
                  <a:pt x="2099" y="811"/>
                </a:lnTo>
                <a:lnTo>
                  <a:pt x="2127" y="818"/>
                </a:lnTo>
                <a:lnTo>
                  <a:pt x="2150" y="829"/>
                </a:lnTo>
                <a:lnTo>
                  <a:pt x="2174" y="840"/>
                </a:lnTo>
                <a:lnTo>
                  <a:pt x="2196" y="852"/>
                </a:lnTo>
                <a:lnTo>
                  <a:pt x="2196" y="852"/>
                </a:lnTo>
                <a:lnTo>
                  <a:pt x="2223" y="872"/>
                </a:lnTo>
                <a:lnTo>
                  <a:pt x="2243" y="882"/>
                </a:lnTo>
                <a:lnTo>
                  <a:pt x="2268" y="896"/>
                </a:lnTo>
                <a:lnTo>
                  <a:pt x="2297" y="911"/>
                </a:lnTo>
                <a:lnTo>
                  <a:pt x="2330" y="923"/>
                </a:lnTo>
                <a:lnTo>
                  <a:pt x="2368" y="937"/>
                </a:lnTo>
                <a:lnTo>
                  <a:pt x="2412" y="948"/>
                </a:lnTo>
                <a:lnTo>
                  <a:pt x="2459" y="957"/>
                </a:lnTo>
                <a:lnTo>
                  <a:pt x="2512" y="964"/>
                </a:lnTo>
                <a:lnTo>
                  <a:pt x="2570" y="967"/>
                </a:lnTo>
                <a:lnTo>
                  <a:pt x="2636" y="967"/>
                </a:lnTo>
                <a:lnTo>
                  <a:pt x="2668" y="966"/>
                </a:lnTo>
                <a:lnTo>
                  <a:pt x="2705" y="962"/>
                </a:lnTo>
                <a:lnTo>
                  <a:pt x="2741" y="958"/>
                </a:lnTo>
                <a:lnTo>
                  <a:pt x="2779" y="953"/>
                </a:lnTo>
                <a:lnTo>
                  <a:pt x="2819" y="946"/>
                </a:lnTo>
                <a:lnTo>
                  <a:pt x="2861" y="937"/>
                </a:lnTo>
                <a:lnTo>
                  <a:pt x="2905" y="928"/>
                </a:lnTo>
                <a:lnTo>
                  <a:pt x="2948" y="916"/>
                </a:lnTo>
                <a:lnTo>
                  <a:pt x="2948" y="916"/>
                </a:lnTo>
                <a:lnTo>
                  <a:pt x="3010" y="896"/>
                </a:lnTo>
                <a:lnTo>
                  <a:pt x="3090" y="870"/>
                </a:lnTo>
                <a:lnTo>
                  <a:pt x="3137" y="854"/>
                </a:lnTo>
                <a:lnTo>
                  <a:pt x="3186" y="840"/>
                </a:lnTo>
                <a:lnTo>
                  <a:pt x="3239" y="826"/>
                </a:lnTo>
                <a:lnTo>
                  <a:pt x="3294" y="813"/>
                </a:lnTo>
                <a:lnTo>
                  <a:pt x="3350" y="803"/>
                </a:lnTo>
                <a:lnTo>
                  <a:pt x="3406" y="795"/>
                </a:lnTo>
                <a:lnTo>
                  <a:pt x="3464" y="792"/>
                </a:lnTo>
                <a:lnTo>
                  <a:pt x="3493" y="792"/>
                </a:lnTo>
                <a:lnTo>
                  <a:pt x="3523" y="792"/>
                </a:lnTo>
                <a:lnTo>
                  <a:pt x="3550" y="794"/>
                </a:lnTo>
                <a:lnTo>
                  <a:pt x="3579" y="797"/>
                </a:lnTo>
                <a:lnTo>
                  <a:pt x="3606" y="803"/>
                </a:lnTo>
                <a:lnTo>
                  <a:pt x="3633" y="808"/>
                </a:lnTo>
                <a:lnTo>
                  <a:pt x="3661" y="815"/>
                </a:lnTo>
                <a:lnTo>
                  <a:pt x="3686" y="826"/>
                </a:lnTo>
                <a:lnTo>
                  <a:pt x="3713" y="836"/>
                </a:lnTo>
                <a:lnTo>
                  <a:pt x="3737" y="849"/>
                </a:lnTo>
                <a:lnTo>
                  <a:pt x="3737" y="849"/>
                </a:lnTo>
                <a:lnTo>
                  <a:pt x="3761" y="861"/>
                </a:lnTo>
                <a:lnTo>
                  <a:pt x="3793" y="873"/>
                </a:lnTo>
                <a:lnTo>
                  <a:pt x="3835" y="888"/>
                </a:lnTo>
                <a:lnTo>
                  <a:pt x="3882" y="904"/>
                </a:lnTo>
                <a:lnTo>
                  <a:pt x="3937" y="918"/>
                </a:lnTo>
                <a:lnTo>
                  <a:pt x="3995" y="932"/>
                </a:lnTo>
                <a:lnTo>
                  <a:pt x="4059" y="944"/>
                </a:lnTo>
                <a:lnTo>
                  <a:pt x="4124" y="957"/>
                </a:lnTo>
                <a:lnTo>
                  <a:pt x="4191" y="966"/>
                </a:lnTo>
                <a:lnTo>
                  <a:pt x="4260" y="971"/>
                </a:lnTo>
                <a:lnTo>
                  <a:pt x="4330" y="974"/>
                </a:lnTo>
                <a:lnTo>
                  <a:pt x="4364" y="974"/>
                </a:lnTo>
                <a:lnTo>
                  <a:pt x="4397" y="973"/>
                </a:lnTo>
                <a:lnTo>
                  <a:pt x="4430" y="971"/>
                </a:lnTo>
                <a:lnTo>
                  <a:pt x="4462" y="967"/>
                </a:lnTo>
                <a:lnTo>
                  <a:pt x="4493" y="964"/>
                </a:lnTo>
                <a:lnTo>
                  <a:pt x="4524" y="957"/>
                </a:lnTo>
                <a:lnTo>
                  <a:pt x="4553" y="950"/>
                </a:lnTo>
                <a:lnTo>
                  <a:pt x="4580" y="941"/>
                </a:lnTo>
                <a:lnTo>
                  <a:pt x="4608" y="930"/>
                </a:lnTo>
                <a:lnTo>
                  <a:pt x="4633" y="919"/>
                </a:lnTo>
                <a:lnTo>
                  <a:pt x="4633" y="919"/>
                </a:lnTo>
                <a:lnTo>
                  <a:pt x="4660" y="907"/>
                </a:lnTo>
                <a:lnTo>
                  <a:pt x="4693" y="895"/>
                </a:lnTo>
                <a:lnTo>
                  <a:pt x="4733" y="880"/>
                </a:lnTo>
                <a:lnTo>
                  <a:pt x="4777" y="868"/>
                </a:lnTo>
                <a:lnTo>
                  <a:pt x="4826" y="854"/>
                </a:lnTo>
                <a:lnTo>
                  <a:pt x="4878" y="842"/>
                </a:lnTo>
                <a:lnTo>
                  <a:pt x="4935" y="831"/>
                </a:lnTo>
                <a:lnTo>
                  <a:pt x="4991" y="822"/>
                </a:lnTo>
                <a:lnTo>
                  <a:pt x="5049" y="813"/>
                </a:lnTo>
                <a:lnTo>
                  <a:pt x="5106" y="808"/>
                </a:lnTo>
                <a:lnTo>
                  <a:pt x="5162" y="804"/>
                </a:lnTo>
                <a:lnTo>
                  <a:pt x="5217" y="804"/>
                </a:lnTo>
                <a:lnTo>
                  <a:pt x="5269" y="808"/>
                </a:lnTo>
                <a:lnTo>
                  <a:pt x="5293" y="810"/>
                </a:lnTo>
                <a:lnTo>
                  <a:pt x="5317" y="815"/>
                </a:lnTo>
                <a:lnTo>
                  <a:pt x="5340" y="818"/>
                </a:lnTo>
                <a:lnTo>
                  <a:pt x="5360" y="826"/>
                </a:lnTo>
                <a:lnTo>
                  <a:pt x="5380" y="833"/>
                </a:lnTo>
                <a:lnTo>
                  <a:pt x="5398" y="840"/>
                </a:lnTo>
                <a:lnTo>
                  <a:pt x="5398" y="840"/>
                </a:lnTo>
                <a:lnTo>
                  <a:pt x="5416" y="849"/>
                </a:lnTo>
                <a:lnTo>
                  <a:pt x="5436" y="857"/>
                </a:lnTo>
                <a:lnTo>
                  <a:pt x="5476" y="870"/>
                </a:lnTo>
                <a:lnTo>
                  <a:pt x="5520" y="880"/>
                </a:lnTo>
                <a:lnTo>
                  <a:pt x="5566" y="889"/>
                </a:lnTo>
                <a:lnTo>
                  <a:pt x="5615" y="895"/>
                </a:lnTo>
                <a:lnTo>
                  <a:pt x="5662" y="900"/>
                </a:lnTo>
                <a:lnTo>
                  <a:pt x="5711" y="902"/>
                </a:lnTo>
                <a:lnTo>
                  <a:pt x="5760" y="902"/>
                </a:lnTo>
                <a:lnTo>
                  <a:pt x="5760" y="0"/>
                </a:lnTo>
                <a:lnTo>
                  <a:pt x="0" y="0"/>
                </a:lnTo>
                <a:close/>
              </a:path>
            </a:pathLst>
          </a:custGeom>
          <a:solidFill>
            <a:srgbClr val="ad7b51"/>
          </a:solidFill>
          <a:ln w="0">
            <a:noFill/>
          </a:ln>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204" name="Freeform 11"/>
          <p:cNvSpPr/>
          <p:nvPr/>
        </p:nvSpPr>
        <p:spPr>
          <a:xfrm>
            <a:off x="3240" y="0"/>
            <a:ext cx="9140760" cy="1422360"/>
          </a:xfrm>
          <a:custGeom>
            <a:avLst/>
            <a:gdLst/>
            <a:ahLst/>
            <a:rect l="l" t="t" r="r" b="b"/>
            <a:pathLst>
              <a:path w="5758" h="896">
                <a:moveTo>
                  <a:pt x="0" y="0"/>
                </a:moveTo>
                <a:lnTo>
                  <a:pt x="0" y="758"/>
                </a:lnTo>
                <a:lnTo>
                  <a:pt x="0" y="758"/>
                </a:lnTo>
                <a:lnTo>
                  <a:pt x="25" y="763"/>
                </a:lnTo>
                <a:lnTo>
                  <a:pt x="93" y="772"/>
                </a:lnTo>
                <a:lnTo>
                  <a:pt x="194" y="783"/>
                </a:lnTo>
                <a:lnTo>
                  <a:pt x="256" y="788"/>
                </a:lnTo>
                <a:lnTo>
                  <a:pt x="320" y="792"/>
                </a:lnTo>
                <a:lnTo>
                  <a:pt x="389" y="795"/>
                </a:lnTo>
                <a:lnTo>
                  <a:pt x="458" y="795"/>
                </a:lnTo>
                <a:lnTo>
                  <a:pt x="529" y="793"/>
                </a:lnTo>
                <a:lnTo>
                  <a:pt x="598" y="790"/>
                </a:lnTo>
                <a:lnTo>
                  <a:pt x="667" y="781"/>
                </a:lnTo>
                <a:lnTo>
                  <a:pt x="700" y="776"/>
                </a:lnTo>
                <a:lnTo>
                  <a:pt x="730" y="770"/>
                </a:lnTo>
                <a:lnTo>
                  <a:pt x="761" y="763"/>
                </a:lnTo>
                <a:lnTo>
                  <a:pt x="790" y="754"/>
                </a:lnTo>
                <a:lnTo>
                  <a:pt x="820" y="746"/>
                </a:lnTo>
                <a:lnTo>
                  <a:pt x="845" y="733"/>
                </a:lnTo>
                <a:lnTo>
                  <a:pt x="845" y="733"/>
                </a:lnTo>
                <a:lnTo>
                  <a:pt x="867" y="726"/>
                </a:lnTo>
                <a:lnTo>
                  <a:pt x="889" y="719"/>
                </a:lnTo>
                <a:lnTo>
                  <a:pt x="912" y="712"/>
                </a:lnTo>
                <a:lnTo>
                  <a:pt x="938" y="708"/>
                </a:lnTo>
                <a:lnTo>
                  <a:pt x="963" y="705"/>
                </a:lnTo>
                <a:lnTo>
                  <a:pt x="990" y="701"/>
                </a:lnTo>
                <a:lnTo>
                  <a:pt x="1049" y="698"/>
                </a:lnTo>
                <a:lnTo>
                  <a:pt x="1110" y="698"/>
                </a:lnTo>
                <a:lnTo>
                  <a:pt x="1174" y="701"/>
                </a:lnTo>
                <a:lnTo>
                  <a:pt x="1239" y="707"/>
                </a:lnTo>
                <a:lnTo>
                  <a:pt x="1305" y="715"/>
                </a:lnTo>
                <a:lnTo>
                  <a:pt x="1368" y="724"/>
                </a:lnTo>
                <a:lnTo>
                  <a:pt x="1430" y="735"/>
                </a:lnTo>
                <a:lnTo>
                  <a:pt x="1490" y="747"/>
                </a:lnTo>
                <a:lnTo>
                  <a:pt x="1545" y="761"/>
                </a:lnTo>
                <a:lnTo>
                  <a:pt x="1596" y="774"/>
                </a:lnTo>
                <a:lnTo>
                  <a:pt x="1639" y="788"/>
                </a:lnTo>
                <a:lnTo>
                  <a:pt x="1677" y="800"/>
                </a:lnTo>
                <a:lnTo>
                  <a:pt x="1707" y="813"/>
                </a:lnTo>
                <a:lnTo>
                  <a:pt x="1707" y="813"/>
                </a:lnTo>
                <a:lnTo>
                  <a:pt x="1736" y="825"/>
                </a:lnTo>
                <a:lnTo>
                  <a:pt x="1765" y="834"/>
                </a:lnTo>
                <a:lnTo>
                  <a:pt x="1797" y="843"/>
                </a:lnTo>
                <a:lnTo>
                  <a:pt x="1830" y="850"/>
                </a:lnTo>
                <a:lnTo>
                  <a:pt x="1865" y="857"/>
                </a:lnTo>
                <a:lnTo>
                  <a:pt x="1899" y="861"/>
                </a:lnTo>
                <a:lnTo>
                  <a:pt x="1936" y="864"/>
                </a:lnTo>
                <a:lnTo>
                  <a:pt x="1974" y="868"/>
                </a:lnTo>
                <a:lnTo>
                  <a:pt x="2010" y="868"/>
                </a:lnTo>
                <a:lnTo>
                  <a:pt x="2048" y="868"/>
                </a:lnTo>
                <a:lnTo>
                  <a:pt x="2126" y="864"/>
                </a:lnTo>
                <a:lnTo>
                  <a:pt x="2203" y="859"/>
                </a:lnTo>
                <a:lnTo>
                  <a:pt x="2279" y="850"/>
                </a:lnTo>
                <a:lnTo>
                  <a:pt x="2354" y="838"/>
                </a:lnTo>
                <a:lnTo>
                  <a:pt x="2425" y="825"/>
                </a:lnTo>
                <a:lnTo>
                  <a:pt x="2490" y="811"/>
                </a:lnTo>
                <a:lnTo>
                  <a:pt x="2552" y="797"/>
                </a:lnTo>
                <a:lnTo>
                  <a:pt x="2606" y="781"/>
                </a:lnTo>
                <a:lnTo>
                  <a:pt x="2652" y="767"/>
                </a:lnTo>
                <a:lnTo>
                  <a:pt x="2688" y="754"/>
                </a:lnTo>
                <a:lnTo>
                  <a:pt x="2715" y="742"/>
                </a:lnTo>
                <a:lnTo>
                  <a:pt x="2715" y="742"/>
                </a:lnTo>
                <a:lnTo>
                  <a:pt x="2743" y="730"/>
                </a:lnTo>
                <a:lnTo>
                  <a:pt x="2772" y="719"/>
                </a:lnTo>
                <a:lnTo>
                  <a:pt x="2803" y="708"/>
                </a:lnTo>
                <a:lnTo>
                  <a:pt x="2832" y="701"/>
                </a:lnTo>
                <a:lnTo>
                  <a:pt x="2863" y="696"/>
                </a:lnTo>
                <a:lnTo>
                  <a:pt x="2893" y="691"/>
                </a:lnTo>
                <a:lnTo>
                  <a:pt x="2926" y="687"/>
                </a:lnTo>
                <a:lnTo>
                  <a:pt x="2957" y="685"/>
                </a:lnTo>
                <a:lnTo>
                  <a:pt x="2990" y="685"/>
                </a:lnTo>
                <a:lnTo>
                  <a:pt x="3022" y="685"/>
                </a:lnTo>
                <a:lnTo>
                  <a:pt x="3088" y="689"/>
                </a:lnTo>
                <a:lnTo>
                  <a:pt x="3152" y="696"/>
                </a:lnTo>
                <a:lnTo>
                  <a:pt x="3215" y="707"/>
                </a:lnTo>
                <a:lnTo>
                  <a:pt x="3277" y="719"/>
                </a:lnTo>
                <a:lnTo>
                  <a:pt x="3335" y="733"/>
                </a:lnTo>
                <a:lnTo>
                  <a:pt x="3391" y="747"/>
                </a:lnTo>
                <a:lnTo>
                  <a:pt x="3444" y="763"/>
                </a:lnTo>
                <a:lnTo>
                  <a:pt x="3535" y="790"/>
                </a:lnTo>
                <a:lnTo>
                  <a:pt x="3602" y="809"/>
                </a:lnTo>
                <a:lnTo>
                  <a:pt x="3602" y="809"/>
                </a:lnTo>
                <a:lnTo>
                  <a:pt x="3653" y="822"/>
                </a:lnTo>
                <a:lnTo>
                  <a:pt x="3702" y="831"/>
                </a:lnTo>
                <a:lnTo>
                  <a:pt x="3748" y="839"/>
                </a:lnTo>
                <a:lnTo>
                  <a:pt x="3793" y="847"/>
                </a:lnTo>
                <a:lnTo>
                  <a:pt x="3837" y="852"/>
                </a:lnTo>
                <a:lnTo>
                  <a:pt x="3879" y="855"/>
                </a:lnTo>
                <a:lnTo>
                  <a:pt x="3919" y="859"/>
                </a:lnTo>
                <a:lnTo>
                  <a:pt x="3957" y="861"/>
                </a:lnTo>
                <a:lnTo>
                  <a:pt x="4028" y="861"/>
                </a:lnTo>
                <a:lnTo>
                  <a:pt x="4093" y="857"/>
                </a:lnTo>
                <a:lnTo>
                  <a:pt x="4153" y="850"/>
                </a:lnTo>
                <a:lnTo>
                  <a:pt x="4208" y="841"/>
                </a:lnTo>
                <a:lnTo>
                  <a:pt x="4257" y="831"/>
                </a:lnTo>
                <a:lnTo>
                  <a:pt x="4298" y="816"/>
                </a:lnTo>
                <a:lnTo>
                  <a:pt x="4337" y="804"/>
                </a:lnTo>
                <a:lnTo>
                  <a:pt x="4369" y="790"/>
                </a:lnTo>
                <a:lnTo>
                  <a:pt x="4397" y="776"/>
                </a:lnTo>
                <a:lnTo>
                  <a:pt x="4420" y="765"/>
                </a:lnTo>
                <a:lnTo>
                  <a:pt x="4451" y="746"/>
                </a:lnTo>
                <a:lnTo>
                  <a:pt x="4451" y="746"/>
                </a:lnTo>
                <a:lnTo>
                  <a:pt x="4475" y="733"/>
                </a:lnTo>
                <a:lnTo>
                  <a:pt x="4500" y="723"/>
                </a:lnTo>
                <a:lnTo>
                  <a:pt x="4529" y="712"/>
                </a:lnTo>
                <a:lnTo>
                  <a:pt x="4558" y="705"/>
                </a:lnTo>
                <a:lnTo>
                  <a:pt x="4589" y="699"/>
                </a:lnTo>
                <a:lnTo>
                  <a:pt x="4624" y="696"/>
                </a:lnTo>
                <a:lnTo>
                  <a:pt x="4658" y="692"/>
                </a:lnTo>
                <a:lnTo>
                  <a:pt x="4693" y="691"/>
                </a:lnTo>
                <a:lnTo>
                  <a:pt x="4729" y="691"/>
                </a:lnTo>
                <a:lnTo>
                  <a:pt x="4767" y="692"/>
                </a:lnTo>
                <a:lnTo>
                  <a:pt x="4844" y="696"/>
                </a:lnTo>
                <a:lnTo>
                  <a:pt x="4922" y="705"/>
                </a:lnTo>
                <a:lnTo>
                  <a:pt x="5000" y="715"/>
                </a:lnTo>
                <a:lnTo>
                  <a:pt x="5076" y="730"/>
                </a:lnTo>
                <a:lnTo>
                  <a:pt x="5149" y="746"/>
                </a:lnTo>
                <a:lnTo>
                  <a:pt x="5218" y="761"/>
                </a:lnTo>
                <a:lnTo>
                  <a:pt x="5280" y="777"/>
                </a:lnTo>
                <a:lnTo>
                  <a:pt x="5334" y="792"/>
                </a:lnTo>
                <a:lnTo>
                  <a:pt x="5382" y="806"/>
                </a:lnTo>
                <a:lnTo>
                  <a:pt x="5416" y="818"/>
                </a:lnTo>
                <a:lnTo>
                  <a:pt x="5442" y="829"/>
                </a:lnTo>
                <a:lnTo>
                  <a:pt x="5442" y="829"/>
                </a:lnTo>
                <a:lnTo>
                  <a:pt x="5480" y="845"/>
                </a:lnTo>
                <a:lnTo>
                  <a:pt x="5520" y="859"/>
                </a:lnTo>
                <a:lnTo>
                  <a:pt x="5560" y="870"/>
                </a:lnTo>
                <a:lnTo>
                  <a:pt x="5600" y="878"/>
                </a:lnTo>
                <a:lnTo>
                  <a:pt x="5640" y="886"/>
                </a:lnTo>
                <a:lnTo>
                  <a:pt x="5680" y="891"/>
                </a:lnTo>
                <a:lnTo>
                  <a:pt x="5720" y="894"/>
                </a:lnTo>
                <a:lnTo>
                  <a:pt x="5758" y="896"/>
                </a:lnTo>
                <a:lnTo>
                  <a:pt x="5758" y="0"/>
                </a:lnTo>
                <a:lnTo>
                  <a:pt x="0" y="0"/>
                </a:lnTo>
                <a:close/>
              </a:path>
            </a:pathLst>
          </a:custGeom>
          <a:solidFill>
            <a:srgbClr val="543b27"/>
          </a:solidFill>
          <a:ln w="0">
            <a:noFill/>
          </a:ln>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205" name="Text Box 12"/>
          <p:cNvSpPr/>
          <p:nvPr/>
        </p:nvSpPr>
        <p:spPr>
          <a:xfrm rot="16200000">
            <a:off x="-810000" y="5823720"/>
            <a:ext cx="1838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96c18"/>
                </a:solidFill>
                <a:latin typeface="Arial"/>
                <a:ea typeface="Arial"/>
              </a:rPr>
              <a:t>Copyright © 2012 Cengage Learning</a:t>
            </a:r>
            <a:endParaRPr b="0" lang="en-US" sz="800" spc="-1" strike="noStrike">
              <a:solidFill>
                <a:srgbClr val="672f70"/>
              </a:solidFill>
              <a:latin typeface="Arial"/>
            </a:endParaRPr>
          </a:p>
        </p:txBody>
      </p:sp>
      <p:sp>
        <p:nvSpPr>
          <p:cNvPr id="206" name="Freeform 12"/>
          <p:cNvSpPr/>
          <p:nvPr/>
        </p:nvSpPr>
        <p:spPr>
          <a:xfrm>
            <a:off x="378000" y="1052640"/>
            <a:ext cx="8534160" cy="5043240"/>
          </a:xfrm>
          <a:custGeom>
            <a:avLst/>
            <a:gdLst/>
            <a:ahLst/>
            <a:rect l="l" t="t" r="r" b="b"/>
            <a:pathLst>
              <a:path w="5376" h="3530">
                <a:moveTo>
                  <a:pt x="5376" y="3423"/>
                </a:moveTo>
                <a:lnTo>
                  <a:pt x="5376" y="3423"/>
                </a:lnTo>
                <a:lnTo>
                  <a:pt x="5375" y="3434"/>
                </a:lnTo>
                <a:lnTo>
                  <a:pt x="5373" y="3445"/>
                </a:lnTo>
                <a:lnTo>
                  <a:pt x="5367" y="3464"/>
                </a:lnTo>
                <a:lnTo>
                  <a:pt x="5356" y="3482"/>
                </a:lnTo>
                <a:lnTo>
                  <a:pt x="5344" y="3498"/>
                </a:lnTo>
                <a:lnTo>
                  <a:pt x="5327" y="3512"/>
                </a:lnTo>
                <a:lnTo>
                  <a:pt x="5309" y="3521"/>
                </a:lnTo>
                <a:lnTo>
                  <a:pt x="5289" y="3528"/>
                </a:lnTo>
                <a:lnTo>
                  <a:pt x="5278" y="3530"/>
                </a:lnTo>
                <a:lnTo>
                  <a:pt x="5267" y="3530"/>
                </a:lnTo>
                <a:lnTo>
                  <a:pt x="109" y="3530"/>
                </a:lnTo>
                <a:lnTo>
                  <a:pt x="109" y="3530"/>
                </a:lnTo>
                <a:lnTo>
                  <a:pt x="98" y="3530"/>
                </a:lnTo>
                <a:lnTo>
                  <a:pt x="87" y="3528"/>
                </a:lnTo>
                <a:lnTo>
                  <a:pt x="67" y="3521"/>
                </a:lnTo>
                <a:lnTo>
                  <a:pt x="49" y="3512"/>
                </a:lnTo>
                <a:lnTo>
                  <a:pt x="33" y="3498"/>
                </a:lnTo>
                <a:lnTo>
                  <a:pt x="20" y="3482"/>
                </a:lnTo>
                <a:lnTo>
                  <a:pt x="9" y="3464"/>
                </a:lnTo>
                <a:lnTo>
                  <a:pt x="3" y="3445"/>
                </a:lnTo>
                <a:lnTo>
                  <a:pt x="2" y="3434"/>
                </a:lnTo>
                <a:lnTo>
                  <a:pt x="0" y="3423"/>
                </a:lnTo>
                <a:lnTo>
                  <a:pt x="0" y="106"/>
                </a:lnTo>
                <a:lnTo>
                  <a:pt x="0" y="106"/>
                </a:lnTo>
                <a:lnTo>
                  <a:pt x="2" y="96"/>
                </a:lnTo>
                <a:lnTo>
                  <a:pt x="3" y="85"/>
                </a:lnTo>
                <a:lnTo>
                  <a:pt x="9" y="65"/>
                </a:lnTo>
                <a:lnTo>
                  <a:pt x="20" y="48"/>
                </a:lnTo>
                <a:lnTo>
                  <a:pt x="33" y="32"/>
                </a:lnTo>
                <a:lnTo>
                  <a:pt x="49" y="18"/>
                </a:lnTo>
                <a:lnTo>
                  <a:pt x="67" y="9"/>
                </a:lnTo>
                <a:lnTo>
                  <a:pt x="87" y="2"/>
                </a:lnTo>
                <a:lnTo>
                  <a:pt x="98" y="0"/>
                </a:lnTo>
                <a:lnTo>
                  <a:pt x="109" y="0"/>
                </a:lnTo>
                <a:lnTo>
                  <a:pt x="5267" y="0"/>
                </a:lnTo>
                <a:lnTo>
                  <a:pt x="5267" y="0"/>
                </a:lnTo>
                <a:lnTo>
                  <a:pt x="5278" y="0"/>
                </a:lnTo>
                <a:lnTo>
                  <a:pt x="5289" y="2"/>
                </a:lnTo>
                <a:lnTo>
                  <a:pt x="5309" y="9"/>
                </a:lnTo>
                <a:lnTo>
                  <a:pt x="5327" y="18"/>
                </a:lnTo>
                <a:lnTo>
                  <a:pt x="5344" y="32"/>
                </a:lnTo>
                <a:lnTo>
                  <a:pt x="5356" y="48"/>
                </a:lnTo>
                <a:lnTo>
                  <a:pt x="5367" y="65"/>
                </a:lnTo>
                <a:lnTo>
                  <a:pt x="5373" y="85"/>
                </a:lnTo>
                <a:lnTo>
                  <a:pt x="5375" y="96"/>
                </a:lnTo>
                <a:lnTo>
                  <a:pt x="5376" y="106"/>
                </a:lnTo>
                <a:lnTo>
                  <a:pt x="5376" y="34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04920" y="-360"/>
            <a:ext cx="8534160" cy="587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title text format</a:t>
            </a:r>
            <a:endParaRPr b="0" lang="en-US" sz="3600" spc="-1" strike="noStrike">
              <a:solidFill>
                <a:srgbClr val="ffffff"/>
              </a:solidFill>
              <a:latin typeface="Tahoma"/>
            </a:endParaRPr>
          </a:p>
        </p:txBody>
      </p:sp>
      <p:sp>
        <p:nvSpPr>
          <p:cNvPr id="244" name="Text Box 12"/>
          <p:cNvSpPr/>
          <p:nvPr/>
        </p:nvSpPr>
        <p:spPr>
          <a:xfrm rot="16200000">
            <a:off x="-810000" y="5823720"/>
            <a:ext cx="1838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96c18"/>
                </a:solidFill>
                <a:latin typeface="Arial"/>
                <a:ea typeface="Arial"/>
              </a:rPr>
              <a:t>Copyright © 2012 Cengage Learning</a:t>
            </a:r>
            <a:endParaRPr b="0" lang="en-US" sz="800" spc="-1" strike="noStrike">
              <a:solidFill>
                <a:srgbClr val="672f70"/>
              </a:solidFill>
              <a:latin typeface="Arial"/>
            </a:endParaRPr>
          </a:p>
        </p:txBody>
      </p:sp>
      <p:sp>
        <p:nvSpPr>
          <p:cNvPr id="245" name="Rectangle 8"/>
          <p:cNvSpPr/>
          <p:nvPr/>
        </p:nvSpPr>
        <p:spPr>
          <a:xfrm>
            <a:off x="0" y="0"/>
            <a:ext cx="9144000" cy="666720"/>
          </a:xfrm>
          <a:prstGeom prst="rect">
            <a:avLst/>
          </a:prstGeom>
          <a:solidFill>
            <a:srgbClr val="543b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2f70"/>
              </a:solidFill>
              <a:latin typeface="Arial"/>
            </a:endParaRPr>
          </a:p>
        </p:txBody>
      </p:sp>
      <p:sp>
        <p:nvSpPr>
          <p:cNvPr id="246" name="Rectangle 9"/>
          <p:cNvSpPr/>
          <p:nvPr/>
        </p:nvSpPr>
        <p:spPr>
          <a:xfrm>
            <a:off x="0" y="304920"/>
            <a:ext cx="9144000" cy="365040"/>
          </a:xfrm>
          <a:prstGeom prst="rect">
            <a:avLst/>
          </a:prstGeom>
          <a:solidFill>
            <a:srgbClr val="ad7b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2f70"/>
              </a:solidFill>
              <a:latin typeface="Arial"/>
            </a:endParaRPr>
          </a:p>
        </p:txBody>
      </p:sp>
      <p:sp>
        <p:nvSpPr>
          <p:cNvPr id="247" name="PlaceHolder 2"/>
          <p:cNvSpPr>
            <a:spLocks noGrp="1"/>
          </p:cNvSpPr>
          <p:nvPr>
            <p:ph type="sldNum" idx="4"/>
          </p:nvPr>
        </p:nvSpPr>
        <p:spPr>
          <a:xfrm>
            <a:off x="7009920" y="64929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43b27"/>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3EABF-9B2D-47CA-B1E2-1E5AE403168F}" type="slidenum">
              <a:rPr b="0" lang="en-US" sz="1200" spc="-1" strike="noStrike">
                <a:solidFill>
                  <a:srgbClr val="543b27"/>
                </a:solidFill>
                <a:latin typeface="Arial"/>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3b27"/>
        </a:solidFill>
      </p:bgPr>
    </p:bg>
    <p:spTree>
      <p:nvGrpSpPr>
        <p:cNvPr id="1" name=""/>
        <p:cNvGrpSpPr/>
        <p:nvPr/>
      </p:nvGrpSpPr>
      <p:grpSpPr>
        <a:xfrm>
          <a:off x="0" y="0"/>
          <a:ext cx="0" cy="0"/>
          <a:chOff x="0" y="0"/>
          <a:chExt cx="0" cy="0"/>
        </a:xfrm>
      </p:grpSpPr>
      <p:sp>
        <p:nvSpPr>
          <p:cNvPr id="321" name="Text Box 12"/>
          <p:cNvSpPr/>
          <p:nvPr/>
        </p:nvSpPr>
        <p:spPr>
          <a:xfrm>
            <a:off x="6840" y="6643800"/>
            <a:ext cx="1838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96c18"/>
                </a:solidFill>
                <a:latin typeface="Arial"/>
              </a:rPr>
              <a:t>Copyright © 2012 Cengage Learning</a:t>
            </a:r>
            <a:endParaRPr b="0" lang="en-US" sz="800" spc="-1" strike="noStrike">
              <a:solidFill>
                <a:srgbClr val="672f70"/>
              </a:solidFill>
              <a:latin typeface="Arial"/>
            </a:endParaRPr>
          </a:p>
        </p:txBody>
      </p:sp>
      <p:sp>
        <p:nvSpPr>
          <p:cNvPr id="322" name="Rectangle 3"/>
          <p:cNvSpPr/>
          <p:nvPr/>
        </p:nvSpPr>
        <p:spPr>
          <a:xfrm>
            <a:off x="152280" y="228600"/>
            <a:ext cx="8839440" cy="6400800"/>
          </a:xfrm>
          <a:prstGeom prst="rect">
            <a:avLst/>
          </a:prstGeom>
          <a:noFill/>
          <a:ln w="25560">
            <a:solidFill>
              <a:srgbClr val="fdb91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2f70"/>
              </a:solidFill>
              <a:latin typeface="Arial"/>
            </a:endParaRPr>
          </a:p>
        </p:txBody>
      </p:sp>
      <p:sp>
        <p:nvSpPr>
          <p:cNvPr id="323" name="PlaceHolder 1"/>
          <p:cNvSpPr>
            <a:spLocks noGrp="1"/>
          </p:cNvSpPr>
          <p:nvPr>
            <p:ph type="title"/>
          </p:nvPr>
        </p:nvSpPr>
        <p:spPr>
          <a:xfrm>
            <a:off x="457200" y="242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89.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289.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8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8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8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8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8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8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8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8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89.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slideLayout" Target="../slideLayouts/slideLayout145.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30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45.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hyperlink" Target="http://www.bizcominthenews.com/bizcom_in_the_news/2011/04/companies-email-about-email.html" TargetMode="External"/><Relationship Id="rId4" Type="http://schemas.openxmlformats.org/officeDocument/2006/relationships/image" Target="../media/image26.png"/><Relationship Id="rId5" Type="http://schemas.openxmlformats.org/officeDocument/2006/relationships/hyperlink" Target="http://www.bizcominthenews.com/bizcom_in_the_news/2011/04/companies-email-about-email.html" TargetMode="External"/><Relationship Id="rId6" Type="http://schemas.openxmlformats.org/officeDocument/2006/relationships/slideLayout" Target="../slideLayouts/slideLayout349.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13.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2.png"/><Relationship Id="rId3" Type="http://schemas.openxmlformats.org/officeDocument/2006/relationships/slideLayout" Target="../slideLayouts/slideLayout25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25.xml"/>
</Relationships>
</file>

<file path=ppt/slides/_rels/slide3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241.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8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8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09.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09.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27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title"/>
          </p:nvPr>
        </p:nvSpPr>
        <p:spPr>
          <a:xfrm>
            <a:off x="152280" y="3352320"/>
            <a:ext cx="883944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913"/>
                </a:solidFill>
                <a:latin typeface="Calibri"/>
              </a:rPr>
              <a:t>Chapter 4</a:t>
            </a:r>
            <a:br>
              <a:rPr sz="4000"/>
            </a:br>
            <a:r>
              <a:rPr b="0" i="1" lang="en-US" sz="4000" spc="-1" strike="noStrike">
                <a:solidFill>
                  <a:srgbClr val="ffffff"/>
                </a:solidFill>
                <a:latin typeface="Calibri"/>
              </a:rPr>
              <a:t>The Writing Process</a:t>
            </a:r>
            <a:endParaRPr b="0" lang="en-US" sz="4000" spc="-1" strike="noStrike">
              <a:solidFill>
                <a:srgbClr val="672f70"/>
              </a:solidFill>
              <a:latin typeface="Calibri"/>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Rectangle 2"/>
          <p:cNvSpPr/>
          <p:nvPr/>
        </p:nvSpPr>
        <p:spPr>
          <a:xfrm rot="18858000">
            <a:off x="2917440" y="2313000"/>
            <a:ext cx="3200400" cy="3200400"/>
          </a:xfrm>
          <a:prstGeom prst="rect">
            <a:avLst/>
          </a:prstGeom>
          <a:solidFill>
            <a:srgbClr val="e1e7f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2f70"/>
              </a:solidFill>
              <a:latin typeface="Arial"/>
            </a:endParaRPr>
          </a:p>
        </p:txBody>
      </p:sp>
      <p:sp>
        <p:nvSpPr>
          <p:cNvPr id="1274" name="Title Placeholder 10"/>
          <p:cNvSpPr/>
          <p:nvPr/>
        </p:nvSpPr>
        <p:spPr>
          <a:xfrm>
            <a:off x="66600" y="228600"/>
            <a:ext cx="89917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he Writing Process</a:t>
            </a:r>
            <a:endParaRPr b="0" lang="en-US" sz="4400" spc="-1" strike="noStrike">
              <a:solidFill>
                <a:srgbClr val="672f70"/>
              </a:solidFill>
              <a:latin typeface="Arial"/>
            </a:endParaRPr>
          </a:p>
        </p:txBody>
      </p:sp>
      <p:pic>
        <p:nvPicPr>
          <p:cNvPr id="1275" name="Diagram 4" descr=""/>
          <p:cNvPicPr/>
          <p:nvPr/>
        </p:nvPicPr>
        <p:blipFill>
          <a:blip r:embed="rId1"/>
          <a:stretch/>
        </p:blipFill>
        <p:spPr>
          <a:xfrm>
            <a:off x="1468440" y="1773360"/>
            <a:ext cx="6121440" cy="406692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title"/>
          </p:nvPr>
        </p:nvSpPr>
        <p:spPr>
          <a:xfrm>
            <a:off x="228240" y="228240"/>
            <a:ext cx="8534520" cy="585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Identifying Specific Objectives</a:t>
            </a:r>
            <a:endParaRPr b="0" lang="en-US" sz="3600" spc="-1" strike="noStrike">
              <a:solidFill>
                <a:srgbClr val="ffffff"/>
              </a:solidFill>
              <a:latin typeface="Trebuchet MS"/>
            </a:endParaRPr>
          </a:p>
        </p:txBody>
      </p:sp>
      <p:graphicFrame>
        <p:nvGraphicFramePr>
          <p:cNvPr id="1277" name=""/>
          <p:cNvGraphicFramePr/>
          <p:nvPr/>
        </p:nvGraphicFramePr>
        <p:xfrm>
          <a:off x="522360" y="1262160"/>
          <a:ext cx="8215200" cy="4732200"/>
        </p:xfrm>
        <a:graphic>
          <a:graphicData uri="http://schemas.openxmlformats.org/drawingml/2006/table">
            <a:tbl>
              <a:tblPr/>
              <a:tblGrid>
                <a:gridCol w="3795480"/>
                <a:gridCol w="4419720"/>
              </a:tblGrid>
              <a:tr h="739800">
                <a:tc>
                  <a:txBody>
                    <a:bodyPr lIns="68760" rIns="68760" tIns="0" bIns="0" anchor="ctr">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Times New Roman"/>
                        </a:rPr>
                        <a:t>General-Purpose Statement </a:t>
                      </a:r>
                      <a:endParaRPr b="0" lang="en-US" sz="2400" spc="-1" strike="noStrike">
                        <a:solidFill>
                          <a:srgbClr val="672f70"/>
                        </a:solidFill>
                        <a:latin typeface="Arial"/>
                      </a:endParaRPr>
                    </a:p>
                  </a:txBody>
                  <a:tcPr anchor="ctr" marL="68760" marR="68760">
                    <a:lnL w="5760">
                      <a:solidFill>
                        <a:srgbClr val="2f5c9b"/>
                      </a:solidFill>
                    </a:lnL>
                    <a:lnR w="5760">
                      <a:solidFill>
                        <a:srgbClr val="2f5c9b"/>
                      </a:solidFill>
                    </a:lnR>
                    <a:lnT w="5760">
                      <a:solidFill>
                        <a:srgbClr val="2f5c9b"/>
                      </a:solidFill>
                    </a:lnT>
                    <a:lnB w="5760">
                      <a:solidFill>
                        <a:srgbClr val="2f5c9b"/>
                      </a:solidFill>
                    </a:lnB>
                    <a:solidFill>
                      <a:srgbClr val="2f5c9b"/>
                    </a:solidFill>
                  </a:tcPr>
                </a:tc>
                <a:tc>
                  <a:txBody>
                    <a:bodyPr lIns="68760" rIns="68760" tIns="0" bIns="0" anchor="ctr">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Times New Roman"/>
                        </a:rPr>
                        <a:t>Specific Communication Objective</a:t>
                      </a:r>
                      <a:endParaRPr b="0" lang="en-US" sz="2400" spc="-1" strike="noStrike">
                        <a:solidFill>
                          <a:srgbClr val="672f70"/>
                        </a:solidFill>
                        <a:latin typeface="Arial"/>
                      </a:endParaRPr>
                    </a:p>
                  </a:txBody>
                  <a:tcPr anchor="ctr" marL="68760" marR="68760">
                    <a:lnL w="5760">
                      <a:solidFill>
                        <a:srgbClr val="2f5c9b"/>
                      </a:solidFill>
                    </a:lnL>
                    <a:lnR w="5760">
                      <a:solidFill>
                        <a:srgbClr val="2f5c9b"/>
                      </a:solidFill>
                    </a:lnR>
                    <a:lnT w="5760">
                      <a:solidFill>
                        <a:srgbClr val="2f5c9b"/>
                      </a:solidFill>
                    </a:lnT>
                    <a:lnB w="5760">
                      <a:solidFill>
                        <a:srgbClr val="2f5c9b"/>
                      </a:solidFill>
                    </a:lnB>
                    <a:solidFill>
                      <a:srgbClr val="2f5c9b"/>
                    </a:solidFill>
                  </a:tcPr>
                </a:tc>
              </a:tr>
              <a:tr h="1587240">
                <a:tc>
                  <a:txBody>
                    <a:bodyPr lIns="68760" rIns="68760" tIns="0" bIns="0" anchor="ctr">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2f70"/>
                          </a:solidFill>
                          <a:latin typeface="Calibri"/>
                          <a:ea typeface="Times New Roman"/>
                        </a:rPr>
                        <a:t>To compliment the employee (after I observed a difficult customer interaction)</a:t>
                      </a:r>
                      <a:endParaRPr b="0" lang="en-US" sz="2000" spc="-1" strike="noStrike">
                        <a:solidFill>
                          <a:srgbClr val="672f70"/>
                        </a:solidFill>
                        <a:latin typeface="Arial"/>
                      </a:endParaRPr>
                    </a:p>
                  </a:txBody>
                  <a:tcPr anchor="ctr" marL="68760" marR="68760">
                    <a:lnL w="5760">
                      <a:solidFill>
                        <a:srgbClr val="2f5c9b"/>
                      </a:solidFill>
                    </a:lnL>
                    <a:lnR w="5760">
                      <a:solidFill>
                        <a:srgbClr val="2f5c9b"/>
                      </a:solidFill>
                    </a:lnR>
                    <a:lnT w="5760">
                      <a:solidFill>
                        <a:srgbClr val="2f5c9b"/>
                      </a:solidFill>
                    </a:lnT>
                    <a:lnB w="5760">
                      <a:solidFill>
                        <a:srgbClr val="2f5c9b"/>
                      </a:solidFill>
                    </a:lnB>
                    <a:noFill/>
                  </a:tcPr>
                </a:tc>
                <a:tc>
                  <a:txBody>
                    <a:bodyPr lIns="68760" rIns="68760" tIns="0" bIns="0" anchor="ctr">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2f70"/>
                          </a:solidFill>
                          <a:latin typeface="Calibri"/>
                          <a:ea typeface="Times New Roman"/>
                        </a:rPr>
                        <a:t>To have the employee feel good after the interaction with the customer and to understand that she handled the situation well</a:t>
                      </a:r>
                      <a:endParaRPr b="0" lang="en-US" sz="2000" spc="-1" strike="noStrike">
                        <a:solidFill>
                          <a:srgbClr val="672f70"/>
                        </a:solidFill>
                        <a:latin typeface="Arial"/>
                      </a:endParaRPr>
                    </a:p>
                  </a:txBody>
                  <a:tcPr anchor="ctr" marL="68760" marR="68760">
                    <a:lnL w="5760">
                      <a:solidFill>
                        <a:srgbClr val="2f5c9b"/>
                      </a:solidFill>
                    </a:lnL>
                    <a:lnR w="5760">
                      <a:solidFill>
                        <a:srgbClr val="2f5c9b"/>
                      </a:solidFill>
                    </a:lnR>
                    <a:lnT w="5760">
                      <a:solidFill>
                        <a:srgbClr val="2f5c9b"/>
                      </a:solidFill>
                    </a:lnT>
                    <a:lnB w="5760">
                      <a:solidFill>
                        <a:srgbClr val="2f5c9b"/>
                      </a:solidFill>
                    </a:lnB>
                    <a:noFill/>
                  </a:tcPr>
                </a:tc>
              </a:tr>
              <a:tr h="1059120">
                <a:tc>
                  <a:txBody>
                    <a:bodyPr lIns="68760" rIns="68760" tIns="0" bIns="0" anchor="ctr">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2f70"/>
                          </a:solidFill>
                          <a:latin typeface="Calibri"/>
                          <a:ea typeface="Times New Roman"/>
                        </a:rPr>
                        <a:t>To win the business (by sending a proposal to a prospective client)</a:t>
                      </a:r>
                      <a:endParaRPr b="0" lang="en-US" sz="2000" spc="-1" strike="noStrike">
                        <a:solidFill>
                          <a:srgbClr val="672f70"/>
                        </a:solidFill>
                        <a:latin typeface="Arial"/>
                      </a:endParaRPr>
                    </a:p>
                  </a:txBody>
                  <a:tcPr anchor="ctr" marL="68760" marR="68760">
                    <a:lnL w="5760">
                      <a:solidFill>
                        <a:srgbClr val="2f5c9b"/>
                      </a:solidFill>
                    </a:lnL>
                    <a:lnR w="5760">
                      <a:solidFill>
                        <a:srgbClr val="2f5c9b"/>
                      </a:solidFill>
                    </a:lnR>
                    <a:lnT w="5760">
                      <a:solidFill>
                        <a:srgbClr val="2f5c9b"/>
                      </a:solidFill>
                    </a:lnT>
                    <a:lnB w="5760">
                      <a:solidFill>
                        <a:srgbClr val="2f5c9b"/>
                      </a:solidFill>
                    </a:lnB>
                    <a:noFill/>
                  </a:tcPr>
                </a:tc>
                <a:tc>
                  <a:txBody>
                    <a:bodyPr lIns="68760" rIns="68760" tIns="0" bIns="0" anchor="ctr">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2f70"/>
                          </a:solidFill>
                          <a:latin typeface="Calibri"/>
                          <a:ea typeface="Times New Roman"/>
                        </a:rPr>
                        <a:t>To have the prospective client call us for an in-person meeting before June 30</a:t>
                      </a:r>
                      <a:endParaRPr b="0" lang="en-US" sz="2000" spc="-1" strike="noStrike">
                        <a:solidFill>
                          <a:srgbClr val="672f70"/>
                        </a:solidFill>
                        <a:latin typeface="Arial"/>
                      </a:endParaRPr>
                    </a:p>
                  </a:txBody>
                  <a:tcPr anchor="ctr" marL="68760" marR="68760">
                    <a:lnL w="5760">
                      <a:solidFill>
                        <a:srgbClr val="2f5c9b"/>
                      </a:solidFill>
                    </a:lnL>
                    <a:lnR w="5760">
                      <a:solidFill>
                        <a:srgbClr val="2f5c9b"/>
                      </a:solidFill>
                    </a:lnR>
                    <a:lnT w="5760">
                      <a:solidFill>
                        <a:srgbClr val="2f5c9b"/>
                      </a:solidFill>
                    </a:lnT>
                    <a:lnB w="5760">
                      <a:solidFill>
                        <a:srgbClr val="2f5c9b"/>
                      </a:solidFill>
                    </a:lnB>
                    <a:noFill/>
                  </a:tcPr>
                </a:tc>
              </a:tr>
              <a:tr h="1346040">
                <a:tc>
                  <a:txBody>
                    <a:bodyPr lIns="68760" rIns="68760" tIns="0" bIns="0" anchor="ctr">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2f70"/>
                          </a:solidFill>
                          <a:latin typeface="Calibri"/>
                          <a:ea typeface="Times New Roman"/>
                        </a:rPr>
                        <a:t>To help the customer to her satisfaction</a:t>
                      </a:r>
                      <a:endParaRPr b="0" lang="en-US" sz="2000" spc="-1" strike="noStrike">
                        <a:solidFill>
                          <a:srgbClr val="672f70"/>
                        </a:solidFill>
                        <a:latin typeface="Arial"/>
                      </a:endParaRPr>
                    </a:p>
                  </a:txBody>
                  <a:tcPr anchor="ctr" marL="68760" marR="68760">
                    <a:lnL w="5760">
                      <a:solidFill>
                        <a:srgbClr val="2f5c9b"/>
                      </a:solidFill>
                    </a:lnL>
                    <a:lnR w="5760">
                      <a:solidFill>
                        <a:srgbClr val="2f5c9b"/>
                      </a:solidFill>
                    </a:lnR>
                    <a:lnT w="5760">
                      <a:solidFill>
                        <a:srgbClr val="2f5c9b"/>
                      </a:solidFill>
                    </a:lnT>
                    <a:lnB w="5760">
                      <a:solidFill>
                        <a:srgbClr val="2f5c9b"/>
                      </a:solidFill>
                    </a:lnB>
                    <a:noFill/>
                  </a:tcPr>
                </a:tc>
                <a:tc>
                  <a:txBody>
                    <a:bodyPr lIns="68760" rIns="68760" tIns="0" bIns="0" anchor="ctr">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2f70"/>
                          </a:solidFill>
                          <a:latin typeface="Calibri"/>
                          <a:ea typeface="Times New Roman"/>
                        </a:rPr>
                        <a:t>To help the customer embed a form on her website and give her confidence to do this on her own in the future</a:t>
                      </a:r>
                      <a:endParaRPr b="0" lang="en-US" sz="2000" spc="-1" strike="noStrike">
                        <a:solidFill>
                          <a:srgbClr val="672f70"/>
                        </a:solidFill>
                        <a:latin typeface="Arial"/>
                      </a:endParaRPr>
                    </a:p>
                  </a:txBody>
                  <a:tcPr anchor="ctr" marL="68760" marR="68760">
                    <a:lnL w="5760">
                      <a:solidFill>
                        <a:srgbClr val="2f5c9b"/>
                      </a:solidFill>
                    </a:lnL>
                    <a:lnR w="5760">
                      <a:solidFill>
                        <a:srgbClr val="2f5c9b"/>
                      </a:solidFill>
                    </a:lnR>
                    <a:lnT w="5760">
                      <a:solidFill>
                        <a:srgbClr val="2f5c9b"/>
                      </a:solidFill>
                    </a:lnT>
                    <a:lnB w="5760">
                      <a:solidFill>
                        <a:srgbClr val="2f5c9b"/>
                      </a:solidFill>
                    </a:lnB>
                    <a:noFill/>
                  </a:tcPr>
                </a:tc>
              </a:tr>
            </a:tbl>
          </a:graphicData>
        </a:graphic>
      </p:graphicFrame>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title"/>
          </p:nvPr>
        </p:nvSpPr>
        <p:spPr>
          <a:xfrm>
            <a:off x="228240" y="228240"/>
            <a:ext cx="8534520" cy="585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Using a Mind Map to Plan Content</a:t>
            </a:r>
            <a:endParaRPr b="0" lang="en-US" sz="3600" spc="-1" strike="noStrike">
              <a:solidFill>
                <a:srgbClr val="ffffff"/>
              </a:solidFill>
              <a:latin typeface="Trebuchet MS"/>
            </a:endParaRPr>
          </a:p>
        </p:txBody>
      </p:sp>
      <p:grpSp>
        <p:nvGrpSpPr>
          <p:cNvPr id="1279" name="Oval 3"/>
          <p:cNvGrpSpPr/>
          <p:nvPr/>
        </p:nvGrpSpPr>
        <p:grpSpPr>
          <a:xfrm>
            <a:off x="3760920" y="2901960"/>
            <a:ext cx="1957320" cy="1285920"/>
            <a:chOff x="3760920" y="2901960"/>
            <a:chExt cx="1957320" cy="1285920"/>
          </a:xfrm>
        </p:grpSpPr>
        <p:pic>
          <p:nvPicPr>
            <p:cNvPr id="1280" name="Oval 3" descr=""/>
            <p:cNvPicPr/>
            <p:nvPr/>
          </p:nvPicPr>
          <p:blipFill>
            <a:blip r:embed="rId1"/>
            <a:stretch/>
          </p:blipFill>
          <p:spPr>
            <a:xfrm>
              <a:off x="3760920" y="2901960"/>
              <a:ext cx="1957320" cy="1285920"/>
            </a:xfrm>
            <a:prstGeom prst="rect">
              <a:avLst/>
            </a:prstGeom>
            <a:ln w="0">
              <a:noFill/>
            </a:ln>
          </p:spPr>
        </p:pic>
        <p:sp>
          <p:nvSpPr>
            <p:cNvPr id="1281" name=""/>
            <p:cNvSpPr/>
            <p:nvPr/>
          </p:nvSpPr>
          <p:spPr>
            <a:xfrm>
              <a:off x="4087800" y="3103560"/>
              <a:ext cx="1303200" cy="831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essage Purpose</a:t>
              </a:r>
              <a:endParaRPr b="0" lang="en-US" sz="1800" spc="-1" strike="noStrike">
                <a:solidFill>
                  <a:srgbClr val="672f70"/>
                </a:solidFill>
                <a:latin typeface="Arial"/>
              </a:endParaRPr>
            </a:p>
          </p:txBody>
        </p:sp>
      </p:grpSp>
      <p:grpSp>
        <p:nvGrpSpPr>
          <p:cNvPr id="1282" name="Oval 7"/>
          <p:cNvGrpSpPr/>
          <p:nvPr/>
        </p:nvGrpSpPr>
        <p:grpSpPr>
          <a:xfrm>
            <a:off x="2571840" y="1925640"/>
            <a:ext cx="1635120" cy="873000"/>
            <a:chOff x="2571840" y="1925640"/>
            <a:chExt cx="1635120" cy="873000"/>
          </a:xfrm>
        </p:grpSpPr>
        <p:pic>
          <p:nvPicPr>
            <p:cNvPr id="1283" name="Oval 7" descr=""/>
            <p:cNvPicPr/>
            <p:nvPr/>
          </p:nvPicPr>
          <p:blipFill>
            <a:blip r:embed="rId2"/>
            <a:stretch/>
          </p:blipFill>
          <p:spPr>
            <a:xfrm>
              <a:off x="2571840" y="1925640"/>
              <a:ext cx="1635120" cy="873000"/>
            </a:xfrm>
            <a:prstGeom prst="rect">
              <a:avLst/>
            </a:prstGeom>
            <a:ln w="0">
              <a:noFill/>
            </a:ln>
          </p:spPr>
        </p:pic>
        <p:sp>
          <p:nvSpPr>
            <p:cNvPr id="1284" name=""/>
            <p:cNvSpPr/>
            <p:nvPr/>
          </p:nvSpPr>
          <p:spPr>
            <a:xfrm>
              <a:off x="2849400" y="2062080"/>
              <a:ext cx="1078200" cy="49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ossible Points</a:t>
              </a:r>
              <a:endParaRPr b="0" lang="en-US" sz="1800" spc="-1" strike="noStrike">
                <a:solidFill>
                  <a:srgbClr val="672f70"/>
                </a:solidFill>
                <a:latin typeface="Arial"/>
              </a:endParaRPr>
            </a:p>
          </p:txBody>
        </p:sp>
      </p:grpSp>
      <p:sp>
        <p:nvSpPr>
          <p:cNvPr id="1285" name="Oval 9"/>
          <p:cNvSpPr/>
          <p:nvPr/>
        </p:nvSpPr>
        <p:spPr>
          <a:xfrm>
            <a:off x="536400" y="4600440"/>
            <a:ext cx="1335240" cy="609840"/>
          </a:xfrm>
          <a:prstGeom prst="ellipse">
            <a:avLst/>
          </a:prstGeom>
          <a:solidFill>
            <a:srgbClr val="3397ba"/>
          </a:solidFill>
          <a:ln w="25560">
            <a:solidFill>
              <a:srgbClr val="236e8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Details</a:t>
            </a:r>
            <a:endParaRPr b="0" lang="en-US" sz="1800" spc="-1" strike="noStrike">
              <a:solidFill>
                <a:srgbClr val="672f70"/>
              </a:solidFill>
              <a:latin typeface="Arial"/>
            </a:endParaRPr>
          </a:p>
        </p:txBody>
      </p:sp>
      <p:grpSp>
        <p:nvGrpSpPr>
          <p:cNvPr id="1286" name="Oval 14"/>
          <p:cNvGrpSpPr/>
          <p:nvPr/>
        </p:nvGrpSpPr>
        <p:grpSpPr>
          <a:xfrm>
            <a:off x="6145200" y="4175280"/>
            <a:ext cx="1633680" cy="873000"/>
            <a:chOff x="6145200" y="4175280"/>
            <a:chExt cx="1633680" cy="873000"/>
          </a:xfrm>
        </p:grpSpPr>
        <p:pic>
          <p:nvPicPr>
            <p:cNvPr id="1287" name="Oval 14" descr=""/>
            <p:cNvPicPr/>
            <p:nvPr/>
          </p:nvPicPr>
          <p:blipFill>
            <a:blip r:embed="rId3"/>
            <a:stretch/>
          </p:blipFill>
          <p:spPr>
            <a:xfrm>
              <a:off x="6145200" y="4175280"/>
              <a:ext cx="1633680" cy="873000"/>
            </a:xfrm>
            <a:prstGeom prst="rect">
              <a:avLst/>
            </a:prstGeom>
            <a:ln w="0">
              <a:noFill/>
            </a:ln>
          </p:spPr>
        </p:pic>
        <p:sp>
          <p:nvSpPr>
            <p:cNvPr id="1288" name=""/>
            <p:cNvSpPr/>
            <p:nvPr/>
          </p:nvSpPr>
          <p:spPr>
            <a:xfrm>
              <a:off x="6421320" y="4311720"/>
              <a:ext cx="1076400" cy="49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ossible Points</a:t>
              </a:r>
              <a:endParaRPr b="0" lang="en-US" sz="1800" spc="-1" strike="noStrike">
                <a:solidFill>
                  <a:srgbClr val="672f70"/>
                </a:solidFill>
                <a:latin typeface="Arial"/>
              </a:endParaRPr>
            </a:p>
          </p:txBody>
        </p:sp>
      </p:grpSp>
      <p:grpSp>
        <p:nvGrpSpPr>
          <p:cNvPr id="1289" name="Oval 15"/>
          <p:cNvGrpSpPr/>
          <p:nvPr/>
        </p:nvGrpSpPr>
        <p:grpSpPr>
          <a:xfrm>
            <a:off x="5052960" y="1925640"/>
            <a:ext cx="1633680" cy="873000"/>
            <a:chOff x="5052960" y="1925640"/>
            <a:chExt cx="1633680" cy="873000"/>
          </a:xfrm>
        </p:grpSpPr>
        <p:pic>
          <p:nvPicPr>
            <p:cNvPr id="1290" name="Oval 15" descr=""/>
            <p:cNvPicPr/>
            <p:nvPr/>
          </p:nvPicPr>
          <p:blipFill>
            <a:blip r:embed="rId4"/>
            <a:stretch/>
          </p:blipFill>
          <p:spPr>
            <a:xfrm>
              <a:off x="5052960" y="1925640"/>
              <a:ext cx="1633680" cy="873000"/>
            </a:xfrm>
            <a:prstGeom prst="rect">
              <a:avLst/>
            </a:prstGeom>
            <a:ln w="0">
              <a:noFill/>
            </a:ln>
          </p:spPr>
        </p:pic>
        <p:sp>
          <p:nvSpPr>
            <p:cNvPr id="1291" name=""/>
            <p:cNvSpPr/>
            <p:nvPr/>
          </p:nvSpPr>
          <p:spPr>
            <a:xfrm>
              <a:off x="5332320" y="2062080"/>
              <a:ext cx="1077840" cy="49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ossible Points</a:t>
              </a:r>
              <a:endParaRPr b="0" lang="en-US" sz="1800" spc="-1" strike="noStrike">
                <a:solidFill>
                  <a:srgbClr val="672f70"/>
                </a:solidFill>
                <a:latin typeface="Arial"/>
              </a:endParaRPr>
            </a:p>
          </p:txBody>
        </p:sp>
      </p:grpSp>
      <p:grpSp>
        <p:nvGrpSpPr>
          <p:cNvPr id="1292" name="Oval 16"/>
          <p:cNvGrpSpPr/>
          <p:nvPr/>
        </p:nvGrpSpPr>
        <p:grpSpPr>
          <a:xfrm>
            <a:off x="2932200" y="4383000"/>
            <a:ext cx="1633320" cy="871560"/>
            <a:chOff x="2932200" y="4383000"/>
            <a:chExt cx="1633320" cy="871560"/>
          </a:xfrm>
        </p:grpSpPr>
        <p:pic>
          <p:nvPicPr>
            <p:cNvPr id="1293" name="Oval 16" descr=""/>
            <p:cNvPicPr/>
            <p:nvPr/>
          </p:nvPicPr>
          <p:blipFill>
            <a:blip r:embed="rId5"/>
            <a:stretch/>
          </p:blipFill>
          <p:spPr>
            <a:xfrm>
              <a:off x="2932200" y="4383000"/>
              <a:ext cx="1633320" cy="871560"/>
            </a:xfrm>
            <a:prstGeom prst="rect">
              <a:avLst/>
            </a:prstGeom>
            <a:ln w="0">
              <a:noFill/>
            </a:ln>
          </p:spPr>
        </p:pic>
        <p:sp>
          <p:nvSpPr>
            <p:cNvPr id="1294" name=""/>
            <p:cNvSpPr/>
            <p:nvPr/>
          </p:nvSpPr>
          <p:spPr>
            <a:xfrm>
              <a:off x="3213000" y="4514760"/>
              <a:ext cx="1077840" cy="49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ossible Points</a:t>
              </a:r>
              <a:endParaRPr b="0" lang="en-US" sz="1800" spc="-1" strike="noStrike">
                <a:solidFill>
                  <a:srgbClr val="672f70"/>
                </a:solidFill>
                <a:latin typeface="Arial"/>
              </a:endParaRPr>
            </a:p>
          </p:txBody>
        </p:sp>
      </p:grpSp>
      <p:sp>
        <p:nvSpPr>
          <p:cNvPr id="1295" name="Oval 17"/>
          <p:cNvSpPr/>
          <p:nvPr/>
        </p:nvSpPr>
        <p:spPr>
          <a:xfrm>
            <a:off x="1509840" y="5240160"/>
            <a:ext cx="1334880" cy="609840"/>
          </a:xfrm>
          <a:prstGeom prst="ellipse">
            <a:avLst/>
          </a:prstGeom>
          <a:solidFill>
            <a:srgbClr val="3397ba"/>
          </a:solidFill>
          <a:ln w="25560">
            <a:solidFill>
              <a:srgbClr val="236e8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Details</a:t>
            </a:r>
            <a:endParaRPr b="0" lang="en-US" sz="1800" spc="-1" strike="noStrike">
              <a:solidFill>
                <a:srgbClr val="672f70"/>
              </a:solidFill>
              <a:latin typeface="Arial"/>
            </a:endParaRPr>
          </a:p>
        </p:txBody>
      </p:sp>
      <p:sp>
        <p:nvSpPr>
          <p:cNvPr id="1296" name="Oval 18"/>
          <p:cNvSpPr/>
          <p:nvPr/>
        </p:nvSpPr>
        <p:spPr>
          <a:xfrm>
            <a:off x="1596960" y="3948120"/>
            <a:ext cx="1335240" cy="609480"/>
          </a:xfrm>
          <a:prstGeom prst="ellipse">
            <a:avLst/>
          </a:prstGeom>
          <a:solidFill>
            <a:srgbClr val="3397ba"/>
          </a:solidFill>
          <a:ln w="25560">
            <a:solidFill>
              <a:srgbClr val="236e8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Details</a:t>
            </a:r>
            <a:endParaRPr b="0" lang="en-US" sz="1800" spc="-1" strike="noStrike">
              <a:solidFill>
                <a:srgbClr val="672f70"/>
              </a:solidFill>
              <a:latin typeface="Arial"/>
            </a:endParaRPr>
          </a:p>
        </p:txBody>
      </p:sp>
      <p:sp>
        <p:nvSpPr>
          <p:cNvPr id="1297" name="Oval 19"/>
          <p:cNvSpPr/>
          <p:nvPr/>
        </p:nvSpPr>
        <p:spPr>
          <a:xfrm>
            <a:off x="7388280" y="1755720"/>
            <a:ext cx="1334880" cy="609480"/>
          </a:xfrm>
          <a:prstGeom prst="ellipse">
            <a:avLst/>
          </a:prstGeom>
          <a:solidFill>
            <a:srgbClr val="3397ba"/>
          </a:solidFill>
          <a:ln w="25560">
            <a:solidFill>
              <a:srgbClr val="236e8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Details</a:t>
            </a:r>
            <a:endParaRPr b="0" lang="en-US" sz="1800" spc="-1" strike="noStrike">
              <a:solidFill>
                <a:srgbClr val="672f70"/>
              </a:solidFill>
              <a:latin typeface="Arial"/>
            </a:endParaRPr>
          </a:p>
        </p:txBody>
      </p:sp>
      <p:sp>
        <p:nvSpPr>
          <p:cNvPr id="1298" name="Oval 20"/>
          <p:cNvSpPr/>
          <p:nvPr/>
        </p:nvSpPr>
        <p:spPr>
          <a:xfrm>
            <a:off x="6748560" y="2627280"/>
            <a:ext cx="1336680" cy="609480"/>
          </a:xfrm>
          <a:prstGeom prst="ellipse">
            <a:avLst/>
          </a:prstGeom>
          <a:solidFill>
            <a:srgbClr val="3397ba"/>
          </a:solidFill>
          <a:ln w="25560">
            <a:solidFill>
              <a:srgbClr val="236e8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Details</a:t>
            </a:r>
            <a:endParaRPr b="0" lang="en-US" sz="1800" spc="-1" strike="noStrike">
              <a:solidFill>
                <a:srgbClr val="672f70"/>
              </a:solidFill>
              <a:latin typeface="Arial"/>
            </a:endParaRPr>
          </a:p>
        </p:txBody>
      </p:sp>
      <p:sp>
        <p:nvSpPr>
          <p:cNvPr id="1299" name="Oval 21"/>
          <p:cNvSpPr/>
          <p:nvPr/>
        </p:nvSpPr>
        <p:spPr>
          <a:xfrm>
            <a:off x="6037200" y="1146240"/>
            <a:ext cx="1336680" cy="609480"/>
          </a:xfrm>
          <a:prstGeom prst="ellipse">
            <a:avLst/>
          </a:prstGeom>
          <a:solidFill>
            <a:srgbClr val="3397ba"/>
          </a:solidFill>
          <a:ln w="25560">
            <a:solidFill>
              <a:srgbClr val="236e8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Details</a:t>
            </a:r>
            <a:endParaRPr b="0" lang="en-US" sz="1800" spc="-1" strike="noStrike">
              <a:solidFill>
                <a:srgbClr val="672f70"/>
              </a:solidFill>
              <a:latin typeface="Arial"/>
            </a:endParaRPr>
          </a:p>
        </p:txBody>
      </p:sp>
      <p:sp>
        <p:nvSpPr>
          <p:cNvPr id="1300" name="Straight Connector 23"/>
          <p:cNvSpPr/>
          <p:nvPr/>
        </p:nvSpPr>
        <p:spPr>
          <a:xfrm flipV="1">
            <a:off x="4737960" y="2554200"/>
            <a:ext cx="593640" cy="378000"/>
          </a:xfrm>
          <a:prstGeom prst="line">
            <a:avLst/>
          </a:prstGeom>
          <a:ln w="9360">
            <a:solidFill>
              <a:srgbClr val="2e95b9"/>
            </a:solidFill>
            <a:miter/>
          </a:ln>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1301" name="Straight Connector 25"/>
          <p:cNvSpPr/>
          <p:nvPr/>
        </p:nvSpPr>
        <p:spPr>
          <a:xfrm flipV="1">
            <a:off x="5869800" y="1450800"/>
            <a:ext cx="166680" cy="508320"/>
          </a:xfrm>
          <a:prstGeom prst="line">
            <a:avLst/>
          </a:prstGeom>
          <a:ln w="9360">
            <a:solidFill>
              <a:srgbClr val="2e95b9"/>
            </a:solidFill>
            <a:miter/>
          </a:ln>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1302" name="Straight Connector 27"/>
          <p:cNvSpPr/>
          <p:nvPr/>
        </p:nvSpPr>
        <p:spPr>
          <a:xfrm flipV="1">
            <a:off x="6409440" y="2060640"/>
            <a:ext cx="978120" cy="1440"/>
          </a:xfrm>
          <a:prstGeom prst="line">
            <a:avLst/>
          </a:prstGeom>
          <a:ln w="9360">
            <a:solidFill>
              <a:srgbClr val="2e95b9"/>
            </a:solidFill>
            <a:miter/>
          </a:ln>
        </p:spPr>
        <p:style>
          <a:lnRef idx="0"/>
          <a:fillRef idx="0"/>
          <a:effectRef idx="0"/>
          <a:fontRef idx="minor"/>
        </p:style>
        <p:txBody>
          <a:bodyPr lIns="90000" rIns="90000" tIns="-45360" bIns="-45360" anchor="t">
            <a:noAutofit/>
          </a:bodyPr>
          <a:p>
            <a:endParaRPr b="0" lang="en-US" sz="1800" spc="-1" strike="noStrike">
              <a:solidFill>
                <a:srgbClr val="672f70"/>
              </a:solidFill>
              <a:latin typeface="Arial"/>
            </a:endParaRPr>
          </a:p>
        </p:txBody>
      </p:sp>
      <p:sp>
        <p:nvSpPr>
          <p:cNvPr id="1303" name="Straight Connector 30"/>
          <p:cNvSpPr/>
          <p:nvPr/>
        </p:nvSpPr>
        <p:spPr>
          <a:xfrm>
            <a:off x="6409440" y="2554200"/>
            <a:ext cx="535320" cy="162000"/>
          </a:xfrm>
          <a:prstGeom prst="line">
            <a:avLst/>
          </a:prstGeom>
          <a:ln w="9360">
            <a:solidFill>
              <a:srgbClr val="2e95b9"/>
            </a:solidFill>
            <a:miter/>
          </a:ln>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1304" name="Straight Connector 34"/>
          <p:cNvSpPr/>
          <p:nvPr/>
        </p:nvSpPr>
        <p:spPr>
          <a:xfrm flipH="1" flipV="1">
            <a:off x="3927240" y="2554200"/>
            <a:ext cx="160200" cy="549360"/>
          </a:xfrm>
          <a:prstGeom prst="line">
            <a:avLst/>
          </a:prstGeom>
          <a:ln w="9360">
            <a:solidFill>
              <a:srgbClr val="2e95b9"/>
            </a:solidFill>
            <a:miter/>
          </a:ln>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1305" name="Straight Connector 36"/>
          <p:cNvSpPr/>
          <p:nvPr/>
        </p:nvSpPr>
        <p:spPr>
          <a:xfrm flipH="1">
            <a:off x="3750840" y="3935520"/>
            <a:ext cx="336600" cy="476280"/>
          </a:xfrm>
          <a:prstGeom prst="line">
            <a:avLst/>
          </a:prstGeom>
          <a:ln w="9360">
            <a:solidFill>
              <a:srgbClr val="2e95b9"/>
            </a:solidFill>
            <a:miter/>
          </a:ln>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1306" name="Straight Connector 38"/>
          <p:cNvSpPr/>
          <p:nvPr/>
        </p:nvSpPr>
        <p:spPr>
          <a:xfrm flipH="1" flipV="1">
            <a:off x="2932200" y="4252680"/>
            <a:ext cx="280800" cy="261720"/>
          </a:xfrm>
          <a:prstGeom prst="line">
            <a:avLst/>
          </a:prstGeom>
          <a:ln w="9360">
            <a:solidFill>
              <a:srgbClr val="2e95b9"/>
            </a:solidFill>
            <a:miter/>
          </a:ln>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1307" name="Straight Connector 40"/>
          <p:cNvSpPr/>
          <p:nvPr/>
        </p:nvSpPr>
        <p:spPr>
          <a:xfrm flipH="1">
            <a:off x="1871280" y="4760280"/>
            <a:ext cx="1117800" cy="144360"/>
          </a:xfrm>
          <a:prstGeom prst="line">
            <a:avLst/>
          </a:prstGeom>
          <a:ln w="9360">
            <a:solidFill>
              <a:srgbClr val="2e95b9"/>
            </a:solidFill>
            <a:miter/>
          </a:ln>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1308" name="Straight Connector 42"/>
          <p:cNvSpPr/>
          <p:nvPr/>
        </p:nvSpPr>
        <p:spPr>
          <a:xfrm flipH="1">
            <a:off x="2649240" y="5006880"/>
            <a:ext cx="563400" cy="322200"/>
          </a:xfrm>
          <a:prstGeom prst="line">
            <a:avLst/>
          </a:prstGeom>
          <a:ln w="9360">
            <a:solidFill>
              <a:srgbClr val="2e95b9"/>
            </a:solidFill>
            <a:miter/>
          </a:ln>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1309" name="Straight Connector 44"/>
          <p:cNvSpPr/>
          <p:nvPr/>
        </p:nvSpPr>
        <p:spPr>
          <a:xfrm>
            <a:off x="5391000" y="3935520"/>
            <a:ext cx="1030320" cy="376200"/>
          </a:xfrm>
          <a:prstGeom prst="line">
            <a:avLst/>
          </a:prstGeom>
          <a:ln w="9360">
            <a:solidFill>
              <a:srgbClr val="2e95b9"/>
            </a:solidFill>
            <a:miter/>
          </a:ln>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title"/>
          </p:nvPr>
        </p:nvSpPr>
        <p:spPr>
          <a:xfrm>
            <a:off x="228240" y="228240"/>
            <a:ext cx="8534520" cy="585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Organizing Your Message</a:t>
            </a:r>
            <a:endParaRPr b="0" lang="en-US" sz="3600" spc="-1" strike="noStrike">
              <a:solidFill>
                <a:srgbClr val="ffffff"/>
              </a:solidFill>
              <a:latin typeface="Trebuchet MS"/>
            </a:endParaRPr>
          </a:p>
        </p:txBody>
      </p:sp>
      <p:sp>
        <p:nvSpPr>
          <p:cNvPr id="1311" name=""/>
          <p:cNvSpPr txBox="1"/>
          <p:nvPr/>
        </p:nvSpPr>
        <p:spPr>
          <a:xfrm>
            <a:off x="598320" y="1258920"/>
            <a:ext cx="8229600" cy="4525920"/>
          </a:xfrm>
          <a:prstGeom prst="rect">
            <a:avLst/>
          </a:prstGeom>
          <a:noFill/>
          <a:ln w="0">
            <a:noFill/>
          </a:ln>
        </p:spPr>
        <p:txBody>
          <a:bodyPr lIns="90000" rIns="90000" tIns="46800" bIns="46800" anchor="t">
            <a:normAutofit fontScale="96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72f70"/>
                </a:solidFill>
                <a:latin typeface="Calibri"/>
                <a:ea typeface="Calibri"/>
              </a:rPr>
              <a:t>Frequent-Stay Program Message Outline</a:t>
            </a:r>
            <a:endParaRPr b="0" lang="en-US" sz="1600" spc="-1" strike="noStrike">
              <a:solidFill>
                <a:srgbClr val="672f7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a:solidFill>
                  <a:srgbClr val="672f70"/>
                </a:solidFill>
                <a:latin typeface="Calibri"/>
                <a:ea typeface="Calibri"/>
              </a:rPr>
              <a:t>Introduction: </a:t>
            </a:r>
            <a:r>
              <a:rPr b="0" lang="en-US" sz="1600" spc="-1" strike="noStrike">
                <a:solidFill>
                  <a:srgbClr val="672f70"/>
                </a:solidFill>
                <a:latin typeface="Calibri"/>
                <a:ea typeface="Calibri"/>
              </a:rPr>
              <a:t>Purpose, main points, and preview</a:t>
            </a:r>
            <a:endParaRPr b="0" lang="en-US" sz="1600" spc="-1" strike="noStrike">
              <a:solidFill>
                <a:srgbClr val="672f70"/>
              </a:solidFill>
              <a:latin typeface="Calibri"/>
            </a:endParaRPr>
          </a:p>
          <a:p>
            <a:pPr lvl="1" marL="438840">
              <a:buClr>
                <a:srgbClr val="672f7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72f70"/>
                </a:solidFill>
                <a:latin typeface="Calibri"/>
                <a:ea typeface="Calibri"/>
              </a:rPr>
              <a:t> </a:t>
            </a:r>
            <a:r>
              <a:rPr b="1" lang="en-US" sz="1600" spc="-1" strike="noStrike">
                <a:solidFill>
                  <a:srgbClr val="672f70"/>
                </a:solidFill>
                <a:latin typeface="Calibri"/>
                <a:ea typeface="Calibri"/>
              </a:rPr>
              <a:t>Why should we create a frequent-stay program?</a:t>
            </a:r>
            <a:endParaRPr b="0" lang="en-US" sz="1600" spc="-1" strike="noStrike">
              <a:solidFill>
                <a:srgbClr val="672f70"/>
              </a:solidFill>
              <a:latin typeface="Calibri"/>
            </a:endParaRPr>
          </a:p>
          <a:p>
            <a:pPr lvl="3" marL="1316520">
              <a:buClr>
                <a:srgbClr val="672f70"/>
              </a:buClr>
              <a:buFont typeface="Calibri"/>
              <a:buAutoNum type="romanU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72f70"/>
                </a:solidFill>
                <a:latin typeface="Calibri"/>
                <a:ea typeface="Calibri"/>
              </a:rPr>
              <a:t>  </a:t>
            </a:r>
            <a:r>
              <a:rPr b="0" lang="en-US" sz="1600" spc="-1" strike="noStrike">
                <a:solidFill>
                  <a:srgbClr val="672f70"/>
                </a:solidFill>
                <a:latin typeface="Calibri"/>
                <a:ea typeface="Calibri"/>
              </a:rPr>
              <a:t>Reward guests for loyalty</a:t>
            </a:r>
            <a:endParaRPr b="0" lang="en-US" sz="1600" spc="-1" strike="noStrike">
              <a:solidFill>
                <a:srgbClr val="672f70"/>
              </a:solidFill>
              <a:latin typeface="Calibri"/>
            </a:endParaRPr>
          </a:p>
          <a:p>
            <a:pPr lvl="3" marL="1316520">
              <a:buClr>
                <a:srgbClr val="672f70"/>
              </a:buClr>
              <a:buFont typeface="Calibri"/>
              <a:buAutoNum type="romanU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72f70"/>
                </a:solidFill>
                <a:latin typeface="Calibri"/>
                <a:ea typeface="Calibri"/>
              </a:rPr>
              <a:t>  </a:t>
            </a:r>
            <a:r>
              <a:rPr b="0" lang="en-US" sz="1600" spc="-1" strike="noStrike">
                <a:solidFill>
                  <a:srgbClr val="672f70"/>
                </a:solidFill>
                <a:latin typeface="Calibri"/>
                <a:ea typeface="Calibri"/>
              </a:rPr>
              <a:t>Stay competitive</a:t>
            </a:r>
            <a:endParaRPr b="0" lang="en-US" sz="1600" spc="-1" strike="noStrike">
              <a:solidFill>
                <a:srgbClr val="672f70"/>
              </a:solidFill>
              <a:latin typeface="Calibri"/>
            </a:endParaRPr>
          </a:p>
          <a:p>
            <a:pPr lvl="3" marL="1316520">
              <a:buClr>
                <a:srgbClr val="672f70"/>
              </a:buClr>
              <a:buFont typeface="Calibri"/>
              <a:buAutoNum type="romanU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72f70"/>
                </a:solidFill>
                <a:latin typeface="Calibri"/>
                <a:ea typeface="Calibri"/>
              </a:rPr>
              <a:t> </a:t>
            </a:r>
            <a:r>
              <a:rPr b="0" lang="en-US" sz="1600" spc="-1" strike="noStrike">
                <a:solidFill>
                  <a:srgbClr val="672f70"/>
                </a:solidFill>
                <a:latin typeface="Calibri"/>
                <a:ea typeface="Calibri"/>
              </a:rPr>
              <a:t>Increase profits</a:t>
            </a:r>
            <a:endParaRPr b="0" lang="en-US" sz="1600" spc="-1" strike="noStrike">
              <a:solidFill>
                <a:srgbClr val="672f70"/>
              </a:solidFill>
              <a:latin typeface="Calibri"/>
            </a:endParaRPr>
          </a:p>
          <a:p>
            <a:pPr lvl="1" marL="438840">
              <a:buClr>
                <a:srgbClr val="672f7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72f70"/>
                </a:solidFill>
                <a:latin typeface="Calibri"/>
                <a:ea typeface="Calibri"/>
              </a:rPr>
              <a:t> </a:t>
            </a:r>
            <a:r>
              <a:rPr b="1" lang="en-US" sz="1600" spc="-1" strike="noStrike">
                <a:solidFill>
                  <a:srgbClr val="672f70"/>
                </a:solidFill>
                <a:latin typeface="Calibri"/>
                <a:ea typeface="Calibri"/>
              </a:rPr>
              <a:t>How should we develop the program?</a:t>
            </a:r>
            <a:endParaRPr b="0" lang="en-US" sz="1600" spc="-1" strike="noStrike">
              <a:solidFill>
                <a:srgbClr val="672f70"/>
              </a:solidFill>
              <a:latin typeface="Calibri"/>
            </a:endParaRPr>
          </a:p>
          <a:p>
            <a:pPr lvl="3" marL="1316520">
              <a:buClr>
                <a:srgbClr val="672f70"/>
              </a:buClr>
              <a:buFont typeface="Calibri"/>
              <a:buAutoNum type="romanU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72f70"/>
                </a:solidFill>
                <a:latin typeface="Calibri"/>
                <a:ea typeface="Calibri"/>
              </a:rPr>
              <a:t>   </a:t>
            </a:r>
            <a:r>
              <a:rPr b="0" lang="en-US" sz="1600" spc="-1" strike="noStrike">
                <a:solidFill>
                  <a:srgbClr val="672f70"/>
                </a:solidFill>
                <a:latin typeface="Calibri"/>
                <a:ea typeface="Calibri"/>
              </a:rPr>
              <a:t>Survey guests by location</a:t>
            </a:r>
            <a:endParaRPr b="0" lang="en-US" sz="1600" spc="-1" strike="noStrike">
              <a:solidFill>
                <a:srgbClr val="672f70"/>
              </a:solidFill>
              <a:latin typeface="Calibri"/>
            </a:endParaRPr>
          </a:p>
          <a:p>
            <a:pPr lvl="3" marL="1316520">
              <a:buClr>
                <a:srgbClr val="672f70"/>
              </a:buClr>
              <a:buFont typeface="Calibri"/>
              <a:buAutoNum type="romanU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72f70"/>
                </a:solidFill>
                <a:latin typeface="Calibri"/>
                <a:ea typeface="Calibri"/>
              </a:rPr>
              <a:t>  </a:t>
            </a:r>
            <a:r>
              <a:rPr b="0" lang="en-US" sz="1600" spc="-1" strike="noStrike">
                <a:solidFill>
                  <a:srgbClr val="672f70"/>
                </a:solidFill>
                <a:latin typeface="Calibri"/>
                <a:ea typeface="Calibri"/>
              </a:rPr>
              <a:t>Project all costs</a:t>
            </a:r>
            <a:endParaRPr b="0" lang="en-US" sz="1600" spc="-1" strike="noStrike">
              <a:solidFill>
                <a:srgbClr val="672f70"/>
              </a:solidFill>
              <a:latin typeface="Calibri"/>
            </a:endParaRPr>
          </a:p>
          <a:p>
            <a:pPr lvl="4" marL="2139480" indent="-383760">
              <a:buClr>
                <a:srgbClr val="672f7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72f70"/>
                </a:solidFill>
                <a:latin typeface="Calibri"/>
                <a:ea typeface="Times New Roman"/>
              </a:rPr>
              <a:t>Overhead</a:t>
            </a:r>
            <a:endParaRPr b="0" lang="en-US" sz="1600" spc="-1" strike="noStrike">
              <a:solidFill>
                <a:srgbClr val="672f70"/>
              </a:solidFill>
              <a:latin typeface="Calibri"/>
            </a:endParaRPr>
          </a:p>
          <a:p>
            <a:pPr lvl="4" marL="2139480" indent="-383760">
              <a:buClr>
                <a:srgbClr val="672f7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72f70"/>
                </a:solidFill>
                <a:latin typeface="Calibri"/>
                <a:ea typeface="Times New Roman"/>
              </a:rPr>
              <a:t>Awards</a:t>
            </a:r>
            <a:endParaRPr b="0" lang="en-US" sz="1600" spc="-1" strike="noStrike">
              <a:solidFill>
                <a:srgbClr val="672f70"/>
              </a:solidFill>
              <a:latin typeface="Calibri"/>
            </a:endParaRPr>
          </a:p>
          <a:p>
            <a:pPr lvl="4" marL="2139480" indent="-383760">
              <a:buClr>
                <a:srgbClr val="672f7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72f70"/>
                </a:solidFill>
                <a:latin typeface="Calibri"/>
                <a:ea typeface="Times New Roman"/>
              </a:rPr>
              <a:t>Research and development</a:t>
            </a:r>
            <a:endParaRPr b="0" lang="en-US" sz="1600" spc="-1" strike="noStrike">
              <a:solidFill>
                <a:srgbClr val="672f70"/>
              </a:solidFill>
              <a:latin typeface="Calibri"/>
            </a:endParaRPr>
          </a:p>
          <a:p>
            <a:pPr lvl="4" marL="2139480" indent="-383760">
              <a:buClr>
                <a:srgbClr val="672f7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72f70"/>
                </a:solidFill>
                <a:latin typeface="Calibri"/>
                <a:ea typeface="Times New Roman"/>
              </a:rPr>
              <a:t>Start-up</a:t>
            </a:r>
            <a:endParaRPr b="0" lang="en-US" sz="1600" spc="-1" strike="noStrike">
              <a:solidFill>
                <a:srgbClr val="672f70"/>
              </a:solidFill>
              <a:latin typeface="Calibri"/>
            </a:endParaRPr>
          </a:p>
          <a:p>
            <a:pPr lvl="3" marL="1316520">
              <a:buClr>
                <a:srgbClr val="672f7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72f70"/>
                </a:solidFill>
                <a:latin typeface="Calibri"/>
                <a:ea typeface="Calibri"/>
              </a:rPr>
              <a:t> </a:t>
            </a:r>
            <a:r>
              <a:rPr b="0" lang="en-US" sz="1600" spc="-1" strike="noStrike">
                <a:solidFill>
                  <a:srgbClr val="672f70"/>
                </a:solidFill>
                <a:latin typeface="Calibri"/>
                <a:ea typeface="Calibri"/>
              </a:rPr>
              <a:t>Study competitors’ programs</a:t>
            </a:r>
            <a:endParaRPr b="0" lang="en-US" sz="1600" spc="-1" strike="noStrike">
              <a:solidFill>
                <a:srgbClr val="672f70"/>
              </a:solidFill>
              <a:latin typeface="Calibri"/>
            </a:endParaRPr>
          </a:p>
          <a:p>
            <a:pPr lvl="4" marL="2139480" indent="-383760">
              <a:buClr>
                <a:srgbClr val="672f70"/>
              </a:buClr>
              <a:buFont typeface="Calibri"/>
              <a:buAutoNum type="romanUcParen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72f70"/>
                </a:solidFill>
                <a:latin typeface="Calibri"/>
                <a:ea typeface="Calibri"/>
              </a:rPr>
              <a:t>Hilton</a:t>
            </a:r>
            <a:endParaRPr b="0" lang="en-US" sz="1600" spc="-1" strike="noStrike">
              <a:solidFill>
                <a:srgbClr val="672f70"/>
              </a:solidFill>
              <a:latin typeface="Calibri"/>
            </a:endParaRPr>
          </a:p>
          <a:p>
            <a:pPr lvl="4" marL="2139480" indent="-383760">
              <a:buClr>
                <a:srgbClr val="672f70"/>
              </a:buClr>
              <a:buFont typeface="Calibri"/>
              <a:buAutoNum type="romanUcParen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72f70"/>
                </a:solidFill>
                <a:latin typeface="Calibri"/>
                <a:ea typeface="Calibri"/>
              </a:rPr>
              <a:t>Holiday Inn</a:t>
            </a:r>
            <a:endParaRPr b="0" lang="en-US" sz="1600" spc="-1" strike="noStrike">
              <a:solidFill>
                <a:srgbClr val="672f70"/>
              </a:solidFill>
              <a:latin typeface="Calibri"/>
            </a:endParaRPr>
          </a:p>
          <a:p>
            <a:pPr lvl="4" marL="2139480" indent="-383760">
              <a:buClr>
                <a:srgbClr val="672f70"/>
              </a:buClr>
              <a:buFont typeface="Calibri"/>
              <a:buAutoNum type="romanUcParen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72f70"/>
                </a:solidFill>
                <a:latin typeface="Calibri"/>
                <a:ea typeface="Calibri"/>
              </a:rPr>
              <a:t>Best Western</a:t>
            </a:r>
            <a:endParaRPr b="0" lang="en-US" sz="1600" spc="-1" strike="noStrike">
              <a:solidFill>
                <a:srgbClr val="672f70"/>
              </a:solidFill>
              <a:latin typeface="Calibri"/>
            </a:endParaRPr>
          </a:p>
          <a:p>
            <a:pPr lvl="4" marL="2139480" indent="-383760">
              <a:buClr>
                <a:srgbClr val="672f70"/>
              </a:buClr>
              <a:buFont typeface="Calibri"/>
              <a:buAutoNum type="romanUcParen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72f70"/>
                </a:solidFill>
                <a:latin typeface="Calibri"/>
                <a:ea typeface="Calibri"/>
              </a:rPr>
              <a:t>Hyatt </a:t>
            </a:r>
            <a:r>
              <a:rPr b="0" lang="en-US" sz="1600" spc="-1" strike="noStrike">
                <a:solidFill>
                  <a:srgbClr val="672f70"/>
                </a:solidFill>
                <a:latin typeface="Calibri"/>
                <a:ea typeface="Calibri"/>
              </a:rPr>
              <a:t>	</a:t>
            </a:r>
            <a:r>
              <a:rPr b="0" lang="en-US" sz="1600" spc="-1" strike="noStrike">
                <a:solidFill>
                  <a:srgbClr val="672f70"/>
                </a:solidFill>
                <a:latin typeface="Calibri"/>
                <a:ea typeface="Calibri"/>
              </a:rPr>
              <a:t>	</a:t>
            </a:r>
            <a:r>
              <a:rPr b="0" lang="en-US" sz="1600" spc="-1" strike="noStrike">
                <a:solidFill>
                  <a:srgbClr val="672f70"/>
                </a:solidFill>
                <a:latin typeface="Calibri"/>
                <a:ea typeface="Calibri"/>
              </a:rPr>
              <a:t>(to be continued)</a:t>
            </a:r>
            <a:endParaRPr b="0" lang="en-US" sz="1600" spc="-1" strike="noStrike">
              <a:solidFill>
                <a:srgbClr val="672f70"/>
              </a:solidFill>
              <a:latin typeface="Calibri"/>
            </a:endParaRPr>
          </a:p>
          <a:p>
            <a:pPr>
              <a:spcBef>
                <a:spcPts val="400"/>
              </a:spcBef>
              <a:buClr>
                <a:srgbClr val="672f7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72f70"/>
              </a:solidFill>
              <a:latin typeface="Calibri"/>
            </a:endParaRPr>
          </a:p>
        </p:txBody>
      </p:sp>
      <p:pic>
        <p:nvPicPr>
          <p:cNvPr id="1312" name="Picture 2" descr="C:\Users\Katie Satinsky\AppData\Local\Microsoft\Windows\Temporary Internet Files\Content.IE5\X12QWX1M\MP900431761[1].jpg"/>
          <p:cNvPicPr/>
          <p:nvPr/>
        </p:nvPicPr>
        <p:blipFill>
          <a:blip r:embed="rId1"/>
          <a:stretch/>
        </p:blipFill>
        <p:spPr>
          <a:xfrm>
            <a:off x="5505480" y="2365200"/>
            <a:ext cx="3638520" cy="242604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PlaceHolder 1"/>
          <p:cNvSpPr>
            <a:spLocks noGrp="1"/>
          </p:cNvSpPr>
          <p:nvPr>
            <p:ph type="title"/>
          </p:nvPr>
        </p:nvSpPr>
        <p:spPr>
          <a:xfrm>
            <a:off x="228240" y="228240"/>
            <a:ext cx="8534520" cy="585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Direct Approach in the Introduction </a:t>
            </a:r>
            <a:endParaRPr b="0" lang="en-US" sz="3600" spc="-1" strike="noStrike">
              <a:solidFill>
                <a:srgbClr val="ffffff"/>
              </a:solidFill>
              <a:latin typeface="Trebuchet MS"/>
            </a:endParaRPr>
          </a:p>
        </p:txBody>
      </p:sp>
      <p:sp>
        <p:nvSpPr>
          <p:cNvPr id="1314" name=""/>
          <p:cNvSpPr txBox="1"/>
          <p:nvPr/>
        </p:nvSpPr>
        <p:spPr>
          <a:xfrm>
            <a:off x="555480" y="2449080"/>
            <a:ext cx="8229600" cy="3646440"/>
          </a:xfrm>
          <a:prstGeom prst="rect">
            <a:avLst/>
          </a:prstGeom>
          <a:noFill/>
          <a:ln w="9360">
            <a:solidFill>
              <a:srgbClr val="fdb913"/>
            </a:solidFill>
            <a:miter/>
          </a:ln>
        </p:spPr>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3b27"/>
                </a:solidFill>
                <a:latin typeface="Calibri"/>
              </a:rPr>
              <a:t>Thank you for hiring our firm to redesign Bistro Q's menu. This report describes our initial ideas and serves as a starting point for discussion. We're excited about the opportunity to work with you and are confident that together we'll create an attractive, innovative menu that is easy to understand. In this report, you will read the project objectives as we understand them, our straw‐model design, a proposed budget, and next steps. We look forward to your feedback on our proposed approach at our next meeting, on November 1.</a:t>
            </a:r>
            <a:endParaRPr b="0" lang="en-US" sz="2400" spc="-1" strike="noStrike">
              <a:solidFill>
                <a:srgbClr val="672f70"/>
              </a:solidFill>
              <a:latin typeface="Calibri"/>
            </a:endParaRPr>
          </a:p>
        </p:txBody>
      </p:sp>
      <p:sp>
        <p:nvSpPr>
          <p:cNvPr id="1315" name="TextBox 3"/>
          <p:cNvSpPr/>
          <p:nvPr/>
        </p:nvSpPr>
        <p:spPr>
          <a:xfrm>
            <a:off x="1871640" y="1335240"/>
            <a:ext cx="5951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72f70"/>
                </a:solidFill>
                <a:latin typeface="Calibri"/>
                <a:ea typeface="Calibri"/>
              </a:rPr>
              <a:t>Can you identify the purpose, </a:t>
            </a:r>
            <a:br>
              <a:rPr sz="2400"/>
            </a:br>
            <a:r>
              <a:rPr b="1" i="1" lang="en-US" sz="2400" spc="-1" strike="noStrike">
                <a:solidFill>
                  <a:srgbClr val="672f70"/>
                </a:solidFill>
                <a:latin typeface="Calibri"/>
                <a:ea typeface="Calibri"/>
              </a:rPr>
              <a:t>main points, and preview?</a:t>
            </a:r>
            <a:endParaRPr b="0" lang="en-US" sz="2400" spc="-1" strike="noStrike">
              <a:solidFill>
                <a:srgbClr val="672f70"/>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title"/>
          </p:nvPr>
        </p:nvSpPr>
        <p:spPr>
          <a:xfrm>
            <a:off x="228240" y="228240"/>
            <a:ext cx="8534520" cy="585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Direct Approach in the Introduction </a:t>
            </a:r>
            <a:endParaRPr b="0" lang="en-US" sz="3600" spc="-1" strike="noStrike">
              <a:solidFill>
                <a:srgbClr val="ffffff"/>
              </a:solidFill>
              <a:latin typeface="Trebuchet MS"/>
            </a:endParaRPr>
          </a:p>
        </p:txBody>
      </p:sp>
      <p:sp>
        <p:nvSpPr>
          <p:cNvPr id="1317" name=""/>
          <p:cNvSpPr txBox="1"/>
          <p:nvPr/>
        </p:nvSpPr>
        <p:spPr>
          <a:xfrm>
            <a:off x="555480" y="2449080"/>
            <a:ext cx="8229600" cy="3646440"/>
          </a:xfrm>
          <a:prstGeom prst="rect">
            <a:avLst/>
          </a:prstGeom>
          <a:noFill/>
          <a:ln w="9360">
            <a:solidFill>
              <a:srgbClr val="fdb913"/>
            </a:solidFill>
            <a:miter/>
          </a:ln>
        </p:spPr>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2f5c9b"/>
                </a:solidFill>
                <a:uFillTx/>
                <a:latin typeface="Calibri"/>
              </a:rPr>
              <a:t>Thank you for hiring our firm to redesign Bistro Q's menu. This report describes our initial ideas and serves as a starting point for discussion.</a:t>
            </a:r>
            <a:r>
              <a:rPr b="0" lang="en-US" sz="2400" spc="-1" strike="noStrike">
                <a:solidFill>
                  <a:srgbClr val="543b27"/>
                </a:solidFill>
                <a:latin typeface="Calibri"/>
              </a:rPr>
              <a:t> We're excited about the opportunity to work with you and are confident that together we'll create an attractive, innovative menu that is easy to understand. In this report, you will read the project objectives as we understand them, our straw‐model design, a proposed budget, and next steps. </a:t>
            </a:r>
            <a:r>
              <a:rPr b="1" lang="en-US" sz="2400" spc="-1" strike="noStrike" u="sng">
                <a:solidFill>
                  <a:srgbClr val="2f5c9b"/>
                </a:solidFill>
                <a:uFillTx/>
                <a:latin typeface="Calibri"/>
              </a:rPr>
              <a:t>We look forward to your feedback on our proposed approach at our next meeting, on November 1.</a:t>
            </a:r>
            <a:endParaRPr b="0" lang="en-US" sz="2400" spc="-1" strike="noStrike">
              <a:solidFill>
                <a:srgbClr val="672f70"/>
              </a:solidFill>
              <a:latin typeface="Calibri"/>
            </a:endParaRPr>
          </a:p>
        </p:txBody>
      </p:sp>
      <p:sp>
        <p:nvSpPr>
          <p:cNvPr id="1318" name="TextBox 3"/>
          <p:cNvSpPr/>
          <p:nvPr/>
        </p:nvSpPr>
        <p:spPr>
          <a:xfrm>
            <a:off x="1871640" y="1335240"/>
            <a:ext cx="5951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72f70"/>
                </a:solidFill>
                <a:latin typeface="Calibri"/>
                <a:ea typeface="Calibri"/>
              </a:rPr>
              <a:t>Can you identify the purpose, </a:t>
            </a:r>
            <a:br>
              <a:rPr sz="2400"/>
            </a:br>
            <a:r>
              <a:rPr b="1" i="1" lang="en-US" sz="2400" spc="-1" strike="noStrike">
                <a:solidFill>
                  <a:srgbClr val="672f70"/>
                </a:solidFill>
                <a:latin typeface="Calibri"/>
                <a:ea typeface="Calibri"/>
              </a:rPr>
              <a:t>main points, and preview?</a:t>
            </a:r>
            <a:endParaRPr b="0" lang="en-US" sz="2400" spc="-1" strike="noStrike">
              <a:solidFill>
                <a:srgbClr val="672f70"/>
              </a:solidFill>
              <a:latin typeface="Arial"/>
            </a:endParaRPr>
          </a:p>
        </p:txBody>
      </p:sp>
      <p:sp>
        <p:nvSpPr>
          <p:cNvPr id="1319" name="Freeform 10"/>
          <p:cNvSpPr/>
          <p:nvPr/>
        </p:nvSpPr>
        <p:spPr>
          <a:xfrm>
            <a:off x="380880" y="1938240"/>
            <a:ext cx="1738440" cy="457200"/>
          </a:xfrm>
          <a:prstGeom prst="pie">
            <a:avLst/>
          </a:prstGeom>
          <a:solidFill>
            <a:srgbClr val="fdb913"/>
          </a:solidFill>
          <a:ln w="12600">
            <a:solidFill>
              <a:srgbClr val="ffffff"/>
            </a:solidFill>
            <a:round/>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43b27"/>
                </a:solidFill>
                <a:latin typeface="Calibri"/>
                <a:ea typeface="Calibri"/>
              </a:rPr>
              <a:t>Purpose</a:t>
            </a:r>
            <a:endParaRPr b="0" lang="en-US" sz="1800" spc="-1" strike="noStrike">
              <a:solidFill>
                <a:srgbClr val="672f70"/>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title"/>
          </p:nvPr>
        </p:nvSpPr>
        <p:spPr>
          <a:xfrm>
            <a:off x="228240" y="228240"/>
            <a:ext cx="8534520" cy="585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Direct Approach in the Introduction </a:t>
            </a:r>
            <a:endParaRPr b="0" lang="en-US" sz="3600" spc="-1" strike="noStrike">
              <a:solidFill>
                <a:srgbClr val="ffffff"/>
              </a:solidFill>
              <a:latin typeface="Trebuchet MS"/>
            </a:endParaRPr>
          </a:p>
        </p:txBody>
      </p:sp>
      <p:sp>
        <p:nvSpPr>
          <p:cNvPr id="1321" name=""/>
          <p:cNvSpPr txBox="1"/>
          <p:nvPr/>
        </p:nvSpPr>
        <p:spPr>
          <a:xfrm>
            <a:off x="555480" y="2449080"/>
            <a:ext cx="8229600" cy="3646440"/>
          </a:xfrm>
          <a:prstGeom prst="rect">
            <a:avLst/>
          </a:prstGeom>
          <a:noFill/>
          <a:ln w="9360">
            <a:solidFill>
              <a:srgbClr val="fdb913"/>
            </a:solidFill>
            <a:miter/>
          </a:ln>
        </p:spPr>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3b27"/>
                </a:solidFill>
                <a:latin typeface="Calibri"/>
              </a:rPr>
              <a:t>Thank you for hiring our firm to redesign Bistro Q's menu. This report describes our initial ideas and serves as a starting point for discussion. </a:t>
            </a:r>
            <a:r>
              <a:rPr b="1" lang="en-US" sz="2400" spc="-1" strike="noStrike" u="sng">
                <a:solidFill>
                  <a:srgbClr val="2f5c9b"/>
                </a:solidFill>
                <a:uFillTx/>
                <a:latin typeface="Calibri"/>
              </a:rPr>
              <a:t>We're excited about the opportunity to work with you and are confident that together we'll create an attractive, innovative menu that is easy to understand. </a:t>
            </a:r>
            <a:r>
              <a:rPr b="0" lang="en-US" sz="2400" spc="-1" strike="noStrike">
                <a:solidFill>
                  <a:srgbClr val="543b27"/>
                </a:solidFill>
                <a:latin typeface="Calibri"/>
              </a:rPr>
              <a:t>In this report, you will read the project objectives as we understand them, our straw‐model design, a proposed budget, and next steps. We look forward to your feedback on our proposed approach at our next meeting, on November 1.</a:t>
            </a:r>
            <a:endParaRPr b="0" lang="en-US" sz="2400" spc="-1" strike="noStrike">
              <a:solidFill>
                <a:srgbClr val="672f70"/>
              </a:solidFill>
              <a:latin typeface="Calibri"/>
            </a:endParaRPr>
          </a:p>
        </p:txBody>
      </p:sp>
      <p:sp>
        <p:nvSpPr>
          <p:cNvPr id="1322" name="TextBox 3"/>
          <p:cNvSpPr/>
          <p:nvPr/>
        </p:nvSpPr>
        <p:spPr>
          <a:xfrm>
            <a:off x="1871640" y="1335240"/>
            <a:ext cx="5951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72f70"/>
                </a:solidFill>
                <a:latin typeface="Calibri"/>
                <a:ea typeface="Calibri"/>
              </a:rPr>
              <a:t>Can you identify the purpose, </a:t>
            </a:r>
            <a:br>
              <a:rPr sz="2400"/>
            </a:br>
            <a:r>
              <a:rPr b="1" i="1" lang="en-US" sz="2400" spc="-1" strike="noStrike">
                <a:solidFill>
                  <a:srgbClr val="672f70"/>
                </a:solidFill>
                <a:latin typeface="Calibri"/>
                <a:ea typeface="Calibri"/>
              </a:rPr>
              <a:t>main points, and preview?</a:t>
            </a:r>
            <a:endParaRPr b="0" lang="en-US" sz="2400" spc="-1" strike="noStrike">
              <a:solidFill>
                <a:srgbClr val="672f70"/>
              </a:solidFill>
              <a:latin typeface="Arial"/>
            </a:endParaRPr>
          </a:p>
        </p:txBody>
      </p:sp>
      <p:sp>
        <p:nvSpPr>
          <p:cNvPr id="1323" name="Freeform 10"/>
          <p:cNvSpPr/>
          <p:nvPr/>
        </p:nvSpPr>
        <p:spPr>
          <a:xfrm>
            <a:off x="2149560" y="2789280"/>
            <a:ext cx="1738080" cy="457200"/>
          </a:xfrm>
          <a:prstGeom prst="pie">
            <a:avLst/>
          </a:prstGeom>
          <a:solidFill>
            <a:srgbClr val="fdb913"/>
          </a:solidFill>
          <a:ln w="12600">
            <a:solidFill>
              <a:srgbClr val="ffffff"/>
            </a:solidFill>
            <a:round/>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43b27"/>
                </a:solidFill>
                <a:latin typeface="Calibri"/>
                <a:ea typeface="Calibri"/>
              </a:rPr>
              <a:t>Main Points</a:t>
            </a:r>
            <a:endParaRPr b="0" lang="en-US" sz="1800" spc="-1" strike="noStrike">
              <a:solidFill>
                <a:srgbClr val="672f70"/>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title"/>
          </p:nvPr>
        </p:nvSpPr>
        <p:spPr>
          <a:xfrm>
            <a:off x="228240" y="228240"/>
            <a:ext cx="8534520" cy="585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Direct Approach in the Introduction </a:t>
            </a:r>
            <a:endParaRPr b="0" lang="en-US" sz="3600" spc="-1" strike="noStrike">
              <a:solidFill>
                <a:srgbClr val="ffffff"/>
              </a:solidFill>
              <a:latin typeface="Trebuchet MS"/>
            </a:endParaRPr>
          </a:p>
        </p:txBody>
      </p:sp>
      <p:sp>
        <p:nvSpPr>
          <p:cNvPr id="1325" name=""/>
          <p:cNvSpPr txBox="1"/>
          <p:nvPr/>
        </p:nvSpPr>
        <p:spPr>
          <a:xfrm>
            <a:off x="555480" y="2449080"/>
            <a:ext cx="8229600" cy="3646440"/>
          </a:xfrm>
          <a:prstGeom prst="rect">
            <a:avLst/>
          </a:prstGeom>
          <a:noFill/>
          <a:ln w="9360">
            <a:solidFill>
              <a:srgbClr val="fdb913"/>
            </a:solidFill>
            <a:miter/>
          </a:ln>
        </p:spPr>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3b27"/>
                </a:solidFill>
                <a:latin typeface="Calibri"/>
              </a:rPr>
              <a:t>Thank you for hiring our firm to redesign Bistro Q's menu. This report describes our initial ideas and serves as a starting point for discussion. We're excited about the opportunity to work with you and are confident that together we'll create an attractive, innovative menu that is easy to understand. </a:t>
            </a:r>
            <a:r>
              <a:rPr b="1" lang="en-US" sz="2400" spc="-1" strike="noStrike" u="sng">
                <a:solidFill>
                  <a:srgbClr val="2f5c9b"/>
                </a:solidFill>
                <a:uFillTx/>
                <a:latin typeface="Calibri"/>
              </a:rPr>
              <a:t>In this report, you will read the project objectives as we understand them, our straw‐model design, a proposed budget, and next steps. </a:t>
            </a:r>
            <a:r>
              <a:rPr b="0" lang="en-US" sz="2400" spc="-1" strike="noStrike">
                <a:solidFill>
                  <a:srgbClr val="543b27"/>
                </a:solidFill>
                <a:latin typeface="Calibri"/>
              </a:rPr>
              <a:t>We look forward to your feedback on our proposed approach at our next meeting, on November 1.</a:t>
            </a:r>
            <a:endParaRPr b="0" lang="en-US" sz="2400" spc="-1" strike="noStrike">
              <a:solidFill>
                <a:srgbClr val="672f70"/>
              </a:solidFill>
              <a:latin typeface="Calibri"/>
            </a:endParaRPr>
          </a:p>
        </p:txBody>
      </p:sp>
      <p:sp>
        <p:nvSpPr>
          <p:cNvPr id="1326" name="TextBox 3"/>
          <p:cNvSpPr/>
          <p:nvPr/>
        </p:nvSpPr>
        <p:spPr>
          <a:xfrm>
            <a:off x="1871640" y="1335240"/>
            <a:ext cx="5951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72f70"/>
                </a:solidFill>
                <a:latin typeface="Calibri"/>
                <a:ea typeface="Calibri"/>
              </a:rPr>
              <a:t>Can you identify the purpose, </a:t>
            </a:r>
            <a:br>
              <a:rPr sz="2400"/>
            </a:br>
            <a:r>
              <a:rPr b="1" i="1" lang="en-US" sz="2400" spc="-1" strike="noStrike">
                <a:solidFill>
                  <a:srgbClr val="672f70"/>
                </a:solidFill>
                <a:latin typeface="Calibri"/>
                <a:ea typeface="Calibri"/>
              </a:rPr>
              <a:t>main points, and preview?</a:t>
            </a:r>
            <a:endParaRPr b="0" lang="en-US" sz="2400" spc="-1" strike="noStrike">
              <a:solidFill>
                <a:srgbClr val="672f70"/>
              </a:solidFill>
              <a:latin typeface="Arial"/>
            </a:endParaRPr>
          </a:p>
        </p:txBody>
      </p:sp>
      <p:sp>
        <p:nvSpPr>
          <p:cNvPr id="1327" name="Freeform 10"/>
          <p:cNvSpPr/>
          <p:nvPr/>
        </p:nvSpPr>
        <p:spPr>
          <a:xfrm>
            <a:off x="5851440" y="3522600"/>
            <a:ext cx="1739880" cy="457200"/>
          </a:xfrm>
          <a:prstGeom prst="pie">
            <a:avLst/>
          </a:prstGeom>
          <a:solidFill>
            <a:srgbClr val="fdb913"/>
          </a:solidFill>
          <a:ln w="12600">
            <a:solidFill>
              <a:srgbClr val="ffffff"/>
            </a:solidFill>
            <a:round/>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43b27"/>
                </a:solidFill>
                <a:latin typeface="Calibri"/>
                <a:ea typeface="Calibri"/>
              </a:rPr>
              <a:t>Preview</a:t>
            </a:r>
            <a:endParaRPr b="0" lang="en-US" sz="1800" spc="-1" strike="noStrike">
              <a:solidFill>
                <a:srgbClr val="672f70"/>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title"/>
          </p:nvPr>
        </p:nvSpPr>
        <p:spPr>
          <a:xfrm>
            <a:off x="228240" y="228240"/>
            <a:ext cx="8534520" cy="585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Indirect Approach in the Introduction </a:t>
            </a:r>
            <a:endParaRPr b="0" lang="en-US" sz="3600" spc="-1" strike="noStrike">
              <a:solidFill>
                <a:srgbClr val="ffffff"/>
              </a:solidFill>
              <a:latin typeface="Trebuchet MS"/>
            </a:endParaRPr>
          </a:p>
        </p:txBody>
      </p:sp>
      <p:sp>
        <p:nvSpPr>
          <p:cNvPr id="1329" name=""/>
          <p:cNvSpPr txBox="1"/>
          <p:nvPr/>
        </p:nvSpPr>
        <p:spPr>
          <a:xfrm>
            <a:off x="646200" y="2466720"/>
            <a:ext cx="8229600" cy="3382920"/>
          </a:xfrm>
          <a:prstGeom prst="rect">
            <a:avLst/>
          </a:prstGeom>
          <a:solidFill>
            <a:srgbClr val="ffffff"/>
          </a:solidFill>
          <a:ln w="25560">
            <a:solidFill>
              <a:srgbClr val="fdb913"/>
            </a:solidFill>
            <a:miter/>
          </a:ln>
        </p:spPr>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3b27"/>
                </a:solidFill>
                <a:latin typeface="Calibri"/>
                <a:ea typeface="Calibri"/>
              </a:rPr>
              <a:t>Last week, you mentioned that you would like to do something special for our major clients. Based on my discussions with several people over the past six months, I recommend building a community of our key product users. In this proposal, I’ll discuss what other firms are doing and what results they have seen from building client communities. You’ll see the potential benefits of hosting a conference for our top 50 clients: improving the perception of our brand and increasing future sales. </a:t>
            </a:r>
            <a:endParaRPr b="0" lang="en-US" sz="2400" spc="-1" strike="noStrike">
              <a:solidFill>
                <a:srgbClr val="672f70"/>
              </a:solidFill>
              <a:latin typeface="Calibri"/>
            </a:endParaRPr>
          </a:p>
        </p:txBody>
      </p:sp>
      <p:sp>
        <p:nvSpPr>
          <p:cNvPr id="1330" name="TextBox 4"/>
          <p:cNvSpPr/>
          <p:nvPr/>
        </p:nvSpPr>
        <p:spPr>
          <a:xfrm>
            <a:off x="1871640" y="1335240"/>
            <a:ext cx="5951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72f70"/>
                </a:solidFill>
                <a:latin typeface="Calibri"/>
                <a:ea typeface="Calibri"/>
              </a:rPr>
              <a:t>Can you identify the purpose, </a:t>
            </a:r>
            <a:br>
              <a:rPr sz="2400"/>
            </a:br>
            <a:r>
              <a:rPr b="1" i="1" lang="en-US" sz="2400" spc="-1" strike="noStrike">
                <a:solidFill>
                  <a:srgbClr val="672f70"/>
                </a:solidFill>
                <a:latin typeface="Calibri"/>
                <a:ea typeface="Calibri"/>
              </a:rPr>
              <a:t>main points, and preview?</a:t>
            </a:r>
            <a:endParaRPr b="0" lang="en-US" sz="2400" spc="-1" strike="noStrike">
              <a:solidFill>
                <a:srgbClr val="672f7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PlaceHolder 1"/>
          <p:cNvSpPr>
            <a:spLocks noGrp="1"/>
          </p:cNvSpPr>
          <p:nvPr>
            <p:ph type="title"/>
          </p:nvPr>
        </p:nvSpPr>
        <p:spPr>
          <a:xfrm>
            <a:off x="228240" y="228240"/>
            <a:ext cx="8534520" cy="585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Indirect Approach in the Introduction </a:t>
            </a:r>
            <a:endParaRPr b="0" lang="en-US" sz="3600" spc="-1" strike="noStrike">
              <a:solidFill>
                <a:srgbClr val="ffffff"/>
              </a:solidFill>
              <a:latin typeface="Trebuchet MS"/>
            </a:endParaRPr>
          </a:p>
        </p:txBody>
      </p:sp>
      <p:sp>
        <p:nvSpPr>
          <p:cNvPr id="1332" name=""/>
          <p:cNvSpPr txBox="1"/>
          <p:nvPr/>
        </p:nvSpPr>
        <p:spPr>
          <a:xfrm>
            <a:off x="646200" y="2466720"/>
            <a:ext cx="8229600" cy="3382920"/>
          </a:xfrm>
          <a:prstGeom prst="rect">
            <a:avLst/>
          </a:prstGeom>
          <a:solidFill>
            <a:srgbClr val="ffffff"/>
          </a:solidFill>
          <a:ln w="25560">
            <a:solidFill>
              <a:srgbClr val="fdb913"/>
            </a:solidFill>
            <a:miter/>
          </a:ln>
        </p:spPr>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3b27"/>
                </a:solidFill>
                <a:latin typeface="Calibri"/>
                <a:ea typeface="Calibri"/>
              </a:rPr>
              <a:t>Last week, you mentioned that </a:t>
            </a:r>
            <a:r>
              <a:rPr b="1" lang="en-US" sz="2400" spc="-1" strike="noStrike" u="sng">
                <a:solidFill>
                  <a:srgbClr val="2f5c9b"/>
                </a:solidFill>
                <a:uFillTx/>
                <a:latin typeface="Calibri"/>
                <a:ea typeface="Calibri"/>
              </a:rPr>
              <a:t>you would like to do something special for our major clients</a:t>
            </a:r>
            <a:r>
              <a:rPr b="0" lang="en-US" sz="2400" spc="-1" strike="noStrike">
                <a:solidFill>
                  <a:srgbClr val="543b27"/>
                </a:solidFill>
                <a:latin typeface="Calibri"/>
                <a:ea typeface="Calibri"/>
              </a:rPr>
              <a:t>. Based on my discussions with several people over the past six months, I recommend building a community of our key product users. In this proposal, I’ll discuss what other firms are doing and what results they have seen from building client communities. You’ll see the potential benefits of hosting a conference for our top 50 clients: improving the perception of our brand and increasing future sales. </a:t>
            </a:r>
            <a:endParaRPr b="0" lang="en-US" sz="2400" spc="-1" strike="noStrike">
              <a:solidFill>
                <a:srgbClr val="672f70"/>
              </a:solidFill>
              <a:latin typeface="Calibri"/>
            </a:endParaRPr>
          </a:p>
        </p:txBody>
      </p:sp>
      <p:sp>
        <p:nvSpPr>
          <p:cNvPr id="1333" name="TextBox 4"/>
          <p:cNvSpPr/>
          <p:nvPr/>
        </p:nvSpPr>
        <p:spPr>
          <a:xfrm>
            <a:off x="1871640" y="1335240"/>
            <a:ext cx="5951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72f70"/>
                </a:solidFill>
                <a:latin typeface="Calibri"/>
                <a:ea typeface="Calibri"/>
              </a:rPr>
              <a:t>Can you identify the purpose, </a:t>
            </a:r>
            <a:br>
              <a:rPr sz="2400"/>
            </a:br>
            <a:r>
              <a:rPr b="1" i="1" lang="en-US" sz="2400" spc="-1" strike="noStrike">
                <a:solidFill>
                  <a:srgbClr val="672f70"/>
                </a:solidFill>
                <a:latin typeface="Calibri"/>
                <a:ea typeface="Calibri"/>
              </a:rPr>
              <a:t>main points, and preview?</a:t>
            </a:r>
            <a:endParaRPr b="0" lang="en-US" sz="2400" spc="-1" strike="noStrike">
              <a:solidFill>
                <a:srgbClr val="672f70"/>
              </a:solidFill>
              <a:latin typeface="Arial"/>
            </a:endParaRPr>
          </a:p>
        </p:txBody>
      </p:sp>
      <p:sp>
        <p:nvSpPr>
          <p:cNvPr id="1334" name="Freeform 10"/>
          <p:cNvSpPr/>
          <p:nvPr/>
        </p:nvSpPr>
        <p:spPr>
          <a:xfrm>
            <a:off x="4386240" y="2166840"/>
            <a:ext cx="1738440" cy="457200"/>
          </a:xfrm>
          <a:prstGeom prst="pie">
            <a:avLst/>
          </a:prstGeom>
          <a:solidFill>
            <a:srgbClr val="fdb913"/>
          </a:solidFill>
          <a:ln w="12600">
            <a:solidFill>
              <a:srgbClr val="ffffff"/>
            </a:solidFill>
            <a:round/>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43b27"/>
                </a:solidFill>
                <a:latin typeface="Calibri"/>
                <a:ea typeface="Calibri"/>
              </a:rPr>
              <a:t>Purpose</a:t>
            </a:r>
            <a:endParaRPr b="0" lang="en-US" sz="1800" spc="-1" strike="noStrike">
              <a:solidFill>
                <a:srgbClr val="672f7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Rectangle 5"/>
          <p:cNvSpPr/>
          <p:nvPr/>
        </p:nvSpPr>
        <p:spPr>
          <a:xfrm rot="18858000">
            <a:off x="2917440" y="2313000"/>
            <a:ext cx="3200400" cy="3200400"/>
          </a:xfrm>
          <a:prstGeom prst="rect">
            <a:avLst/>
          </a:prstGeom>
          <a:solidFill>
            <a:srgbClr val="e1e7f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2f70"/>
              </a:solidFill>
              <a:latin typeface="Arial"/>
            </a:endParaRPr>
          </a:p>
        </p:txBody>
      </p:sp>
      <p:sp>
        <p:nvSpPr>
          <p:cNvPr id="1252" name="Title Placeholder 10"/>
          <p:cNvSpPr/>
          <p:nvPr/>
        </p:nvSpPr>
        <p:spPr>
          <a:xfrm>
            <a:off x="66600" y="228600"/>
            <a:ext cx="89917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he Writing Process</a:t>
            </a:r>
            <a:endParaRPr b="0" lang="en-US" sz="4400" spc="-1" strike="noStrike">
              <a:solidFill>
                <a:srgbClr val="672f70"/>
              </a:solidFill>
              <a:latin typeface="Arial"/>
            </a:endParaRPr>
          </a:p>
        </p:txBody>
      </p:sp>
      <p:pic>
        <p:nvPicPr>
          <p:cNvPr id="1253" name="Diagram 4" descr=""/>
          <p:cNvPicPr/>
          <p:nvPr/>
        </p:nvPicPr>
        <p:blipFill>
          <a:blip r:embed="rId1"/>
          <a:stretch/>
        </p:blipFill>
        <p:spPr>
          <a:xfrm>
            <a:off x="1468440" y="1773360"/>
            <a:ext cx="6121440" cy="4066920"/>
          </a:xfrm>
          <a:prstGeom prst="rect">
            <a:avLst/>
          </a:prstGeom>
          <a:ln w="0">
            <a:noFill/>
          </a:ln>
        </p:spPr>
      </p:pic>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PlaceHolder 1"/>
          <p:cNvSpPr>
            <a:spLocks noGrp="1"/>
          </p:cNvSpPr>
          <p:nvPr>
            <p:ph type="title"/>
          </p:nvPr>
        </p:nvSpPr>
        <p:spPr>
          <a:xfrm>
            <a:off x="228240" y="228240"/>
            <a:ext cx="8534520" cy="585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Indirect Approach in the Introduction </a:t>
            </a:r>
            <a:endParaRPr b="0" lang="en-US" sz="3600" spc="-1" strike="noStrike">
              <a:solidFill>
                <a:srgbClr val="ffffff"/>
              </a:solidFill>
              <a:latin typeface="Trebuchet MS"/>
            </a:endParaRPr>
          </a:p>
        </p:txBody>
      </p:sp>
      <p:sp>
        <p:nvSpPr>
          <p:cNvPr id="1336" name=""/>
          <p:cNvSpPr txBox="1"/>
          <p:nvPr/>
        </p:nvSpPr>
        <p:spPr>
          <a:xfrm>
            <a:off x="646200" y="2466720"/>
            <a:ext cx="8229600" cy="3382920"/>
          </a:xfrm>
          <a:prstGeom prst="rect">
            <a:avLst/>
          </a:prstGeom>
          <a:solidFill>
            <a:srgbClr val="ffffff"/>
          </a:solidFill>
          <a:ln w="25560">
            <a:solidFill>
              <a:srgbClr val="fdb913"/>
            </a:solidFill>
            <a:miter/>
          </a:ln>
        </p:spPr>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3b27"/>
                </a:solidFill>
                <a:latin typeface="Calibri"/>
                <a:ea typeface="Calibri"/>
              </a:rPr>
              <a:t>Last week, you mentioned that you would like to do something special for our major clients. Based on my discussions with several people over the past six months, </a:t>
            </a:r>
            <a:r>
              <a:rPr b="1" lang="en-US" sz="2400" spc="-1" strike="noStrike" u="sng">
                <a:solidFill>
                  <a:srgbClr val="2f5c9b"/>
                </a:solidFill>
                <a:uFillTx/>
                <a:latin typeface="Calibri"/>
                <a:ea typeface="Calibri"/>
              </a:rPr>
              <a:t>I recommend building a community of our key product users.</a:t>
            </a:r>
            <a:r>
              <a:rPr b="0" lang="en-US" sz="2400" spc="-1" strike="noStrike">
                <a:solidFill>
                  <a:srgbClr val="543b27"/>
                </a:solidFill>
                <a:latin typeface="Calibri"/>
                <a:ea typeface="Calibri"/>
              </a:rPr>
              <a:t> In this proposal, I’ll discuss what other firms are doing and what results they have seen from building client communities. </a:t>
            </a:r>
            <a:r>
              <a:rPr b="1" lang="en-US" sz="2400" spc="-1" strike="noStrike" u="sng">
                <a:solidFill>
                  <a:srgbClr val="2f5c9b"/>
                </a:solidFill>
                <a:uFillTx/>
                <a:latin typeface="Calibri"/>
                <a:ea typeface="Calibri"/>
              </a:rPr>
              <a:t>You’ll see the potential benefits of hosting a conference for our top 50 clients: improving the perception of our brand and increasing future sales. </a:t>
            </a:r>
            <a:endParaRPr b="0" lang="en-US" sz="2400" spc="-1" strike="noStrike">
              <a:solidFill>
                <a:srgbClr val="672f70"/>
              </a:solidFill>
              <a:latin typeface="Calibri"/>
            </a:endParaRPr>
          </a:p>
        </p:txBody>
      </p:sp>
      <p:sp>
        <p:nvSpPr>
          <p:cNvPr id="1337" name="TextBox 4"/>
          <p:cNvSpPr/>
          <p:nvPr/>
        </p:nvSpPr>
        <p:spPr>
          <a:xfrm>
            <a:off x="1871640" y="1335240"/>
            <a:ext cx="5951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72f70"/>
                </a:solidFill>
                <a:latin typeface="Calibri"/>
                <a:ea typeface="Calibri"/>
              </a:rPr>
              <a:t>Can you identify the purpose, </a:t>
            </a:r>
            <a:br>
              <a:rPr sz="2400"/>
            </a:br>
            <a:r>
              <a:rPr b="1" i="1" lang="en-US" sz="2400" spc="-1" strike="noStrike">
                <a:solidFill>
                  <a:srgbClr val="672f70"/>
                </a:solidFill>
                <a:latin typeface="Calibri"/>
                <a:ea typeface="Calibri"/>
              </a:rPr>
              <a:t>main points, and preview?</a:t>
            </a:r>
            <a:endParaRPr b="0" lang="en-US" sz="2400" spc="-1" strike="noStrike">
              <a:solidFill>
                <a:srgbClr val="672f70"/>
              </a:solidFill>
              <a:latin typeface="Arial"/>
            </a:endParaRPr>
          </a:p>
        </p:txBody>
      </p:sp>
      <p:sp>
        <p:nvSpPr>
          <p:cNvPr id="1338" name="Freeform 10"/>
          <p:cNvSpPr/>
          <p:nvPr/>
        </p:nvSpPr>
        <p:spPr>
          <a:xfrm>
            <a:off x="5445000" y="2851200"/>
            <a:ext cx="1739880" cy="457200"/>
          </a:xfrm>
          <a:prstGeom prst="pie">
            <a:avLst/>
          </a:prstGeom>
          <a:solidFill>
            <a:srgbClr val="fdb913"/>
          </a:solidFill>
          <a:ln w="12600">
            <a:solidFill>
              <a:srgbClr val="ffffff"/>
            </a:solidFill>
            <a:round/>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43b27"/>
                </a:solidFill>
                <a:latin typeface="Calibri"/>
                <a:ea typeface="Calibri"/>
              </a:rPr>
              <a:t>Main Points</a:t>
            </a:r>
            <a:endParaRPr b="0" lang="en-US" sz="1800" spc="-1" strike="noStrike">
              <a:solidFill>
                <a:srgbClr val="672f70"/>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title"/>
          </p:nvPr>
        </p:nvSpPr>
        <p:spPr>
          <a:xfrm>
            <a:off x="228240" y="228240"/>
            <a:ext cx="8534520" cy="585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Indirect Approach in the Introduction </a:t>
            </a:r>
            <a:endParaRPr b="0" lang="en-US" sz="3600" spc="-1" strike="noStrike">
              <a:solidFill>
                <a:srgbClr val="ffffff"/>
              </a:solidFill>
              <a:latin typeface="Trebuchet MS"/>
            </a:endParaRPr>
          </a:p>
        </p:txBody>
      </p:sp>
      <p:sp>
        <p:nvSpPr>
          <p:cNvPr id="1340" name=""/>
          <p:cNvSpPr txBox="1"/>
          <p:nvPr/>
        </p:nvSpPr>
        <p:spPr>
          <a:xfrm>
            <a:off x="646200" y="2466720"/>
            <a:ext cx="8229600" cy="3382920"/>
          </a:xfrm>
          <a:prstGeom prst="rect">
            <a:avLst/>
          </a:prstGeom>
          <a:solidFill>
            <a:srgbClr val="ffffff"/>
          </a:solidFill>
          <a:ln w="25560">
            <a:solidFill>
              <a:srgbClr val="fdb913"/>
            </a:solidFill>
            <a:miter/>
          </a:ln>
        </p:spPr>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3b27"/>
                </a:solidFill>
                <a:latin typeface="Calibri"/>
                <a:ea typeface="Calibri"/>
              </a:rPr>
              <a:t>Last week, you mentioned that you would like to do something special for our major clients.  Based on my discussions with several people over the past six months, I believe we could build a community of our key product users. </a:t>
            </a:r>
            <a:r>
              <a:rPr b="1" lang="en-US" sz="2400" spc="-1" strike="noStrike" u="sng">
                <a:solidFill>
                  <a:srgbClr val="2f5c9b"/>
                </a:solidFill>
                <a:uFillTx/>
                <a:latin typeface="Calibri"/>
                <a:ea typeface="Calibri"/>
              </a:rPr>
              <a:t>In this proposal, I’ll discuss what other firms are doing and what results they have seen from building client communities.</a:t>
            </a:r>
            <a:r>
              <a:rPr b="0" lang="en-US" sz="2400" spc="-1" strike="noStrike">
                <a:solidFill>
                  <a:srgbClr val="2f5c9b"/>
                </a:solidFill>
                <a:latin typeface="Calibri"/>
                <a:ea typeface="Calibri"/>
              </a:rPr>
              <a:t>  </a:t>
            </a:r>
            <a:r>
              <a:rPr b="0" lang="en-US" sz="2400" spc="-1" strike="noStrike">
                <a:solidFill>
                  <a:srgbClr val="543b27"/>
                </a:solidFill>
                <a:latin typeface="Calibri"/>
                <a:ea typeface="Calibri"/>
              </a:rPr>
              <a:t>I will show the potential benefits of hosting a conference for our top 50 clients: improving the perception of our brand and increasing future sales. </a:t>
            </a:r>
            <a:endParaRPr b="0" lang="en-US" sz="2400" spc="-1" strike="noStrike">
              <a:solidFill>
                <a:srgbClr val="672f70"/>
              </a:solidFill>
              <a:latin typeface="Calibri"/>
            </a:endParaRPr>
          </a:p>
        </p:txBody>
      </p:sp>
      <p:sp>
        <p:nvSpPr>
          <p:cNvPr id="1341" name="TextBox 4"/>
          <p:cNvSpPr/>
          <p:nvPr/>
        </p:nvSpPr>
        <p:spPr>
          <a:xfrm>
            <a:off x="1871640" y="1335240"/>
            <a:ext cx="5951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72f70"/>
                </a:solidFill>
                <a:latin typeface="Calibri"/>
                <a:ea typeface="Calibri"/>
              </a:rPr>
              <a:t>Can you identify the purpose, </a:t>
            </a:r>
            <a:br>
              <a:rPr sz="2400"/>
            </a:br>
            <a:r>
              <a:rPr b="1" i="1" lang="en-US" sz="2400" spc="-1" strike="noStrike">
                <a:solidFill>
                  <a:srgbClr val="672f70"/>
                </a:solidFill>
                <a:latin typeface="Calibri"/>
                <a:ea typeface="Calibri"/>
              </a:rPr>
              <a:t>main points, and preview?</a:t>
            </a:r>
            <a:endParaRPr b="0" lang="en-US" sz="2400" spc="-1" strike="noStrike">
              <a:solidFill>
                <a:srgbClr val="672f70"/>
              </a:solidFill>
              <a:latin typeface="Arial"/>
            </a:endParaRPr>
          </a:p>
        </p:txBody>
      </p:sp>
      <p:sp>
        <p:nvSpPr>
          <p:cNvPr id="1342" name="Freeform 10"/>
          <p:cNvSpPr/>
          <p:nvPr/>
        </p:nvSpPr>
        <p:spPr>
          <a:xfrm>
            <a:off x="5170320" y="3189240"/>
            <a:ext cx="1738440" cy="457200"/>
          </a:xfrm>
          <a:prstGeom prst="pie">
            <a:avLst/>
          </a:prstGeom>
          <a:solidFill>
            <a:srgbClr val="fdb913"/>
          </a:solidFill>
          <a:ln w="12600">
            <a:solidFill>
              <a:srgbClr val="ffffff"/>
            </a:solidFill>
            <a:round/>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43b27"/>
                </a:solidFill>
                <a:latin typeface="Calibri"/>
                <a:ea typeface="Calibri"/>
              </a:rPr>
              <a:t>Preview</a:t>
            </a:r>
            <a:endParaRPr b="0" lang="en-US" sz="1800" spc="-1" strike="noStrike">
              <a:solidFill>
                <a:srgbClr val="672f70"/>
              </a:solidFill>
              <a:latin typeface="Arial"/>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Rectangle 2"/>
          <p:cNvSpPr/>
          <p:nvPr/>
        </p:nvSpPr>
        <p:spPr>
          <a:xfrm rot="18858000">
            <a:off x="2917440" y="2313000"/>
            <a:ext cx="3200400" cy="3200400"/>
          </a:xfrm>
          <a:prstGeom prst="rect">
            <a:avLst/>
          </a:prstGeom>
          <a:solidFill>
            <a:srgbClr val="e1e7f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2f70"/>
              </a:solidFill>
              <a:latin typeface="Arial"/>
            </a:endParaRPr>
          </a:p>
        </p:txBody>
      </p:sp>
      <p:sp>
        <p:nvSpPr>
          <p:cNvPr id="1344" name="Title Placeholder 10"/>
          <p:cNvSpPr/>
          <p:nvPr/>
        </p:nvSpPr>
        <p:spPr>
          <a:xfrm>
            <a:off x="66600" y="228600"/>
            <a:ext cx="89917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he Writing Process</a:t>
            </a:r>
            <a:endParaRPr b="0" lang="en-US" sz="4400" spc="-1" strike="noStrike">
              <a:solidFill>
                <a:srgbClr val="672f70"/>
              </a:solidFill>
              <a:latin typeface="Arial"/>
            </a:endParaRPr>
          </a:p>
        </p:txBody>
      </p:sp>
      <p:pic>
        <p:nvPicPr>
          <p:cNvPr id="1345" name="Diagram 4" descr=""/>
          <p:cNvPicPr/>
          <p:nvPr/>
        </p:nvPicPr>
        <p:blipFill>
          <a:blip r:embed="rId1"/>
          <a:stretch/>
        </p:blipFill>
        <p:spPr>
          <a:xfrm>
            <a:off x="1468440" y="1773360"/>
            <a:ext cx="6121440" cy="4066920"/>
          </a:xfrm>
          <a:prstGeom prst="rect">
            <a:avLst/>
          </a:prstGeom>
          <a:ln w="0">
            <a:noFill/>
          </a:ln>
        </p:spPr>
      </p:pic>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6" name="Picture 2" descr="C:\Users\an97\AppData\Local\Microsoft\Windows\Temporary Internet Files\Content.IE5\R09SPQU3\MP900439423[1].jpg"/>
          <p:cNvPicPr/>
          <p:nvPr/>
        </p:nvPicPr>
        <p:blipFill>
          <a:blip r:embed="rId1"/>
          <a:stretch/>
        </p:blipFill>
        <p:spPr>
          <a:xfrm rot="909600">
            <a:off x="3322440" y="2584080"/>
            <a:ext cx="3008160" cy="3164040"/>
          </a:xfrm>
          <a:prstGeom prst="rect">
            <a:avLst/>
          </a:prstGeom>
          <a:ln w="0">
            <a:noFill/>
          </a:ln>
        </p:spPr>
      </p:pic>
      <p:grpSp>
        <p:nvGrpSpPr>
          <p:cNvPr id="1347" name="Group 5"/>
          <p:cNvGrpSpPr/>
          <p:nvPr/>
        </p:nvGrpSpPr>
        <p:grpSpPr>
          <a:xfrm>
            <a:off x="6297480" y="2031840"/>
            <a:ext cx="3071880" cy="3152880"/>
            <a:chOff x="6297480" y="2031840"/>
            <a:chExt cx="3071880" cy="3152880"/>
          </a:xfrm>
        </p:grpSpPr>
        <p:pic>
          <p:nvPicPr>
            <p:cNvPr id="1348" name="Picture 3" descr=""/>
            <p:cNvPicPr/>
            <p:nvPr/>
          </p:nvPicPr>
          <p:blipFill>
            <a:blip r:embed="rId2"/>
            <a:stretch/>
          </p:blipFill>
          <p:spPr>
            <a:xfrm>
              <a:off x="6297480" y="2031840"/>
              <a:ext cx="3071880" cy="3152880"/>
            </a:xfrm>
            <a:prstGeom prst="rect">
              <a:avLst/>
            </a:prstGeom>
            <a:ln w="0">
              <a:noFill/>
            </a:ln>
          </p:spPr>
        </p:pic>
        <p:sp>
          <p:nvSpPr>
            <p:cNvPr id="1349" name="TextBox 7"/>
            <p:cNvSpPr/>
            <p:nvPr/>
          </p:nvSpPr>
          <p:spPr>
            <a:xfrm flipH="1" rot="565200">
              <a:off x="6977880" y="2789280"/>
              <a:ext cx="2017080" cy="1820160"/>
            </a:xfrm>
            <a:prstGeom prst="rect">
              <a:avLst/>
            </a:prstGeom>
            <a:noFill/>
            <a:ln w="0">
              <a:noFill/>
            </a:ln>
          </p:spPr>
          <p:style>
            <a:lnRef idx="0"/>
            <a:fillRef idx="0"/>
            <a:effectRef idx="0"/>
            <a:fontRef idx="minor"/>
          </p:style>
          <p:txBody>
            <a:bodyPr lIns="90000" rIns="90000" tIns="46800" bIns="46800" anchor="t">
              <a:spAutoFit/>
            </a:bodyPr>
            <a:p>
              <a:pPr lvl="1" marL="345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72f70"/>
                  </a:solidFill>
                  <a:latin typeface="Calibri"/>
                </a:rPr>
                <a:t>Set small goals for yourself (e.g., write the first paragraph) and then reward yourself.</a:t>
              </a:r>
              <a:endParaRPr b="0" lang="en-US" sz="1800" spc="-1" strike="noStrike">
                <a:solidFill>
                  <a:srgbClr val="672f70"/>
                </a:solidFill>
                <a:latin typeface="Arial"/>
              </a:endParaRPr>
            </a:p>
          </p:txBody>
        </p:sp>
      </p:grpSp>
      <p:sp>
        <p:nvSpPr>
          <p:cNvPr id="1350"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913"/>
                </a:solidFill>
                <a:latin typeface="Trebuchet MS"/>
              </a:rPr>
              <a:t>Ideas to Stop Procrastinating</a:t>
            </a:r>
            <a:endParaRPr b="0" lang="en-US" sz="4400" spc="-1" strike="noStrike">
              <a:solidFill>
                <a:srgbClr val="672f70"/>
              </a:solidFill>
              <a:latin typeface="Calibri"/>
            </a:endParaRPr>
          </a:p>
        </p:txBody>
      </p:sp>
      <p:pic>
        <p:nvPicPr>
          <p:cNvPr id="1351" name="Picture 2" descr="C:\Users\an97\AppData\Local\Microsoft\Windows\Temporary Internet Files\Content.IE5\R09SPQU3\MP900439423[1].jpg"/>
          <p:cNvPicPr/>
          <p:nvPr/>
        </p:nvPicPr>
        <p:blipFill>
          <a:blip r:embed="rId3"/>
          <a:stretch/>
        </p:blipFill>
        <p:spPr>
          <a:xfrm>
            <a:off x="87480" y="1828800"/>
            <a:ext cx="3095280" cy="3409920"/>
          </a:xfrm>
          <a:prstGeom prst="rect">
            <a:avLst/>
          </a:prstGeom>
          <a:ln w="0">
            <a:noFill/>
          </a:ln>
        </p:spPr>
      </p:pic>
      <p:sp>
        <p:nvSpPr>
          <p:cNvPr id="1352" name="TextBox 4"/>
          <p:cNvSpPr/>
          <p:nvPr/>
        </p:nvSpPr>
        <p:spPr>
          <a:xfrm flipH="1" rot="20640000">
            <a:off x="861840" y="2574360"/>
            <a:ext cx="1895400" cy="173988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72f70"/>
                </a:solidFill>
                <a:latin typeface="Calibri"/>
              </a:rPr>
              <a:t>Pretend your first draft is an essay exam. Set a timer, consult your outline, and write.</a:t>
            </a:r>
            <a:endParaRPr b="0" lang="en-US" sz="1800" spc="-1" strike="noStrike">
              <a:solidFill>
                <a:srgbClr val="672f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2f70"/>
              </a:solidFill>
              <a:latin typeface="Arial"/>
            </a:endParaRPr>
          </a:p>
        </p:txBody>
      </p:sp>
      <p:sp>
        <p:nvSpPr>
          <p:cNvPr id="1353" name="TextBox 10"/>
          <p:cNvSpPr/>
          <p:nvPr/>
        </p:nvSpPr>
        <p:spPr>
          <a:xfrm flipH="1" rot="21522600">
            <a:off x="3729960" y="3403080"/>
            <a:ext cx="2185920" cy="1573560"/>
          </a:xfrm>
          <a:prstGeom prst="rect">
            <a:avLst/>
          </a:prstGeom>
          <a:noFill/>
          <a:ln w="0">
            <a:noFill/>
          </a:ln>
        </p:spPr>
        <p:style>
          <a:lnRef idx="0"/>
          <a:fillRef idx="0"/>
          <a:effectRef idx="0"/>
          <a:fontRef idx="minor"/>
        </p:style>
        <p:txBody>
          <a:bodyPr lIns="90000" rIns="90000" tIns="46800" bIns="46800" anchor="t">
            <a:spAutoFit/>
          </a:bodyPr>
          <a:p>
            <a:pPr lvl="1" marL="345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72f70"/>
                </a:solidFill>
                <a:latin typeface="Calibri"/>
              </a:rPr>
              <a:t>You have to give an oral presentation on your subject. You have 10 minutes. Go!</a:t>
            </a:r>
            <a:endParaRPr b="0" lang="en-US" sz="1800" spc="-1" strike="noStrike">
              <a:solidFill>
                <a:srgbClr val="672f70"/>
              </a:solidFill>
              <a:latin typeface="Arial"/>
            </a:endParaRPr>
          </a:p>
        </p:txBody>
      </p:sp>
      <p:sp>
        <p:nvSpPr>
          <p:cNvPr id="1354" name="TextBox 3"/>
          <p:cNvSpPr/>
          <p:nvPr/>
        </p:nvSpPr>
        <p:spPr>
          <a:xfrm>
            <a:off x="1628640" y="1467000"/>
            <a:ext cx="5950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72f70"/>
                </a:solidFill>
                <a:latin typeface="Calibri"/>
                <a:ea typeface="Calibri"/>
              </a:rPr>
              <a:t>Procrastination is just a habit.  </a:t>
            </a:r>
            <a:br>
              <a:rPr sz="2400"/>
            </a:br>
            <a:r>
              <a:rPr b="1" i="1" lang="en-US" sz="2400" spc="-1" strike="noStrike">
                <a:solidFill>
                  <a:srgbClr val="672f70"/>
                </a:solidFill>
                <a:latin typeface="Calibri"/>
                <a:ea typeface="Calibri"/>
              </a:rPr>
              <a:t>A week or two before the deadline…</a:t>
            </a:r>
            <a:endParaRPr b="0" lang="en-US" sz="2400" spc="-1" strike="noStrike">
              <a:solidFill>
                <a:srgbClr val="672f7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PlaceHolder 1"/>
          <p:cNvSpPr>
            <a:spLocks noGrp="1"/>
          </p:cNvSpPr>
          <p:nvPr>
            <p:ph type="title"/>
          </p:nvPr>
        </p:nvSpPr>
        <p:spPr>
          <a:xfrm>
            <a:off x="228240" y="228240"/>
            <a:ext cx="8534520" cy="585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Overcoming Writer’s Block</a:t>
            </a:r>
            <a:endParaRPr b="0" lang="en-US" sz="3600" spc="-1" strike="noStrike">
              <a:solidFill>
                <a:srgbClr val="ffffff"/>
              </a:solidFill>
              <a:latin typeface="Trebuchet MS"/>
            </a:endParaRPr>
          </a:p>
        </p:txBody>
      </p:sp>
      <p:pic>
        <p:nvPicPr>
          <p:cNvPr id="1356" name="Content Placeholder 4" descr=""/>
          <p:cNvPicPr/>
          <p:nvPr/>
        </p:nvPicPr>
        <p:blipFill>
          <a:blip r:embed="rId1"/>
          <a:stretch/>
        </p:blipFill>
        <p:spPr>
          <a:xfrm>
            <a:off x="1798560" y="1079640"/>
            <a:ext cx="9144000" cy="4844880"/>
          </a:xfrm>
          <a:prstGeom prst="rect">
            <a:avLst/>
          </a:prstGeom>
          <a:ln w="0">
            <a:noFill/>
          </a:ln>
        </p:spPr>
      </p:pic>
      <p:pic>
        <p:nvPicPr>
          <p:cNvPr id="1357" name="Picture 2" descr="C:\Users\an97\AppData\Local\Microsoft\Windows\Temporary Internet Files\Content.IE5\0CJBNHO6\MP900409594[1].jpg"/>
          <p:cNvPicPr/>
          <p:nvPr/>
        </p:nvPicPr>
        <p:blipFill>
          <a:blip r:embed="rId2"/>
          <a:stretch/>
        </p:blipFill>
        <p:spPr>
          <a:xfrm>
            <a:off x="652320" y="1176480"/>
            <a:ext cx="3187800" cy="4674960"/>
          </a:xfrm>
          <a:prstGeom prst="rect">
            <a:avLst/>
          </a:prstGeom>
          <a:ln w="0">
            <a:noFill/>
          </a:ln>
        </p:spPr>
      </p:pic>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913"/>
                </a:solidFill>
                <a:latin typeface="Trebuchet MS"/>
              </a:rPr>
              <a:t>Writing Email Messages</a:t>
            </a:r>
            <a:endParaRPr b="0" lang="en-US" sz="4400" spc="-1" strike="noStrike">
              <a:solidFill>
                <a:srgbClr val="672f70"/>
              </a:solidFill>
              <a:latin typeface="Calibri"/>
            </a:endParaRPr>
          </a:p>
        </p:txBody>
      </p:sp>
      <p:sp>
        <p:nvSpPr>
          <p:cNvPr id="1359" name="PlaceHolder 2"/>
          <p:cNvSpPr>
            <a:spLocks noGrp="1"/>
          </p:cNvSpPr>
          <p:nvPr>
            <p:ph/>
          </p:nvPr>
        </p:nvSpPr>
        <p:spPr>
          <a:xfrm>
            <a:off x="457200" y="1941120"/>
            <a:ext cx="8686800" cy="4267080"/>
          </a:xfrm>
          <a:prstGeom prst="rect">
            <a:avLst/>
          </a:prstGeom>
          <a:noFill/>
          <a:ln w="0">
            <a:noFill/>
          </a:ln>
        </p:spPr>
        <p:txBody>
          <a:bodyPr lIns="90000" rIns="90000" tIns="46800" bIns="46800" anchor="t">
            <a:normAutofit/>
          </a:bodyPr>
          <a:p>
            <a:pPr marL="343080" indent="-343080">
              <a:spcBef>
                <a:spcPts val="649"/>
              </a:spcBef>
              <a:buClr>
                <a:srgbClr val="543b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43b27"/>
                </a:solidFill>
                <a:latin typeface="Calibri"/>
              </a:rPr>
              <a:t>Follow company standards for the salutation</a:t>
            </a:r>
            <a:endParaRPr b="0" lang="en-US" sz="2600" spc="-1" strike="noStrike">
              <a:solidFill>
                <a:srgbClr val="672f70"/>
              </a:solidFill>
              <a:latin typeface="Calibri"/>
            </a:endParaRPr>
          </a:p>
          <a:p>
            <a:pPr marL="343080" indent="-343080">
              <a:spcBef>
                <a:spcPts val="649"/>
              </a:spcBef>
              <a:buClr>
                <a:srgbClr val="543b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43b27"/>
                </a:solidFill>
                <a:latin typeface="Calibri"/>
              </a:rPr>
              <a:t>Use a descriptive, attention-grabbing subject line</a:t>
            </a:r>
            <a:endParaRPr b="0" lang="en-US" sz="2600" spc="-1" strike="noStrike">
              <a:solidFill>
                <a:srgbClr val="672f70"/>
              </a:solidFill>
              <a:latin typeface="Calibri"/>
            </a:endParaRPr>
          </a:p>
          <a:p>
            <a:pPr marL="343080" indent="-343080">
              <a:spcBef>
                <a:spcPts val="649"/>
              </a:spcBef>
              <a:buClr>
                <a:srgbClr val="543b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43b27"/>
                </a:solidFill>
                <a:latin typeface="Calibri"/>
              </a:rPr>
              <a:t>Don’t copy the world</a:t>
            </a:r>
            <a:endParaRPr b="0" lang="en-US" sz="2600" spc="-1" strike="noStrike">
              <a:solidFill>
                <a:srgbClr val="672f70"/>
              </a:solidFill>
              <a:latin typeface="Calibri"/>
            </a:endParaRPr>
          </a:p>
          <a:p>
            <a:pPr marL="343080" indent="-343080">
              <a:spcBef>
                <a:spcPts val="649"/>
              </a:spcBef>
              <a:buClr>
                <a:srgbClr val="543b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43b27"/>
                </a:solidFill>
                <a:latin typeface="Calibri"/>
              </a:rPr>
              <a:t>Use BCC sparingly</a:t>
            </a:r>
            <a:endParaRPr b="0" lang="en-US" sz="2600" spc="-1" strike="noStrike">
              <a:solidFill>
                <a:srgbClr val="672f70"/>
              </a:solidFill>
              <a:latin typeface="Calibri"/>
            </a:endParaRPr>
          </a:p>
          <a:p>
            <a:pPr marL="343080" indent="-343080">
              <a:spcBef>
                <a:spcPts val="649"/>
              </a:spcBef>
              <a:buClr>
                <a:srgbClr val="543b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43b27"/>
                </a:solidFill>
                <a:latin typeface="Calibri"/>
              </a:rPr>
              <a:t>Keep emails short and skimmable</a:t>
            </a:r>
            <a:endParaRPr b="0" lang="en-US" sz="2600" spc="-1" strike="noStrike">
              <a:solidFill>
                <a:srgbClr val="672f70"/>
              </a:solidFill>
              <a:latin typeface="Calibri"/>
            </a:endParaRPr>
          </a:p>
          <a:p>
            <a:pPr marL="343080" indent="-343080">
              <a:spcBef>
                <a:spcPts val="649"/>
              </a:spcBef>
              <a:buClr>
                <a:srgbClr val="543b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43b27"/>
                </a:solidFill>
                <a:latin typeface="Calibri"/>
              </a:rPr>
              <a:t>Check your tone</a:t>
            </a:r>
            <a:endParaRPr b="0" lang="en-US" sz="2600" spc="-1" strike="noStrike">
              <a:solidFill>
                <a:srgbClr val="672f70"/>
              </a:solidFill>
              <a:latin typeface="Calibri"/>
            </a:endParaRPr>
          </a:p>
          <a:p>
            <a:pPr marL="343080" indent="-343080">
              <a:spcBef>
                <a:spcPts val="649"/>
              </a:spcBef>
              <a:buClr>
                <a:srgbClr val="543b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43b27"/>
                </a:solidFill>
                <a:latin typeface="Calibri"/>
              </a:rPr>
              <a:t>Provide context</a:t>
            </a:r>
            <a:endParaRPr b="0" lang="en-US" sz="2600" spc="-1" strike="noStrike">
              <a:solidFill>
                <a:srgbClr val="672f70"/>
              </a:solidFill>
              <a:latin typeface="Calibri"/>
            </a:endParaRPr>
          </a:p>
          <a:p>
            <a:pPr marL="343080" indent="-343080">
              <a:spcBef>
                <a:spcPts val="649"/>
              </a:spcBef>
              <a:buClr>
                <a:srgbClr val="543b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43b27"/>
                </a:solidFill>
                <a:latin typeface="Calibri"/>
              </a:rPr>
              <a:t>Follow company standards for the closing and signature line</a:t>
            </a:r>
            <a:endParaRPr b="0" lang="en-US" sz="2600" spc="-1" strike="noStrike">
              <a:solidFill>
                <a:srgbClr val="672f70"/>
              </a:solidFill>
              <a:latin typeface="Calibri"/>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913"/>
                </a:solidFill>
                <a:latin typeface="Trebuchet MS"/>
              </a:rPr>
              <a:t>Sample Email</a:t>
            </a:r>
            <a:endParaRPr b="0" lang="en-US" sz="4400" spc="-1" strike="noStrike">
              <a:solidFill>
                <a:srgbClr val="672f70"/>
              </a:solidFill>
              <a:latin typeface="Calibri"/>
            </a:endParaRPr>
          </a:p>
        </p:txBody>
      </p:sp>
      <p:pic>
        <p:nvPicPr>
          <p:cNvPr id="1361" name="Picture 3" descr=""/>
          <p:cNvPicPr/>
          <p:nvPr/>
        </p:nvPicPr>
        <p:blipFill>
          <a:blip r:embed="rId1"/>
          <a:stretch/>
        </p:blipFill>
        <p:spPr>
          <a:xfrm>
            <a:off x="1569960" y="1779480"/>
            <a:ext cx="5351400" cy="4011840"/>
          </a:xfrm>
          <a:prstGeom prst="rect">
            <a:avLst/>
          </a:prstGeom>
          <a:ln w="0">
            <a:noFill/>
          </a:ln>
        </p:spPr>
      </p:pic>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2" name="Picture 4" descr=""/>
          <p:cNvPicPr/>
          <p:nvPr/>
        </p:nvPicPr>
        <p:blipFill>
          <a:blip r:embed="rId1"/>
          <a:stretch/>
        </p:blipFill>
        <p:spPr>
          <a:xfrm>
            <a:off x="682560" y="1379520"/>
            <a:ext cx="3448080" cy="609480"/>
          </a:xfrm>
          <a:prstGeom prst="rect">
            <a:avLst/>
          </a:prstGeom>
          <a:ln w="0">
            <a:noFill/>
          </a:ln>
        </p:spPr>
      </p:pic>
      <p:grpSp>
        <p:nvGrpSpPr>
          <p:cNvPr id="1363" name="Oval Callout 5"/>
          <p:cNvGrpSpPr/>
          <p:nvPr/>
        </p:nvGrpSpPr>
        <p:grpSpPr>
          <a:xfrm>
            <a:off x="5979960" y="1006560"/>
            <a:ext cx="2421000" cy="1565280"/>
            <a:chOff x="5979960" y="1006560"/>
            <a:chExt cx="2421000" cy="1565280"/>
          </a:xfrm>
        </p:grpSpPr>
        <p:pic>
          <p:nvPicPr>
            <p:cNvPr id="1364" name="Oval Callout 5" descr=""/>
            <p:cNvPicPr/>
            <p:nvPr/>
          </p:nvPicPr>
          <p:blipFill>
            <a:blip r:embed="rId2"/>
            <a:stretch/>
          </p:blipFill>
          <p:spPr>
            <a:xfrm>
              <a:off x="5979960" y="1006560"/>
              <a:ext cx="2421000" cy="1565280"/>
            </a:xfrm>
            <a:prstGeom prst="rect">
              <a:avLst/>
            </a:prstGeom>
            <a:ln w="0">
              <a:noFill/>
            </a:ln>
          </p:spPr>
        </p:pic>
        <p:sp>
          <p:nvSpPr>
            <p:cNvPr id="1365" name=""/>
            <p:cNvSpPr/>
            <p:nvPr/>
          </p:nvSpPr>
          <p:spPr>
            <a:xfrm>
              <a:off x="6375240" y="1499400"/>
              <a:ext cx="163224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Calibri"/>
                  <a:ea typeface="Calibri"/>
                  <a:hlinkClick r:id="rId3"/>
                </a:rPr>
                <a:t>Link to the full story on the blog.</a:t>
              </a:r>
              <a:endParaRPr b="0" lang="en-US" sz="1800" spc="-1" strike="noStrike">
                <a:solidFill>
                  <a:srgbClr val="672f70"/>
                </a:solidFill>
                <a:latin typeface="Arial"/>
              </a:endParaRPr>
            </a:p>
          </p:txBody>
        </p:sp>
      </p:grpSp>
      <p:sp>
        <p:nvSpPr>
          <p:cNvPr id="1366" name="Rectangle 3"/>
          <p:cNvSpPr/>
          <p:nvPr/>
        </p:nvSpPr>
        <p:spPr>
          <a:xfrm>
            <a:off x="682560" y="2295360"/>
            <a:ext cx="6175440" cy="23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72f70"/>
                </a:solidFill>
                <a:latin typeface="Calibri"/>
                <a:ea typeface="Calibri"/>
              </a:rPr>
              <a:t>Companies Send Email about Security Breach</a:t>
            </a:r>
            <a:endParaRPr b="0" lang="en-US" sz="2000" spc="-1" strike="noStrike">
              <a:solidFill>
                <a:srgbClr val="672f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2f70"/>
                </a:solidFill>
                <a:latin typeface="Calibri"/>
                <a:ea typeface="Calibri"/>
              </a:rPr>
              <a:t>Epsilon, an email marketing firm, reported that their contact list was stolen. Epsilon sends emails on behalf of several large companies. Companies responded in force, contacting customers to disclose what happened and to allay fears. According to these messages and Epsilon's press release, the impact on consumers is minimal. </a:t>
            </a:r>
            <a:endParaRPr b="0" lang="en-US" sz="2000" spc="-1" strike="noStrike">
              <a:solidFill>
                <a:srgbClr val="672f70"/>
              </a:solidFill>
              <a:latin typeface="Arial"/>
            </a:endParaRPr>
          </a:p>
        </p:txBody>
      </p:sp>
      <p:grpSp>
        <p:nvGrpSpPr>
          <p:cNvPr id="1367" name="Oval Callout 7"/>
          <p:cNvGrpSpPr/>
          <p:nvPr/>
        </p:nvGrpSpPr>
        <p:grpSpPr>
          <a:xfrm>
            <a:off x="6364440" y="3706920"/>
            <a:ext cx="2419200" cy="1566720"/>
            <a:chOff x="6364440" y="3706920"/>
            <a:chExt cx="2419200" cy="1566720"/>
          </a:xfrm>
        </p:grpSpPr>
        <p:pic>
          <p:nvPicPr>
            <p:cNvPr id="1368" name="Oval Callout 7" descr=""/>
            <p:cNvPicPr/>
            <p:nvPr/>
          </p:nvPicPr>
          <p:blipFill>
            <a:blip r:embed="rId4"/>
            <a:stretch/>
          </p:blipFill>
          <p:spPr>
            <a:xfrm>
              <a:off x="6364440" y="3706920"/>
              <a:ext cx="2419200" cy="1566720"/>
            </a:xfrm>
            <a:prstGeom prst="rect">
              <a:avLst/>
            </a:prstGeom>
            <a:ln w="0">
              <a:noFill/>
            </a:ln>
          </p:spPr>
        </p:pic>
        <p:sp>
          <p:nvSpPr>
            <p:cNvPr id="1369" name=""/>
            <p:cNvSpPr/>
            <p:nvPr/>
          </p:nvSpPr>
          <p:spPr>
            <a:xfrm>
              <a:off x="6756480" y="4199040"/>
              <a:ext cx="163188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Calibri"/>
                  <a:ea typeface="Calibri"/>
                  <a:hlinkClick r:id="rId5"/>
                </a:rPr>
                <a:t>Compare companies’ emails.</a:t>
              </a:r>
              <a:endParaRPr b="0" lang="en-US" sz="1800" spc="-1" strike="noStrike">
                <a:solidFill>
                  <a:srgbClr val="672f70"/>
                </a:solidFill>
                <a:latin typeface="Arial"/>
              </a:endParaRPr>
            </a:p>
          </p:txBody>
        </p:sp>
      </p:gr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Rectangle 2"/>
          <p:cNvSpPr/>
          <p:nvPr/>
        </p:nvSpPr>
        <p:spPr>
          <a:xfrm rot="18858000">
            <a:off x="2917440" y="2313000"/>
            <a:ext cx="3200400" cy="3200400"/>
          </a:xfrm>
          <a:prstGeom prst="rect">
            <a:avLst/>
          </a:prstGeom>
          <a:solidFill>
            <a:srgbClr val="e1e7f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2f70"/>
              </a:solidFill>
              <a:latin typeface="Arial"/>
            </a:endParaRPr>
          </a:p>
        </p:txBody>
      </p:sp>
      <p:sp>
        <p:nvSpPr>
          <p:cNvPr id="1371" name="Title Placeholder 10"/>
          <p:cNvSpPr/>
          <p:nvPr/>
        </p:nvSpPr>
        <p:spPr>
          <a:xfrm>
            <a:off x="66600" y="228600"/>
            <a:ext cx="89917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he Writing Process</a:t>
            </a:r>
            <a:endParaRPr b="0" lang="en-US" sz="4400" spc="-1" strike="noStrike">
              <a:solidFill>
                <a:srgbClr val="672f70"/>
              </a:solidFill>
              <a:latin typeface="Arial"/>
            </a:endParaRPr>
          </a:p>
        </p:txBody>
      </p:sp>
      <p:pic>
        <p:nvPicPr>
          <p:cNvPr id="1372" name="Diagram 4" descr=""/>
          <p:cNvPicPr/>
          <p:nvPr/>
        </p:nvPicPr>
        <p:blipFill>
          <a:blip r:embed="rId1"/>
          <a:stretch/>
        </p:blipFill>
        <p:spPr>
          <a:xfrm>
            <a:off x="1468440" y="1773360"/>
            <a:ext cx="6121440" cy="4066920"/>
          </a:xfrm>
          <a:prstGeom prst="rect">
            <a:avLst/>
          </a:prstGeom>
          <a:ln w="0">
            <a:noFill/>
          </a:ln>
        </p:spPr>
      </p:pic>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3" name="PlaceHolder 1"/>
          <p:cNvSpPr>
            <a:spLocks noGrp="1"/>
          </p:cNvSpPr>
          <p:nvPr>
            <p:ph type="title"/>
          </p:nvPr>
        </p:nvSpPr>
        <p:spPr>
          <a:xfrm>
            <a:off x="228240" y="228240"/>
            <a:ext cx="8534520" cy="585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Three Steps to Revising </a:t>
            </a:r>
            <a:endParaRPr b="0" lang="en-US" sz="3600" spc="-1" strike="noStrike">
              <a:solidFill>
                <a:srgbClr val="ffffff"/>
              </a:solidFill>
              <a:latin typeface="Trebuchet MS"/>
            </a:endParaRPr>
          </a:p>
        </p:txBody>
      </p:sp>
      <p:pic>
        <p:nvPicPr>
          <p:cNvPr id="1374" name="Content Placeholder 3" descr=""/>
          <p:cNvPicPr/>
          <p:nvPr/>
        </p:nvPicPr>
        <p:blipFill>
          <a:blip r:embed="rId1"/>
          <a:stretch/>
        </p:blipFill>
        <p:spPr>
          <a:xfrm>
            <a:off x="536400" y="171360"/>
            <a:ext cx="8229600" cy="4529160"/>
          </a:xfrm>
          <a:prstGeom prst="rect">
            <a:avLst/>
          </a:prstGeom>
          <a:ln w="0">
            <a:noFill/>
          </a:ln>
        </p:spPr>
      </p:pic>
      <p:sp>
        <p:nvSpPr>
          <p:cNvPr id="1375" name="TextBox 1"/>
          <p:cNvSpPr/>
          <p:nvPr/>
        </p:nvSpPr>
        <p:spPr>
          <a:xfrm>
            <a:off x="1044720" y="3814920"/>
            <a:ext cx="239544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2f70"/>
                </a:solidFill>
                <a:latin typeface="Calibri"/>
                <a:ea typeface="Calibri"/>
              </a:rPr>
              <a:t>Reread your purpose statement and the entire draft to get an overview of your message.</a:t>
            </a:r>
            <a:endParaRPr b="0" lang="en-US" sz="2000" spc="-1" strike="noStrike">
              <a:solidFill>
                <a:srgbClr val="672f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72f70"/>
              </a:solidFill>
              <a:latin typeface="Arial"/>
            </a:endParaRPr>
          </a:p>
        </p:txBody>
      </p:sp>
      <p:sp>
        <p:nvSpPr>
          <p:cNvPr id="1376" name="TextBox 2"/>
          <p:cNvSpPr/>
          <p:nvPr/>
        </p:nvSpPr>
        <p:spPr>
          <a:xfrm>
            <a:off x="3700440" y="3814920"/>
            <a:ext cx="2352600" cy="222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2f70"/>
                </a:solidFill>
                <a:latin typeface="Calibri"/>
                <a:ea typeface="Calibri"/>
              </a:rPr>
              <a:t>Read each paragraph again (aloud, if possible) to get a feel for the rhythm and flow of your writing.</a:t>
            </a:r>
            <a:endParaRPr b="0" lang="en-US" sz="2000" spc="-1" strike="noStrike">
              <a:solidFill>
                <a:srgbClr val="672f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72f70"/>
              </a:solidFill>
              <a:latin typeface="Arial"/>
            </a:endParaRPr>
          </a:p>
        </p:txBody>
      </p:sp>
      <p:sp>
        <p:nvSpPr>
          <p:cNvPr id="1377" name="TextBox 3"/>
          <p:cNvSpPr/>
          <p:nvPr/>
        </p:nvSpPr>
        <p:spPr>
          <a:xfrm>
            <a:off x="6240600" y="3814920"/>
            <a:ext cx="258444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2f70"/>
                </a:solidFill>
                <a:latin typeface="Calibri"/>
                <a:ea typeface="Calibri"/>
              </a:rPr>
              <a:t>Identify problems with grammar, spelling, punctuation, and word usage.</a:t>
            </a:r>
            <a:endParaRPr b="0" lang="en-US" sz="2000" spc="-1" strike="noStrike">
              <a:solidFill>
                <a:srgbClr val="672f7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title"/>
          </p:nvPr>
        </p:nvSpPr>
        <p:spPr>
          <a:xfrm>
            <a:off x="3352680" y="120600"/>
            <a:ext cx="5562720" cy="6415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db913"/>
                </a:solidFill>
                <a:latin typeface="Calibri"/>
              </a:rPr>
              <a:t>Former Basketball Star and Senator Bill Bradley Discusses the Importance of Writing</a:t>
            </a:r>
            <a:endParaRPr b="0" lang="en-US" sz="3200" spc="-1" strike="noStrike">
              <a:solidFill>
                <a:srgbClr val="fdb913"/>
              </a:solidFill>
              <a:latin typeface="Calibri"/>
            </a:endParaRPr>
          </a:p>
        </p:txBody>
      </p:sp>
      <p:sp>
        <p:nvSpPr>
          <p:cNvPr id="1255" name="PlaceHolder 2"/>
          <p:cNvSpPr>
            <a:spLocks noGrp="1"/>
          </p:cNvSpPr>
          <p:nvPr>
            <p:ph/>
          </p:nvPr>
        </p:nvSpPr>
        <p:spPr>
          <a:xfrm>
            <a:off x="4757400" y="2057400"/>
            <a:ext cx="4343400" cy="4038480"/>
          </a:xfrm>
          <a:prstGeom prst="rect">
            <a:avLst/>
          </a:prstGeom>
          <a:noFill/>
          <a:ln w="0">
            <a:noFill/>
          </a:ln>
        </p:spPr>
        <p:txBody>
          <a:bodyPr lIns="90000" rIns="90000" tIns="46800" bIns="46800" anchor="t">
            <a:normAutofit/>
          </a:bodyPr>
          <a:p>
            <a:pPr marL="343080" indent="-343080">
              <a:spcBef>
                <a:spcPts val="700"/>
              </a:spcBef>
              <a:spcAft>
                <a:spcPts val="1199"/>
              </a:spcAft>
              <a:buClr>
                <a:srgbClr val="ffee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edd"/>
                </a:solidFill>
                <a:latin typeface="Calibri"/>
              </a:rPr>
              <a:t>How is writing important for your career plans? </a:t>
            </a:r>
            <a:endParaRPr b="0" lang="en-US" sz="2800" spc="-1" strike="noStrike">
              <a:solidFill>
                <a:srgbClr val="672f70"/>
              </a:solidFill>
              <a:latin typeface="Calibri"/>
            </a:endParaRPr>
          </a:p>
          <a:p>
            <a:pPr marL="343080" indent="-343080">
              <a:spcBef>
                <a:spcPts val="700"/>
              </a:spcBef>
              <a:spcAft>
                <a:spcPts val="1199"/>
              </a:spcAft>
              <a:buClr>
                <a:srgbClr val="ffee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edd"/>
                </a:solidFill>
                <a:latin typeface="Calibri"/>
              </a:rPr>
              <a:t>In what ways could writing distinguish you from others throughout your career? </a:t>
            </a:r>
            <a:endParaRPr b="0" lang="en-US" sz="2800" spc="-1" strike="noStrike">
              <a:solidFill>
                <a:srgbClr val="672f70"/>
              </a:solidFill>
              <a:latin typeface="Calibri"/>
            </a:endParaRPr>
          </a:p>
          <a:p>
            <a:pPr marL="343080" indent="0">
              <a:spcBef>
                <a:spcPts val="700"/>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2f70"/>
              </a:solidFill>
              <a:latin typeface="Calibri"/>
            </a:endParaRPr>
          </a:p>
        </p:txBody>
      </p:sp>
      <p:pic>
        <p:nvPicPr>
          <p:cNvPr id="1256" name="Picture 3" descr="">
            <a:hlinkClick r:id="rId1" action="ppaction://hlinksldjump"/>
          </p:cNvPr>
          <p:cNvPicPr/>
          <p:nvPr/>
        </p:nvPicPr>
        <p:blipFill>
          <a:blip r:embed="rId2"/>
          <a:stretch/>
        </p:blipFill>
        <p:spPr>
          <a:xfrm>
            <a:off x="457200" y="1959120"/>
            <a:ext cx="4267080" cy="3124080"/>
          </a:xfrm>
          <a:prstGeom prst="rect">
            <a:avLst/>
          </a:prstGeom>
          <a:ln w="0">
            <a:noFill/>
          </a:ln>
        </p:spPr>
      </p:pic>
      <p:sp>
        <p:nvSpPr>
          <p:cNvPr id="1257" name="TextBox 5"/>
          <p:cNvSpPr/>
          <p:nvPr/>
        </p:nvSpPr>
        <p:spPr>
          <a:xfrm>
            <a:off x="585720" y="5070600"/>
            <a:ext cx="4049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lick image to play the video</a:t>
            </a:r>
            <a:endParaRPr b="0" lang="en-US" sz="1800" spc="-1" strike="noStrike">
              <a:solidFill>
                <a:srgbClr val="672f70"/>
              </a:solidFill>
              <a:latin typeface="Arial"/>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Rectangle 2"/>
          <p:cNvSpPr/>
          <p:nvPr/>
        </p:nvSpPr>
        <p:spPr>
          <a:xfrm rot="18858000">
            <a:off x="2917440" y="2313000"/>
            <a:ext cx="3200400" cy="3200400"/>
          </a:xfrm>
          <a:prstGeom prst="rect">
            <a:avLst/>
          </a:prstGeom>
          <a:solidFill>
            <a:srgbClr val="e1e7f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2f70"/>
              </a:solidFill>
              <a:latin typeface="Arial"/>
            </a:endParaRPr>
          </a:p>
        </p:txBody>
      </p:sp>
      <p:sp>
        <p:nvSpPr>
          <p:cNvPr id="1379" name="Title Placeholder 10"/>
          <p:cNvSpPr/>
          <p:nvPr/>
        </p:nvSpPr>
        <p:spPr>
          <a:xfrm>
            <a:off x="66600" y="228600"/>
            <a:ext cx="89917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he Writing Process</a:t>
            </a:r>
            <a:endParaRPr b="0" lang="en-US" sz="4400" spc="-1" strike="noStrike">
              <a:solidFill>
                <a:srgbClr val="672f70"/>
              </a:solidFill>
              <a:latin typeface="Arial"/>
            </a:endParaRPr>
          </a:p>
        </p:txBody>
      </p:sp>
      <p:pic>
        <p:nvPicPr>
          <p:cNvPr id="1380" name="Diagram 4" descr=""/>
          <p:cNvPicPr/>
          <p:nvPr/>
        </p:nvPicPr>
        <p:blipFill>
          <a:blip r:embed="rId1"/>
          <a:stretch/>
        </p:blipFill>
        <p:spPr>
          <a:xfrm>
            <a:off x="1468440" y="1773360"/>
            <a:ext cx="6121440" cy="4066920"/>
          </a:xfrm>
          <a:prstGeom prst="rect">
            <a:avLst/>
          </a:prstGeom>
          <a:ln w="0">
            <a:noFill/>
          </a:ln>
        </p:spPr>
      </p:pic>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Look for Hard-to-Spot Errors </a:t>
            </a:r>
            <a:endParaRPr b="0" lang="en-US" sz="3600" spc="-1" strike="noStrike">
              <a:solidFill>
                <a:srgbClr val="ffffff"/>
              </a:solidFill>
              <a:latin typeface="Trebuchet MS"/>
            </a:endParaRPr>
          </a:p>
        </p:txBody>
      </p:sp>
      <p:pic>
        <p:nvPicPr>
          <p:cNvPr id="1382" name="Content Placeholder 3" descr=""/>
          <p:cNvPicPr/>
          <p:nvPr/>
        </p:nvPicPr>
        <p:blipFill>
          <a:blip r:embed="rId1"/>
          <a:stretch/>
        </p:blipFill>
        <p:spPr>
          <a:xfrm>
            <a:off x="444600" y="1243080"/>
            <a:ext cx="8339040" cy="4529160"/>
          </a:xfrm>
          <a:prstGeom prst="rect">
            <a:avLst/>
          </a:prstGeom>
          <a:ln w="0">
            <a:noFill/>
          </a:ln>
        </p:spPr>
      </p:pic>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atch More Errors</a:t>
            </a:r>
            <a:endParaRPr b="0" lang="en-US" sz="3600" spc="-1" strike="noStrike">
              <a:solidFill>
                <a:srgbClr val="ffffff"/>
              </a:solidFill>
              <a:latin typeface="Trebuchet MS"/>
            </a:endParaRPr>
          </a:p>
        </p:txBody>
      </p:sp>
      <p:pic>
        <p:nvPicPr>
          <p:cNvPr id="1384" name="Content Placeholder 3" descr=""/>
          <p:cNvPicPr/>
          <p:nvPr/>
        </p:nvPicPr>
        <p:blipFill>
          <a:blip r:embed="rId1"/>
          <a:stretch/>
        </p:blipFill>
        <p:spPr>
          <a:xfrm>
            <a:off x="469800" y="1206360"/>
            <a:ext cx="8296200" cy="4542120"/>
          </a:xfrm>
          <a:prstGeom prst="rect">
            <a:avLst/>
          </a:prstGeom>
          <a:ln w="0">
            <a:noFill/>
          </a:ln>
        </p:spPr>
      </p:pic>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PlaceHolder 1"/>
          <p:cNvSpPr>
            <a:spLocks noGrp="1"/>
          </p:cNvSpPr>
          <p:nvPr>
            <p:ph type="title"/>
          </p:nvPr>
        </p:nvSpPr>
        <p:spPr>
          <a:xfrm>
            <a:off x="457200" y="48240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b913"/>
                </a:solidFill>
                <a:latin typeface="Trebuchet MS"/>
              </a:rPr>
              <a:t>What Is Wrong with These Sentences?</a:t>
            </a:r>
            <a:endParaRPr b="0" lang="en-US" sz="3600" spc="-1" strike="noStrike">
              <a:solidFill>
                <a:srgbClr val="672f70"/>
              </a:solidFill>
              <a:latin typeface="Calibri"/>
            </a:endParaRPr>
          </a:p>
        </p:txBody>
      </p:sp>
      <p:sp>
        <p:nvSpPr>
          <p:cNvPr id="1386" name="PlaceHolder 2"/>
          <p:cNvSpPr>
            <a:spLocks noGrp="1"/>
          </p:cNvSpPr>
          <p:nvPr>
            <p:ph/>
          </p:nvPr>
        </p:nvSpPr>
        <p:spPr>
          <a:xfrm>
            <a:off x="239760" y="2158920"/>
            <a:ext cx="8904240" cy="4267440"/>
          </a:xfrm>
          <a:prstGeom prst="rect">
            <a:avLst/>
          </a:prstGeom>
          <a:noFill/>
          <a:ln w="0">
            <a:noFill/>
          </a:ln>
        </p:spPr>
        <p:txBody>
          <a:bodyPr lIns="90000" rIns="90000" tIns="46800" bIns="46800" anchor="t">
            <a:normAutofit/>
          </a:bodyPr>
          <a:p>
            <a:pPr marL="465120" indent="-465120">
              <a:lnSpc>
                <a:spcPct val="90000"/>
              </a:lnSpc>
              <a:spcBef>
                <a:spcPts val="649"/>
              </a:spcBef>
              <a:spcAft>
                <a:spcPts val="1199"/>
              </a:spcAft>
              <a:buClr>
                <a:srgbClr val="2f5c9b"/>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f5c9b"/>
                </a:solidFill>
                <a:latin typeface="Calibri"/>
              </a:rPr>
              <a:t>There to busy with they’re report to be their for the hearing.</a:t>
            </a:r>
            <a:endParaRPr b="0" lang="en-US" sz="2600" spc="-1" strike="noStrike">
              <a:solidFill>
                <a:srgbClr val="672f70"/>
              </a:solidFill>
              <a:latin typeface="Calibri"/>
            </a:endParaRPr>
          </a:p>
          <a:p>
            <a:pPr marL="465120" indent="-465120">
              <a:lnSpc>
                <a:spcPct val="90000"/>
              </a:lnSpc>
              <a:spcBef>
                <a:spcPts val="649"/>
              </a:spcBef>
              <a:spcAft>
                <a:spcPts val="1199"/>
              </a:spcAft>
              <a:buClr>
                <a:srgbClr val="543b27"/>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43b27"/>
                </a:solidFill>
                <a:latin typeface="Calibri"/>
              </a:rPr>
              <a:t>I will except your advise, but the affect of doing so may bring alot of change.</a:t>
            </a:r>
            <a:endParaRPr b="0" lang="en-US" sz="2600" spc="-1" strike="noStrike">
              <a:solidFill>
                <a:srgbClr val="672f70"/>
              </a:solidFill>
              <a:latin typeface="Calibri"/>
            </a:endParaRPr>
          </a:p>
          <a:p>
            <a:pPr marL="465120" indent="-465120">
              <a:lnSpc>
                <a:spcPct val="90000"/>
              </a:lnSpc>
              <a:spcBef>
                <a:spcPts val="649"/>
              </a:spcBef>
              <a:spcAft>
                <a:spcPts val="1199"/>
              </a:spcAft>
              <a:buClr>
                <a:srgbClr val="2f5c9b"/>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f5c9b"/>
                </a:solidFill>
                <a:latin typeface="Calibri"/>
              </a:rPr>
              <a:t>Your going to present you’re report first.</a:t>
            </a:r>
            <a:endParaRPr b="0" lang="en-US" sz="2600" spc="-1" strike="noStrike">
              <a:solidFill>
                <a:srgbClr val="672f70"/>
              </a:solidFill>
              <a:latin typeface="Calibri"/>
            </a:endParaRPr>
          </a:p>
          <a:p>
            <a:pPr marL="465120" indent="-465120">
              <a:lnSpc>
                <a:spcPct val="90000"/>
              </a:lnSpc>
              <a:spcBef>
                <a:spcPts val="649"/>
              </a:spcBef>
              <a:spcAft>
                <a:spcPts val="1199"/>
              </a:spcAft>
              <a:buClr>
                <a:srgbClr val="543b27"/>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43b27"/>
                </a:solidFill>
                <a:latin typeface="Calibri"/>
              </a:rPr>
              <a:t>Whose going to let us know who’s turn it is to make coffee?</a:t>
            </a:r>
            <a:endParaRPr b="0" lang="en-US" sz="2600" spc="-1" strike="noStrike">
              <a:solidFill>
                <a:srgbClr val="672f70"/>
              </a:solidFill>
              <a:latin typeface="Calibri"/>
            </a:endParaRPr>
          </a:p>
          <a:p>
            <a:pPr marL="465120" indent="-465120">
              <a:lnSpc>
                <a:spcPct val="90000"/>
              </a:lnSpc>
              <a:spcBef>
                <a:spcPts val="649"/>
              </a:spcBef>
              <a:spcAft>
                <a:spcPts val="1199"/>
              </a:spcAft>
              <a:buClr>
                <a:srgbClr val="2f5c9b"/>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f5c9b"/>
                </a:solidFill>
                <a:latin typeface="Calibri"/>
              </a:rPr>
              <a:t>How much farther can we pursue this if its not past on through regular channels?</a:t>
            </a:r>
            <a:endParaRPr b="0" lang="en-US" sz="2600" spc="-1" strike="noStrike">
              <a:solidFill>
                <a:srgbClr val="672f70"/>
              </a:solidFill>
              <a:latin typeface="Calibri"/>
            </a:endParaRPr>
          </a:p>
        </p:txBody>
      </p:sp>
    </p:spTree>
  </p:cSld>
  <p:transition>
    <p:wipe dir="r"/>
  </p:transition>
  <p:timing>
    <p:tnLst>
      <p:par>
        <p:cTn id="12" dur="indefinite" restart="never" nodeType="tmRoot">
          <p:childTnLst>
            <p:seq>
              <p:cTn id="13" dur="indefinite" nodeType="mainSeq">
                <p:childTnLst>
                  <p:par>
                    <p:cTn id="14" nodeType="clickEffect" fill="hold">
                      <p:stCondLst>
                        <p:cond delay="indefinite"/>
                      </p:stCondLst>
                      <p:childTnLst>
                        <p:par>
                          <p:cTn id="15" nodeType="withEffect" fill="hold">
                            <p:stCondLst>
                              <p:cond delay="0"/>
                            </p:stCondLst>
                            <p:childTnLst>
                              <p:par>
                                <p:cTn id="16" nodeType="clickEffect" fill="hold" presetClass="entr" presetID="1">
                                  <p:stCondLst>
                                    <p:cond delay="0"/>
                                  </p:stCondLst>
                                  <p:childTnLst>
                                    <p:set>
                                      <p:cBhvr>
                                        <p:cTn id="17" dur="1" fill="hold">
                                          <p:stCondLst>
                                            <p:cond delay="0"/>
                                          </p:stCondLst>
                                        </p:cTn>
                                        <p:tgtEl>
                                          <p:spTgt spid="1386">
                                            <p:txEl>
                                              <p:pRg st="0" end="0"/>
                                            </p:txEl>
                                          </p:spTgt>
                                        </p:tgtEl>
                                        <p:attrNameLst>
                                          <p:attrName>style.visibility</p:attrName>
                                        </p:attrNameLst>
                                      </p:cBhvr>
                                      <p:to>
                                        <p:strVal val="visible"/>
                                      </p:to>
                                    </p:se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
                                  <p:stCondLst>
                                    <p:cond delay="0"/>
                                  </p:stCondLst>
                                  <p:childTnLst>
                                    <p:set>
                                      <p:cBhvr>
                                        <p:cTn id="21" dur="1" fill="hold">
                                          <p:stCondLst>
                                            <p:cond delay="0"/>
                                          </p:stCondLst>
                                        </p:cTn>
                                        <p:tgtEl>
                                          <p:spTgt spid="1386">
                                            <p:txEl>
                                              <p:pRg st="1" end="1"/>
                                            </p:txEl>
                                          </p:spTgt>
                                        </p:tgtEl>
                                        <p:attrNameLst>
                                          <p:attrName>style.visibility</p:attrName>
                                        </p:attrNameLst>
                                      </p:cBhvr>
                                      <p:to>
                                        <p:strVal val="visible"/>
                                      </p:to>
                                    </p:se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1">
                                  <p:stCondLst>
                                    <p:cond delay="0"/>
                                  </p:stCondLst>
                                  <p:childTnLst>
                                    <p:set>
                                      <p:cBhvr>
                                        <p:cTn id="25" dur="1" fill="hold">
                                          <p:stCondLst>
                                            <p:cond delay="0"/>
                                          </p:stCondLst>
                                        </p:cTn>
                                        <p:tgtEl>
                                          <p:spTgt spid="1386">
                                            <p:txEl>
                                              <p:pRg st="2" end="2"/>
                                            </p:txEl>
                                          </p:spTgt>
                                        </p:tgtEl>
                                        <p:attrNameLst>
                                          <p:attrName>style.visibility</p:attrName>
                                        </p:attrNameLst>
                                      </p:cBhvr>
                                      <p:to>
                                        <p:strVal val="visible"/>
                                      </p:to>
                                    </p:se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1">
                                  <p:stCondLst>
                                    <p:cond delay="0"/>
                                  </p:stCondLst>
                                  <p:childTnLst>
                                    <p:set>
                                      <p:cBhvr>
                                        <p:cTn id="29" dur="1" fill="hold">
                                          <p:stCondLst>
                                            <p:cond delay="0"/>
                                          </p:stCondLst>
                                        </p:cTn>
                                        <p:tgtEl>
                                          <p:spTgt spid="1386">
                                            <p:txEl>
                                              <p:pRg st="3" end="3"/>
                                            </p:txEl>
                                          </p:spTgt>
                                        </p:tgtEl>
                                        <p:attrNameLst>
                                          <p:attrName>style.visibility</p:attrName>
                                        </p:attrNameLst>
                                      </p:cBhvr>
                                      <p:to>
                                        <p:strVal val="visible"/>
                                      </p:to>
                                    </p:se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
                                  <p:stCondLst>
                                    <p:cond delay="0"/>
                                  </p:stCondLst>
                                  <p:childTnLst>
                                    <p:set>
                                      <p:cBhvr>
                                        <p:cTn id="33" dur="1" fill="hold">
                                          <p:stCondLst>
                                            <p:cond delay="0"/>
                                          </p:stCondLst>
                                        </p:cTn>
                                        <p:tgtEl>
                                          <p:spTgt spid="138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PlaceHolder 1"/>
          <p:cNvSpPr>
            <a:spLocks noGrp="1"/>
          </p:cNvSpPr>
          <p:nvPr>
            <p:ph type="title"/>
          </p:nvPr>
        </p:nvSpPr>
        <p:spPr>
          <a:xfrm>
            <a:off x="457200" y="242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Video Suggestion</a:t>
            </a:r>
            <a:endParaRPr b="0" lang="en-US" sz="4400" spc="-1" strike="noStrike">
              <a:solidFill>
                <a:srgbClr val="ffffff"/>
              </a:solidFill>
              <a:latin typeface="Calibri"/>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title"/>
          </p:nvPr>
        </p:nvSpPr>
        <p:spPr>
          <a:xfrm>
            <a:off x="3352680" y="120600"/>
            <a:ext cx="5562720" cy="6415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b913"/>
                </a:solidFill>
                <a:latin typeface="Calibri"/>
              </a:rPr>
              <a:t>Funny Commercial: </a:t>
            </a:r>
            <a:br>
              <a:rPr sz="3600"/>
            </a:br>
            <a:r>
              <a:rPr b="0" lang="en-US" sz="3600" spc="-1" strike="noStrike">
                <a:solidFill>
                  <a:srgbClr val="fdb913"/>
                </a:solidFill>
                <a:latin typeface="Calibri"/>
              </a:rPr>
              <a:t>Is the Water Free?</a:t>
            </a:r>
            <a:endParaRPr b="0" lang="en-US" sz="3600" spc="-1" strike="noStrike">
              <a:solidFill>
                <a:srgbClr val="fdb913"/>
              </a:solidFill>
              <a:latin typeface="Calibri"/>
            </a:endParaRPr>
          </a:p>
        </p:txBody>
      </p:sp>
      <p:sp>
        <p:nvSpPr>
          <p:cNvPr id="1389" name="PlaceHolder 2"/>
          <p:cNvSpPr>
            <a:spLocks noGrp="1"/>
          </p:cNvSpPr>
          <p:nvPr>
            <p:ph/>
          </p:nvPr>
        </p:nvSpPr>
        <p:spPr>
          <a:xfrm>
            <a:off x="4273200" y="1709280"/>
            <a:ext cx="4343400" cy="43722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edd"/>
                </a:solidFill>
                <a:latin typeface="Calibri"/>
              </a:rPr>
              <a:t>What other homonyms could cause confusion in business writing? </a:t>
            </a:r>
            <a:endParaRPr b="0" lang="en-US" sz="3200" spc="-1" strike="noStrike">
              <a:solidFill>
                <a:srgbClr val="672f70"/>
              </a:solidFill>
              <a:latin typeface="Calibri"/>
            </a:endParaRPr>
          </a:p>
        </p:txBody>
      </p:sp>
      <p:pic>
        <p:nvPicPr>
          <p:cNvPr id="1390" name="Picture 9" descr="C:\Users\an97\AppData\Local\Microsoft\Windows\Temporary Internet Files\Content.IE5\0CJBNHO6\MP900438618[1].jpg"/>
          <p:cNvPicPr/>
          <p:nvPr/>
        </p:nvPicPr>
        <p:blipFill>
          <a:blip r:embed="rId1"/>
          <a:stretch/>
        </p:blipFill>
        <p:spPr>
          <a:xfrm>
            <a:off x="668160" y="1100160"/>
            <a:ext cx="3178440" cy="498168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title"/>
          </p:nvPr>
        </p:nvSpPr>
        <p:spPr>
          <a:xfrm>
            <a:off x="457200" y="28224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b913"/>
                </a:solidFill>
                <a:latin typeface="Trebuchet MS"/>
              </a:rPr>
              <a:t>Former Basketball Star and Senator Bill Bradley Discusses the Importance of Writing</a:t>
            </a:r>
            <a:endParaRPr b="0" lang="en-US" sz="2800" spc="-1" strike="noStrike">
              <a:solidFill>
                <a:srgbClr val="672f70"/>
              </a:solidFill>
              <a:latin typeface="Calibri"/>
            </a:endParaRPr>
          </a:p>
        </p:txBody>
      </p:sp>
      <p:pic>
        <p:nvPicPr>
          <p:cNvPr id="1259" name="Bradley05_onWriting.wmv" descr=""/>
          <p:cNvPicPr/>
          <p:nvPr/>
        </p:nvPicPr>
        <p:blipFill>
          <a:blip r:embed="rId1"/>
          <a:srcRect l="1465" t="0" r="0" b="6143"/>
          <a:stretch/>
        </p:blipFill>
        <p:spPr>
          <a:xfrm>
            <a:off x="1065240" y="1946160"/>
            <a:ext cx="7013520" cy="4006800"/>
          </a:xfrm>
          <a:prstGeom prst="rect">
            <a:avLst/>
          </a:prstGeom>
          <a:ln w="0">
            <a:noFill/>
          </a:ln>
        </p:spPr>
      </p:pic>
    </p:spTree>
  </p:cSld>
  <p:transition>
    <p:wipe dir="r"/>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35504" fill="hold"/>
                                        <p:tgtEl>
                                          <p:spTgt spid="1259"/>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1259"/>
                    </p:tgtEl>
                  </p:cond>
                </p:stCondLst>
                <p:childTnLst>
                  <p:par>
                    <p:cTn id="8" nodeType="clickEffect" fill="hold">
                      <p:stCondLst>
                        <p:cond evt="onClick">
                          <p:tgtEl>
                            <p:spTgt spid="1259"/>
                          </p:tgtEl>
                        </p:cond>
                      </p:stCondLst>
                      <p:childTnLst>
                        <p:par>
                          <p:cTn id="9" nodeType="withEffect" fill="hold">
                            <p:stCondLst>
                              <p:cond delay="0"/>
                            </p:stCondLst>
                            <p:childTnLst>
                              <p:par>
                                <p:cTn id="10" nodeType="clickEffect" fill="hold" presetClass="mediacall" presetID="2">
                                  <p:stCondLst>
                                    <p:cond delay="0"/>
                                  </p:stCondLst>
                                  <p:childTnLst>
                                    <p:cmd type="call" cmd="togglePause">
                                      <p:cBhvr>
                                        <p:cTn id="11" dur="1" fill="hold"/>
                                        <p:tgtEl>
                                          <p:spTgt spid="12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913"/>
                </a:solidFill>
                <a:latin typeface="Trebuchet MS"/>
              </a:rPr>
              <a:t>The Writing Process</a:t>
            </a:r>
            <a:endParaRPr b="0" lang="en-US" sz="4400" spc="-1" strike="noStrike">
              <a:solidFill>
                <a:srgbClr val="672f70"/>
              </a:solidFill>
              <a:latin typeface="Calibri"/>
            </a:endParaRPr>
          </a:p>
        </p:txBody>
      </p:sp>
      <p:pic>
        <p:nvPicPr>
          <p:cNvPr id="1261" name="Diagram 2" descr=""/>
          <p:cNvPicPr/>
          <p:nvPr/>
        </p:nvPicPr>
        <p:blipFill>
          <a:blip r:embed="rId1"/>
          <a:stretch/>
        </p:blipFill>
        <p:spPr>
          <a:xfrm>
            <a:off x="-6480" y="1395360"/>
            <a:ext cx="9156960" cy="539604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Rectangle 2"/>
          <p:cNvSpPr/>
          <p:nvPr/>
        </p:nvSpPr>
        <p:spPr>
          <a:xfrm rot="18858000">
            <a:off x="2917440" y="2313000"/>
            <a:ext cx="3200400" cy="3200400"/>
          </a:xfrm>
          <a:prstGeom prst="rect">
            <a:avLst/>
          </a:prstGeom>
          <a:solidFill>
            <a:srgbClr val="e1e7f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2f70"/>
              </a:solidFill>
              <a:latin typeface="Arial"/>
            </a:endParaRPr>
          </a:p>
        </p:txBody>
      </p:sp>
      <p:sp>
        <p:nvSpPr>
          <p:cNvPr id="1263" name="Title Placeholder 10"/>
          <p:cNvSpPr/>
          <p:nvPr/>
        </p:nvSpPr>
        <p:spPr>
          <a:xfrm>
            <a:off x="66600" y="228600"/>
            <a:ext cx="89917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he Writing Process</a:t>
            </a:r>
            <a:endParaRPr b="0" lang="en-US" sz="4400" spc="-1" strike="noStrike">
              <a:solidFill>
                <a:srgbClr val="672f70"/>
              </a:solidFill>
              <a:latin typeface="Arial"/>
            </a:endParaRPr>
          </a:p>
        </p:txBody>
      </p:sp>
      <p:pic>
        <p:nvPicPr>
          <p:cNvPr id="1264" name="Diagram 4" descr=""/>
          <p:cNvPicPr/>
          <p:nvPr/>
        </p:nvPicPr>
        <p:blipFill>
          <a:blip r:embed="rId1"/>
          <a:stretch/>
        </p:blipFill>
        <p:spPr>
          <a:xfrm>
            <a:off x="1468440" y="1773360"/>
            <a:ext cx="6121440" cy="406692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5" name="Picture 3" descr="C:\Users\an97\AppData\Local\Microsoft\Windows\Temporary Internet Files\Content.IE5\M3M2R8G0\MP900411843[1].jpg"/>
          <p:cNvPicPr/>
          <p:nvPr/>
        </p:nvPicPr>
        <p:blipFill>
          <a:blip r:embed="rId1"/>
          <a:stretch/>
        </p:blipFill>
        <p:spPr>
          <a:xfrm>
            <a:off x="0" y="-7920"/>
            <a:ext cx="9144000" cy="6094440"/>
          </a:xfrm>
          <a:prstGeom prst="rect">
            <a:avLst/>
          </a:prstGeom>
          <a:ln w="0">
            <a:noFill/>
          </a:ln>
        </p:spPr>
      </p:pic>
      <p:sp>
        <p:nvSpPr>
          <p:cNvPr id="1266" name="Freeform 10"/>
          <p:cNvSpPr/>
          <p:nvPr/>
        </p:nvSpPr>
        <p:spPr>
          <a:xfrm>
            <a:off x="152280" y="152280"/>
            <a:ext cx="8839440" cy="15876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543b27"/>
          </a:solidFill>
          <a:ln w="5076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1267" name="PlaceHolder 1"/>
          <p:cNvSpPr>
            <a:spLocks noGrp="1"/>
          </p:cNvSpPr>
          <p:nvPr>
            <p:ph type="title"/>
          </p:nvPr>
        </p:nvSpPr>
        <p:spPr>
          <a:xfrm>
            <a:off x="457200" y="46800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db913"/>
                </a:solidFill>
                <a:latin typeface="Trebuchet MS"/>
              </a:rPr>
              <a:t>What Is the Value of Analyzing an Audience?</a:t>
            </a:r>
            <a:endParaRPr b="0" lang="en-US" sz="3000" spc="-1" strike="noStrike">
              <a:solidFill>
                <a:srgbClr val="672f70"/>
              </a:solidFill>
              <a:latin typeface="Calibri"/>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b913"/>
                </a:solidFill>
                <a:latin typeface="Trebuchet MS"/>
              </a:rPr>
              <a:t>Remember This About Your Audience</a:t>
            </a:r>
            <a:endParaRPr b="0" lang="en-US" sz="3600" spc="-1" strike="noStrike">
              <a:solidFill>
                <a:srgbClr val="672f70"/>
              </a:solidFill>
              <a:latin typeface="Calibri"/>
            </a:endParaRPr>
          </a:p>
        </p:txBody>
      </p:sp>
      <p:pic>
        <p:nvPicPr>
          <p:cNvPr id="1269" name="Diagram 1" descr=""/>
          <p:cNvPicPr/>
          <p:nvPr/>
        </p:nvPicPr>
        <p:blipFill>
          <a:blip r:embed="rId1"/>
          <a:stretch/>
        </p:blipFill>
        <p:spPr>
          <a:xfrm>
            <a:off x="281160" y="1792440"/>
            <a:ext cx="8777160" cy="436392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0" name="Picture 4" descr="C:\Users\an97\AppData\Local\Microsoft\Windows\Temporary Internet Files\Content.IE5\0CJBNHO6\MP900409017[1].jpg"/>
          <p:cNvPicPr/>
          <p:nvPr/>
        </p:nvPicPr>
        <p:blipFill>
          <a:blip r:embed="rId1"/>
          <a:stretch/>
        </p:blipFill>
        <p:spPr>
          <a:xfrm>
            <a:off x="5811840" y="1028880"/>
            <a:ext cx="3332160" cy="4995720"/>
          </a:xfrm>
          <a:prstGeom prst="rect">
            <a:avLst/>
          </a:prstGeom>
          <a:ln w="0">
            <a:noFill/>
          </a:ln>
          <a:effectLst>
            <a:outerShdw dist="139498" dir="2700000" blurRad="0" rotWithShape="0">
              <a:srgbClr val="333333">
                <a:alpha val="65000"/>
              </a:srgbClr>
            </a:outerShdw>
          </a:effectLst>
        </p:spPr>
      </p:pic>
      <p:sp>
        <p:nvSpPr>
          <p:cNvPr id="1271" name="PlaceHolder 1"/>
          <p:cNvSpPr>
            <a:spLocks noGrp="1"/>
          </p:cNvSpPr>
          <p:nvPr>
            <p:ph type="title"/>
          </p:nvPr>
        </p:nvSpPr>
        <p:spPr>
          <a:xfrm>
            <a:off x="228240" y="228240"/>
            <a:ext cx="8534520" cy="585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Example: Changing Housekeepers’ Hours</a:t>
            </a:r>
            <a:endParaRPr b="0" lang="en-US" sz="3600" spc="-1" strike="noStrike">
              <a:solidFill>
                <a:srgbClr val="ffffff"/>
              </a:solidFill>
              <a:latin typeface="Trebuchet MS"/>
            </a:endParaRPr>
          </a:p>
        </p:txBody>
      </p:sp>
      <p:pic>
        <p:nvPicPr>
          <p:cNvPr id="1272" name="Content Placeholder 1" descr=""/>
          <p:cNvPicPr/>
          <p:nvPr/>
        </p:nvPicPr>
        <p:blipFill>
          <a:blip r:embed="rId2"/>
          <a:stretch/>
        </p:blipFill>
        <p:spPr>
          <a:xfrm>
            <a:off x="304920" y="1316160"/>
            <a:ext cx="6046560" cy="463392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9T16:23:23Z</dcterms:created>
  <dc:creator/>
  <dc:description/>
  <dc:language>en-US</dc:language>
  <cp:lastModifiedBy/>
  <dcterms:modified xsi:type="dcterms:W3CDTF">2013-08-16T21:57:01Z</dcterms:modified>
  <cp:revision>1</cp:revision>
  <dc:subject/>
  <dc:title/>
</cp:coreProperties>
</file>