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745800"/>
            <a:ext cx="8001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45800"/>
            <a:ext cx="3904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3745800"/>
            <a:ext cx="3904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745800"/>
            <a:ext cx="257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3745800"/>
            <a:ext cx="257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3745800"/>
            <a:ext cx="257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745800"/>
            <a:ext cx="3904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3745800"/>
            <a:ext cx="3904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745800"/>
            <a:ext cx="8001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slide image 5"/>
          <p:cNvPicPr/>
          <p:nvPr/>
        </p:nvPicPr>
        <p:blipFill>
          <a:blip r:embed="rId2"/>
          <a:srcRect l="23728" t="0" r="989" b="1390"/>
          <a:stretch/>
        </p:blipFill>
        <p:spPr>
          <a:xfrm>
            <a:off x="685800" y="6210360"/>
            <a:ext cx="8458200" cy="64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slide image 3"/>
          <p:cNvPicPr/>
          <p:nvPr/>
        </p:nvPicPr>
        <p:blipFill>
          <a:blip r:embed="rId3"/>
          <a:stretch/>
        </p:blipFill>
        <p:spPr>
          <a:xfrm>
            <a:off x="0" y="0"/>
            <a:ext cx="6951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15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a15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a153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876920" y="6324120"/>
            <a:ext cx="4038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153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3"/>
          <p:cNvSpPr/>
          <p:nvPr/>
        </p:nvSpPr>
        <p:spPr>
          <a:xfrm>
            <a:off x="4876920" y="63244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P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roposal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E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ssentials</a:t>
            </a:r>
            <a:endParaRPr b="0" lang="en-US" sz="36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Compelling proposals </a:t>
            </a:r>
            <a:r>
              <a:rPr b="1" lang="en-US" sz="2400" spc="-1" strike="noStrike">
                <a:solidFill>
                  <a:srgbClr val="0a1535"/>
                </a:solidFill>
                <a:latin typeface="Arial"/>
              </a:rPr>
              <a:t>help progress a career</a:t>
            </a:r>
            <a:br>
              <a:rPr sz="2400"/>
            </a:br>
            <a:r>
              <a:rPr b="1" lang="en-US" sz="2400" spc="-1" strike="noStrike">
                <a:solidFill>
                  <a:srgbClr val="0a153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1535"/>
                </a:solidFill>
                <a:latin typeface="Arial"/>
              </a:rPr>
              <a:t>Recognize opportunities 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15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Keep an open mind 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15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Ask questions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15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These will give you </a:t>
            </a:r>
            <a:r>
              <a:rPr b="1" lang="en-US" sz="2400" spc="-1" strike="noStrike">
                <a:solidFill>
                  <a:srgbClr val="0a1535"/>
                </a:solidFill>
                <a:latin typeface="Arial"/>
              </a:rPr>
              <a:t>stories</a:t>
            </a: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 to tell in an interview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4876920" y="63244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P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roposal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S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tructure</a:t>
            </a:r>
            <a:endParaRPr b="0" lang="en-US" sz="36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Methods and Procedures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a1535"/>
                </a:solidFill>
                <a:uFillTx/>
                <a:latin typeface="Arial"/>
              </a:rPr>
              <a:t>Describes</a:t>
            </a: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 what must be done to complete project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Includes information about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a153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Personnel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a153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Equipment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a153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Materials and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a153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Other relevant factors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15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Detailed Work Plan and Schedule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Required if project must be completed in designated time frame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4876920" y="63244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P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roposal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S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tructure</a:t>
            </a:r>
            <a:endParaRPr b="0" lang="en-US" sz="36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a15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Qualifications of Company or Individual</a:t>
            </a: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Describe qualifications and background of key players in project</a:t>
            </a:r>
            <a:br>
              <a:rPr sz="2400"/>
            </a:b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15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Projected Costs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Present cost information clearly and succinctly</a:t>
            </a:r>
            <a:br>
              <a:rPr sz="2400"/>
            </a:b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15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Summarize proposal rationale and stress benefits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4876920" y="63244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P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roposal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S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tructure</a:t>
            </a:r>
            <a:endParaRPr b="0" lang="en-US" sz="36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Other Components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Appendix or appendices 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a153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Content too detailed to be included in proposal body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4876920" y="63244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P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roposal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E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ssentials</a:t>
            </a:r>
            <a:endParaRPr b="0" lang="en-US" sz="36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752480" y="579132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8-6 Table of Contents for the playground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726240" cy="487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P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roposal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F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ormat</a:t>
            </a:r>
            <a:endParaRPr b="0" lang="en-US" sz="36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44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a15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Proposals consist of multiple pages </a:t>
            </a:r>
            <a:br>
              <a:rPr sz="2400"/>
            </a:b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15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Format pages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Clearly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Attractively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Consistently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4876920" y="63244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P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roposal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F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orma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4876920" y="63244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392200" y="5791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8-7 Guidelines for formatting a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7110360" cy="480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P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roposal </a:t>
            </a: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F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ormat</a:t>
            </a:r>
            <a:endParaRPr b="0" lang="en-US" sz="44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4876920" y="63244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57150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8-8 Pages 1 and 6 of the sample propos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3800520" cy="491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5181480" y="1066680"/>
            <a:ext cx="2911680" cy="4523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6705720" y="1371600"/>
            <a:ext cx="2095560" cy="749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4"/>
          <a:stretch/>
        </p:blipFill>
        <p:spPr>
          <a:xfrm>
            <a:off x="6858000" y="3124080"/>
            <a:ext cx="2044800" cy="36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5"/>
          <a:stretch/>
        </p:blipFill>
        <p:spPr>
          <a:xfrm>
            <a:off x="2895480" y="4724280"/>
            <a:ext cx="114300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6"/>
          <a:stretch/>
        </p:blipFill>
        <p:spPr>
          <a:xfrm>
            <a:off x="838080" y="1752480"/>
            <a:ext cx="1105200" cy="76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oter Placeholder 3"/>
          <p:cNvSpPr/>
          <p:nvPr/>
        </p:nvSpPr>
        <p:spPr>
          <a:xfrm>
            <a:off x="4876920" y="63244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P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roposal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E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ssentials</a:t>
            </a:r>
            <a:endParaRPr b="0" lang="en-US" sz="36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293640" y="510552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8-2 Proposal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613640" cy="381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4876920" y="63244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P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roposal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C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ontent</a:t>
            </a:r>
            <a:endParaRPr b="0" lang="en-US" sz="36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Ultimate purpose: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Win the contract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Obtain funding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Get the job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Get decision makers interested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Others</a:t>
            </a:r>
            <a:br>
              <a:rPr sz="2400"/>
            </a:b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Everything written should reflect purpose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Present information to persuade reader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4876920" y="63244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P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roposal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E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ssentials</a:t>
            </a:r>
            <a:endParaRPr b="0" lang="en-US" sz="36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466000" y="556272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8-3 Identifying content for a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7023240" cy="440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4876920" y="63244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P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roposal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E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ssentials</a:t>
            </a:r>
            <a:endParaRPr b="0" lang="en-US" sz="36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166480" y="43434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8-3 Identifying content for a proposal (cont’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515000" cy="183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4876920" y="63244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P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roposal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S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tructure</a:t>
            </a:r>
            <a:endParaRPr b="0" lang="en-US" sz="36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Description of Need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Scope of the Project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Methods and Procedures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Detailed Work Plan and Schedule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Qualifications of the Company or Individual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Projected Costs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Other Components (such as Appendices)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4876920" y="63244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P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roposal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S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tructure</a:t>
            </a:r>
            <a:endParaRPr b="0" lang="en-US" sz="36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Describe purpose of proposed project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Identify major topics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5639040" cy="2270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2311200" y="550548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8-4 Introduction to playground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206720" cy="723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3"/>
          <a:stretch/>
        </p:blipFill>
        <p:spPr>
          <a:xfrm>
            <a:off x="7467480" y="4419720"/>
            <a:ext cx="1206720" cy="71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4"/>
          <a:stretch/>
        </p:blipFill>
        <p:spPr>
          <a:xfrm>
            <a:off x="1066680" y="3429000"/>
            <a:ext cx="95256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5"/>
          <a:stretch/>
        </p:blipFill>
        <p:spPr>
          <a:xfrm>
            <a:off x="990720" y="4419720"/>
            <a:ext cx="1143000" cy="90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4876920" y="63244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P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roposal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S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tructure</a:t>
            </a:r>
            <a:endParaRPr b="0" lang="en-US" sz="36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Description of Need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Background information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153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1535"/>
                </a:solidFill>
                <a:latin typeface="Arial"/>
              </a:rPr>
              <a:t>Reader must have to understand need for proposed project</a:t>
            </a:r>
            <a:endParaRPr b="0" lang="en-US" sz="2400" spc="-1" strike="noStrike">
              <a:solidFill>
                <a:srgbClr val="0a1535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4876920" y="63244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1535"/>
                </a:solidFill>
                <a:latin typeface="Arial"/>
              </a:rPr>
              <a:t>Projec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P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roposal</a:t>
            </a:r>
            <a:r>
              <a:rPr b="0" lang="en-US" sz="4400" spc="-1" strike="noStrike">
                <a:solidFill>
                  <a:srgbClr val="0a153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a1535"/>
                </a:solidFill>
                <a:latin typeface="Century Gothic"/>
              </a:rPr>
              <a:t>S</a:t>
            </a:r>
            <a:r>
              <a:rPr b="0" lang="en-US" sz="3600" spc="-1" strike="noStrike">
                <a:solidFill>
                  <a:srgbClr val="0a1535"/>
                </a:solidFill>
                <a:latin typeface="Century Gothic"/>
              </a:rPr>
              <a:t>tructure</a:t>
            </a:r>
            <a:endParaRPr b="0" lang="en-US" sz="3600" spc="-1" strike="noStrike">
              <a:solidFill>
                <a:srgbClr val="0a1535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914400" y="5334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8-5 Sample Scope of the Project section for the playground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753240" cy="3886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965160" cy="571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3"/>
          <a:stretch/>
        </p:blipFill>
        <p:spPr>
          <a:xfrm>
            <a:off x="838080" y="2819520"/>
            <a:ext cx="965160" cy="901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7620120" y="3733920"/>
            <a:ext cx="901440" cy="54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03:14Z</dcterms:created>
  <dc:creator>Cornilsen, Mary(Diane)</dc:creator>
  <dc:description/>
  <dc:language>en-US</dc:language>
  <cp:lastModifiedBy>dcornilsen</cp:lastModifiedBy>
  <dcterms:modified xsi:type="dcterms:W3CDTF">2010-10-25T17:56:28Z</dcterms:modified>
  <cp:revision>45</cp:revision>
  <dc:subject/>
  <dc:title>Chapter 8</dc:title>
</cp:coreProperties>
</file>